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85164-2036-4D63-8D3F-89478A4C2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C7DE4-9494-45FE-9933-7A31388C0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F7678-9CB3-4C12-B42E-FC96FA2D3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30A8B-F684-481A-9AFA-20FA4950D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0335E-4E5F-45A3-B6CE-3334E324E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E8864-682E-48D0-B806-07C02243E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D0325-4C41-4F5D-A519-81E76F22C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CACCF-9EA8-412B-A104-34B560D56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583AD-7F06-45BB-83BA-292A56317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8DEF1-E697-4F54-9E62-DFE3357D7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38D04-AA62-4C74-9DFB-89D781C26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3FB37-168E-472E-9F98-2F8F2ACD2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F4227-F4B4-4CC5-89D1-25106EEA3E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2280" y="2805120"/>
            <a:ext cx="121932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371600" y="326232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362320" y="2728800"/>
            <a:ext cx="175248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 &amp; 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ail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flipV="1">
            <a:off x="1752480" y="3262320"/>
            <a:ext cx="0" cy="1233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04920" y="4495680"/>
            <a:ext cx="34290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surface delivery of 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l microbial N transform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114800" y="326232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029200" y="2805120"/>
            <a:ext cx="121932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1905120"/>
            <a:ext cx="3581280" cy="519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nt physiological response (N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495680" y="242424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248520" y="326232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162920" y="2805120"/>
            <a:ext cx="18288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dator-Pr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724280" y="4267080"/>
            <a:ext cx="41148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bitat Complexity, cover from predat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utritional quality, N and 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 co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ssication Str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6629400" y="326232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0T23:34:03Z</dcterms:created>
  <dc:creator>John Schade</dc:creator>
  <dc:description/>
  <dc:language>en-US</dc:language>
  <cp:lastModifiedBy>John Schade</cp:lastModifiedBy>
  <dcterms:modified xsi:type="dcterms:W3CDTF">2003-10-21T00:27:10Z</dcterms:modified>
  <cp:revision>2</cp:revision>
  <dc:subject/>
  <dc:title>PowerPoint Presentation</dc:title>
</cp:coreProperties>
</file>