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2764-07A2-468E-90B7-F9D5A8A7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5842-21B7-40D3-9953-46F47771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EEBE-6A89-452F-B458-F8D6A620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815-2791-4CEB-9352-3441BA93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ABE-4095-4779-A8C1-1E13FB48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E37E-E305-47B2-BEC1-8742210D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2C1-2F60-4E10-8D3B-FE713726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B1FD-A2E8-41CE-B08C-CB1340E1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C11-9EA8-48F3-A7C3-133C5B61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0AF-6989-482D-9E47-ECAB8A77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BB6-22FD-4E80-8901-626144EF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1E4-DCD1-47CF-B936-1B4275F8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4A0B-4B5B-4FEB-8B3B-C83A37434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6696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171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71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124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0764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764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009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09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43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43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1718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718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664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06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86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6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666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00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00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905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05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9811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11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114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14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162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62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209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9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2097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97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046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38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524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24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7051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051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838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38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943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43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019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19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095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95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52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52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210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10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460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4600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616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616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7616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66960" y="1762200"/>
            <a:ext cx="2219400" cy="1143000"/>
          </a:xfrm>
          <a:custGeom>
            <a:avLst/>
            <a:gdLst/>
            <a:ahLst/>
            <a:rect l="l" t="t" r="r" b="b"/>
            <a:pathLst>
              <a:path w="1398" h="720">
                <a:moveTo>
                  <a:pt x="0" y="720"/>
                </a:moveTo>
                <a:lnTo>
                  <a:pt x="192" y="696"/>
                </a:lnTo>
                <a:lnTo>
                  <a:pt x="312" y="690"/>
                </a:lnTo>
                <a:lnTo>
                  <a:pt x="390" y="684"/>
                </a:lnTo>
                <a:lnTo>
                  <a:pt x="456" y="684"/>
                </a:lnTo>
                <a:lnTo>
                  <a:pt x="504" y="684"/>
                </a:lnTo>
                <a:lnTo>
                  <a:pt x="552" y="678"/>
                </a:lnTo>
                <a:lnTo>
                  <a:pt x="588" y="678"/>
                </a:lnTo>
                <a:lnTo>
                  <a:pt x="624" y="672"/>
                </a:lnTo>
                <a:lnTo>
                  <a:pt x="654" y="672"/>
                </a:lnTo>
                <a:lnTo>
                  <a:pt x="678" y="672"/>
                </a:lnTo>
                <a:lnTo>
                  <a:pt x="702" y="666"/>
                </a:lnTo>
                <a:lnTo>
                  <a:pt x="726" y="666"/>
                </a:lnTo>
                <a:lnTo>
                  <a:pt x="750" y="660"/>
                </a:lnTo>
                <a:lnTo>
                  <a:pt x="768" y="660"/>
                </a:lnTo>
                <a:lnTo>
                  <a:pt x="786" y="654"/>
                </a:lnTo>
                <a:lnTo>
                  <a:pt x="804" y="654"/>
                </a:lnTo>
                <a:lnTo>
                  <a:pt x="816" y="648"/>
                </a:lnTo>
                <a:lnTo>
                  <a:pt x="834" y="648"/>
                </a:lnTo>
                <a:lnTo>
                  <a:pt x="846" y="648"/>
                </a:lnTo>
                <a:lnTo>
                  <a:pt x="864" y="642"/>
                </a:lnTo>
                <a:lnTo>
                  <a:pt x="876" y="642"/>
                </a:lnTo>
                <a:lnTo>
                  <a:pt x="888" y="636"/>
                </a:lnTo>
                <a:lnTo>
                  <a:pt x="900" y="636"/>
                </a:lnTo>
                <a:lnTo>
                  <a:pt x="912" y="630"/>
                </a:lnTo>
                <a:lnTo>
                  <a:pt x="924" y="630"/>
                </a:lnTo>
                <a:lnTo>
                  <a:pt x="936" y="624"/>
                </a:lnTo>
                <a:lnTo>
                  <a:pt x="942" y="624"/>
                </a:lnTo>
                <a:lnTo>
                  <a:pt x="954" y="618"/>
                </a:lnTo>
                <a:lnTo>
                  <a:pt x="966" y="612"/>
                </a:lnTo>
                <a:lnTo>
                  <a:pt x="972" y="612"/>
                </a:lnTo>
                <a:lnTo>
                  <a:pt x="984" y="606"/>
                </a:lnTo>
                <a:lnTo>
                  <a:pt x="990" y="606"/>
                </a:lnTo>
                <a:lnTo>
                  <a:pt x="1002" y="600"/>
                </a:lnTo>
                <a:lnTo>
                  <a:pt x="1008" y="594"/>
                </a:lnTo>
                <a:lnTo>
                  <a:pt x="1014" y="594"/>
                </a:lnTo>
                <a:lnTo>
                  <a:pt x="1026" y="588"/>
                </a:lnTo>
                <a:lnTo>
                  <a:pt x="1032" y="582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62" y="570"/>
                </a:lnTo>
                <a:lnTo>
                  <a:pt x="1068" y="564"/>
                </a:lnTo>
                <a:lnTo>
                  <a:pt x="1074" y="558"/>
                </a:lnTo>
                <a:lnTo>
                  <a:pt x="1080" y="552"/>
                </a:lnTo>
                <a:lnTo>
                  <a:pt x="1086" y="552"/>
                </a:lnTo>
                <a:lnTo>
                  <a:pt x="1092" y="546"/>
                </a:lnTo>
                <a:lnTo>
                  <a:pt x="1098" y="540"/>
                </a:lnTo>
                <a:lnTo>
                  <a:pt x="1104" y="534"/>
                </a:lnTo>
                <a:lnTo>
                  <a:pt x="1110" y="528"/>
                </a:lnTo>
                <a:lnTo>
                  <a:pt x="1116" y="528"/>
                </a:lnTo>
                <a:lnTo>
                  <a:pt x="1122" y="522"/>
                </a:lnTo>
                <a:lnTo>
                  <a:pt x="1128" y="510"/>
                </a:lnTo>
                <a:lnTo>
                  <a:pt x="1134" y="504"/>
                </a:lnTo>
                <a:lnTo>
                  <a:pt x="1140" y="498"/>
                </a:lnTo>
                <a:lnTo>
                  <a:pt x="1146" y="492"/>
                </a:lnTo>
                <a:lnTo>
                  <a:pt x="1152" y="486"/>
                </a:lnTo>
                <a:lnTo>
                  <a:pt x="1158" y="480"/>
                </a:lnTo>
                <a:lnTo>
                  <a:pt x="1158" y="474"/>
                </a:lnTo>
                <a:lnTo>
                  <a:pt x="1170" y="468"/>
                </a:lnTo>
                <a:lnTo>
                  <a:pt x="1176" y="456"/>
                </a:lnTo>
                <a:lnTo>
                  <a:pt x="1182" y="450"/>
                </a:lnTo>
                <a:lnTo>
                  <a:pt x="1182" y="444"/>
                </a:lnTo>
                <a:lnTo>
                  <a:pt x="1188" y="438"/>
                </a:lnTo>
                <a:lnTo>
                  <a:pt x="1194" y="432"/>
                </a:lnTo>
                <a:lnTo>
                  <a:pt x="1194" y="426"/>
                </a:lnTo>
                <a:lnTo>
                  <a:pt x="1200" y="420"/>
                </a:lnTo>
                <a:lnTo>
                  <a:pt x="1206" y="414"/>
                </a:lnTo>
                <a:lnTo>
                  <a:pt x="1206" y="408"/>
                </a:lnTo>
                <a:lnTo>
                  <a:pt x="1212" y="402"/>
                </a:lnTo>
                <a:lnTo>
                  <a:pt x="1218" y="396"/>
                </a:lnTo>
                <a:lnTo>
                  <a:pt x="1218" y="390"/>
                </a:lnTo>
                <a:lnTo>
                  <a:pt x="1224" y="384"/>
                </a:lnTo>
                <a:lnTo>
                  <a:pt x="1230" y="372"/>
                </a:lnTo>
                <a:lnTo>
                  <a:pt x="1230" y="366"/>
                </a:lnTo>
                <a:lnTo>
                  <a:pt x="1236" y="360"/>
                </a:lnTo>
                <a:lnTo>
                  <a:pt x="1236" y="354"/>
                </a:lnTo>
                <a:lnTo>
                  <a:pt x="1242" y="348"/>
                </a:lnTo>
                <a:lnTo>
                  <a:pt x="1248" y="342"/>
                </a:lnTo>
                <a:lnTo>
                  <a:pt x="1248" y="330"/>
                </a:lnTo>
                <a:lnTo>
                  <a:pt x="1254" y="324"/>
                </a:lnTo>
                <a:lnTo>
                  <a:pt x="1254" y="318"/>
                </a:lnTo>
                <a:lnTo>
                  <a:pt x="1260" y="312"/>
                </a:lnTo>
                <a:lnTo>
                  <a:pt x="1266" y="306"/>
                </a:lnTo>
                <a:lnTo>
                  <a:pt x="1266" y="294"/>
                </a:lnTo>
                <a:lnTo>
                  <a:pt x="1272" y="288"/>
                </a:lnTo>
                <a:lnTo>
                  <a:pt x="1272" y="282"/>
                </a:lnTo>
                <a:lnTo>
                  <a:pt x="1278" y="276"/>
                </a:lnTo>
                <a:lnTo>
                  <a:pt x="1278" y="270"/>
                </a:lnTo>
                <a:lnTo>
                  <a:pt x="1284" y="258"/>
                </a:lnTo>
                <a:lnTo>
                  <a:pt x="1284" y="252"/>
                </a:lnTo>
                <a:lnTo>
                  <a:pt x="1290" y="246"/>
                </a:lnTo>
                <a:lnTo>
                  <a:pt x="1290" y="240"/>
                </a:lnTo>
                <a:lnTo>
                  <a:pt x="1296" y="234"/>
                </a:lnTo>
                <a:lnTo>
                  <a:pt x="1296" y="228"/>
                </a:lnTo>
                <a:lnTo>
                  <a:pt x="1302" y="216"/>
                </a:lnTo>
                <a:lnTo>
                  <a:pt x="1302" y="210"/>
                </a:lnTo>
                <a:lnTo>
                  <a:pt x="1308" y="204"/>
                </a:lnTo>
                <a:lnTo>
                  <a:pt x="1308" y="198"/>
                </a:lnTo>
                <a:lnTo>
                  <a:pt x="1314" y="192"/>
                </a:lnTo>
                <a:lnTo>
                  <a:pt x="1314" y="186"/>
                </a:lnTo>
                <a:lnTo>
                  <a:pt x="1320" y="180"/>
                </a:lnTo>
                <a:lnTo>
                  <a:pt x="1320" y="168"/>
                </a:lnTo>
                <a:lnTo>
                  <a:pt x="1326" y="162"/>
                </a:lnTo>
                <a:lnTo>
                  <a:pt x="1326" y="156"/>
                </a:lnTo>
                <a:lnTo>
                  <a:pt x="1332" y="150"/>
                </a:lnTo>
                <a:lnTo>
                  <a:pt x="1332" y="144"/>
                </a:lnTo>
                <a:lnTo>
                  <a:pt x="1338" y="138"/>
                </a:lnTo>
                <a:lnTo>
                  <a:pt x="1338" y="126"/>
                </a:lnTo>
                <a:lnTo>
                  <a:pt x="1344" y="120"/>
                </a:lnTo>
                <a:lnTo>
                  <a:pt x="1344" y="114"/>
                </a:lnTo>
                <a:lnTo>
                  <a:pt x="1350" y="108"/>
                </a:lnTo>
                <a:lnTo>
                  <a:pt x="1350" y="102"/>
                </a:lnTo>
                <a:lnTo>
                  <a:pt x="1356" y="96"/>
                </a:lnTo>
                <a:lnTo>
                  <a:pt x="1356" y="84"/>
                </a:lnTo>
                <a:lnTo>
                  <a:pt x="1362" y="78"/>
                </a:lnTo>
                <a:lnTo>
                  <a:pt x="1362" y="72"/>
                </a:lnTo>
                <a:lnTo>
                  <a:pt x="1368" y="66"/>
                </a:lnTo>
                <a:lnTo>
                  <a:pt x="1368" y="60"/>
                </a:lnTo>
                <a:lnTo>
                  <a:pt x="1374" y="54"/>
                </a:lnTo>
                <a:lnTo>
                  <a:pt x="1374" y="48"/>
                </a:lnTo>
                <a:lnTo>
                  <a:pt x="1380" y="42"/>
                </a:lnTo>
                <a:lnTo>
                  <a:pt x="1380" y="30"/>
                </a:lnTo>
                <a:lnTo>
                  <a:pt x="1386" y="24"/>
                </a:lnTo>
                <a:lnTo>
                  <a:pt x="1392" y="18"/>
                </a:lnTo>
                <a:lnTo>
                  <a:pt x="1392" y="12"/>
                </a:lnTo>
                <a:lnTo>
                  <a:pt x="1398" y="6"/>
                </a:lnTo>
                <a:lnTo>
                  <a:pt x="139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6360" y="1542960"/>
            <a:ext cx="171360" cy="219240"/>
          </a:xfrm>
          <a:custGeom>
            <a:avLst/>
            <a:gdLst/>
            <a:ahLst/>
            <a:rect l="l" t="t" r="r" b="b"/>
            <a:pathLst>
              <a:path w="108" h="138">
                <a:moveTo>
                  <a:pt x="0" y="138"/>
                </a:moveTo>
                <a:lnTo>
                  <a:pt x="12" y="126"/>
                </a:lnTo>
                <a:lnTo>
                  <a:pt x="12" y="114"/>
                </a:lnTo>
                <a:lnTo>
                  <a:pt x="18" y="108"/>
                </a:lnTo>
                <a:lnTo>
                  <a:pt x="24" y="102"/>
                </a:lnTo>
                <a:lnTo>
                  <a:pt x="24" y="96"/>
                </a:lnTo>
                <a:lnTo>
                  <a:pt x="36" y="84"/>
                </a:lnTo>
                <a:lnTo>
                  <a:pt x="36" y="78"/>
                </a:lnTo>
                <a:lnTo>
                  <a:pt x="42" y="72"/>
                </a:lnTo>
                <a:lnTo>
                  <a:pt x="54" y="60"/>
                </a:lnTo>
                <a:lnTo>
                  <a:pt x="54" y="54"/>
                </a:lnTo>
                <a:lnTo>
                  <a:pt x="60" y="48"/>
                </a:lnTo>
                <a:lnTo>
                  <a:pt x="72" y="36"/>
                </a:lnTo>
                <a:lnTo>
                  <a:pt x="72" y="30"/>
                </a:lnTo>
                <a:lnTo>
                  <a:pt x="78" y="24"/>
                </a:lnTo>
                <a:lnTo>
                  <a:pt x="84" y="18"/>
                </a:lnTo>
                <a:lnTo>
                  <a:pt x="90" y="12"/>
                </a:lnTo>
                <a:lnTo>
                  <a:pt x="96" y="6"/>
                </a:lnTo>
                <a:lnTo>
                  <a:pt x="102" y="0"/>
                </a:lnTo>
                <a:lnTo>
                  <a:pt x="1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66960" y="1523880"/>
            <a:ext cx="2276280" cy="1390680"/>
          </a:xfrm>
          <a:custGeom>
            <a:avLst/>
            <a:gdLst/>
            <a:ahLst/>
            <a:rect l="l" t="t" r="r" b="b"/>
            <a:pathLst>
              <a:path w="1434" h="876">
                <a:moveTo>
                  <a:pt x="0" y="876"/>
                </a:moveTo>
                <a:lnTo>
                  <a:pt x="192" y="870"/>
                </a:lnTo>
                <a:lnTo>
                  <a:pt x="312" y="870"/>
                </a:lnTo>
                <a:lnTo>
                  <a:pt x="390" y="864"/>
                </a:lnTo>
                <a:lnTo>
                  <a:pt x="456" y="864"/>
                </a:lnTo>
                <a:lnTo>
                  <a:pt x="504" y="864"/>
                </a:lnTo>
                <a:lnTo>
                  <a:pt x="552" y="864"/>
                </a:lnTo>
                <a:lnTo>
                  <a:pt x="588" y="858"/>
                </a:lnTo>
                <a:lnTo>
                  <a:pt x="624" y="858"/>
                </a:lnTo>
                <a:lnTo>
                  <a:pt x="654" y="858"/>
                </a:lnTo>
                <a:lnTo>
                  <a:pt x="678" y="852"/>
                </a:lnTo>
                <a:lnTo>
                  <a:pt x="702" y="852"/>
                </a:lnTo>
                <a:lnTo>
                  <a:pt x="726" y="846"/>
                </a:lnTo>
                <a:lnTo>
                  <a:pt x="750" y="846"/>
                </a:lnTo>
                <a:lnTo>
                  <a:pt x="768" y="846"/>
                </a:lnTo>
                <a:lnTo>
                  <a:pt x="786" y="840"/>
                </a:lnTo>
                <a:lnTo>
                  <a:pt x="804" y="840"/>
                </a:lnTo>
                <a:lnTo>
                  <a:pt x="816" y="834"/>
                </a:lnTo>
                <a:lnTo>
                  <a:pt x="834" y="834"/>
                </a:lnTo>
                <a:lnTo>
                  <a:pt x="846" y="828"/>
                </a:lnTo>
                <a:lnTo>
                  <a:pt x="864" y="828"/>
                </a:lnTo>
                <a:lnTo>
                  <a:pt x="876" y="822"/>
                </a:lnTo>
                <a:lnTo>
                  <a:pt x="888" y="822"/>
                </a:lnTo>
                <a:lnTo>
                  <a:pt x="900" y="816"/>
                </a:lnTo>
                <a:lnTo>
                  <a:pt x="912" y="816"/>
                </a:lnTo>
                <a:lnTo>
                  <a:pt x="924" y="810"/>
                </a:lnTo>
                <a:lnTo>
                  <a:pt x="936" y="810"/>
                </a:lnTo>
                <a:lnTo>
                  <a:pt x="942" y="804"/>
                </a:lnTo>
                <a:lnTo>
                  <a:pt x="954" y="804"/>
                </a:lnTo>
                <a:lnTo>
                  <a:pt x="966" y="798"/>
                </a:lnTo>
                <a:lnTo>
                  <a:pt x="972" y="798"/>
                </a:lnTo>
                <a:lnTo>
                  <a:pt x="984" y="792"/>
                </a:lnTo>
                <a:lnTo>
                  <a:pt x="990" y="786"/>
                </a:lnTo>
                <a:lnTo>
                  <a:pt x="1002" y="786"/>
                </a:lnTo>
                <a:lnTo>
                  <a:pt x="1008" y="780"/>
                </a:lnTo>
                <a:lnTo>
                  <a:pt x="1014" y="774"/>
                </a:lnTo>
                <a:lnTo>
                  <a:pt x="1026" y="768"/>
                </a:lnTo>
                <a:lnTo>
                  <a:pt x="1032" y="768"/>
                </a:lnTo>
                <a:lnTo>
                  <a:pt x="1038" y="762"/>
                </a:lnTo>
                <a:lnTo>
                  <a:pt x="1044" y="756"/>
                </a:lnTo>
                <a:lnTo>
                  <a:pt x="1050" y="750"/>
                </a:lnTo>
                <a:lnTo>
                  <a:pt x="1062" y="744"/>
                </a:lnTo>
                <a:lnTo>
                  <a:pt x="1068" y="738"/>
                </a:lnTo>
                <a:lnTo>
                  <a:pt x="1074" y="738"/>
                </a:lnTo>
                <a:lnTo>
                  <a:pt x="1080" y="732"/>
                </a:lnTo>
                <a:lnTo>
                  <a:pt x="1086" y="726"/>
                </a:lnTo>
                <a:lnTo>
                  <a:pt x="1092" y="720"/>
                </a:lnTo>
                <a:lnTo>
                  <a:pt x="1098" y="714"/>
                </a:lnTo>
                <a:lnTo>
                  <a:pt x="1104" y="708"/>
                </a:lnTo>
                <a:lnTo>
                  <a:pt x="1110" y="702"/>
                </a:lnTo>
                <a:lnTo>
                  <a:pt x="1116" y="696"/>
                </a:lnTo>
                <a:lnTo>
                  <a:pt x="1122" y="690"/>
                </a:lnTo>
                <a:lnTo>
                  <a:pt x="1128" y="678"/>
                </a:lnTo>
                <a:lnTo>
                  <a:pt x="1134" y="666"/>
                </a:lnTo>
                <a:lnTo>
                  <a:pt x="1140" y="660"/>
                </a:lnTo>
                <a:lnTo>
                  <a:pt x="1146" y="654"/>
                </a:lnTo>
                <a:lnTo>
                  <a:pt x="1152" y="648"/>
                </a:lnTo>
                <a:lnTo>
                  <a:pt x="1158" y="642"/>
                </a:lnTo>
                <a:lnTo>
                  <a:pt x="1158" y="630"/>
                </a:lnTo>
                <a:lnTo>
                  <a:pt x="1164" y="624"/>
                </a:lnTo>
                <a:lnTo>
                  <a:pt x="1170" y="618"/>
                </a:lnTo>
                <a:lnTo>
                  <a:pt x="1176" y="606"/>
                </a:lnTo>
                <a:lnTo>
                  <a:pt x="1182" y="600"/>
                </a:lnTo>
                <a:lnTo>
                  <a:pt x="1182" y="588"/>
                </a:lnTo>
                <a:lnTo>
                  <a:pt x="1188" y="582"/>
                </a:lnTo>
                <a:lnTo>
                  <a:pt x="1194" y="570"/>
                </a:lnTo>
                <a:lnTo>
                  <a:pt x="1194" y="564"/>
                </a:lnTo>
                <a:lnTo>
                  <a:pt x="1200" y="552"/>
                </a:lnTo>
                <a:lnTo>
                  <a:pt x="1206" y="546"/>
                </a:lnTo>
                <a:lnTo>
                  <a:pt x="1206" y="534"/>
                </a:lnTo>
                <a:lnTo>
                  <a:pt x="1212" y="522"/>
                </a:lnTo>
                <a:lnTo>
                  <a:pt x="1218" y="516"/>
                </a:lnTo>
                <a:lnTo>
                  <a:pt x="1218" y="504"/>
                </a:lnTo>
                <a:lnTo>
                  <a:pt x="1224" y="492"/>
                </a:lnTo>
                <a:lnTo>
                  <a:pt x="1230" y="480"/>
                </a:lnTo>
                <a:lnTo>
                  <a:pt x="1230" y="468"/>
                </a:lnTo>
                <a:lnTo>
                  <a:pt x="1236" y="456"/>
                </a:lnTo>
                <a:lnTo>
                  <a:pt x="1236" y="450"/>
                </a:lnTo>
                <a:lnTo>
                  <a:pt x="1242" y="438"/>
                </a:lnTo>
                <a:lnTo>
                  <a:pt x="1248" y="426"/>
                </a:lnTo>
                <a:lnTo>
                  <a:pt x="1248" y="414"/>
                </a:lnTo>
                <a:lnTo>
                  <a:pt x="1254" y="402"/>
                </a:lnTo>
                <a:lnTo>
                  <a:pt x="1254" y="384"/>
                </a:lnTo>
                <a:lnTo>
                  <a:pt x="1260" y="372"/>
                </a:lnTo>
                <a:lnTo>
                  <a:pt x="1266" y="360"/>
                </a:lnTo>
                <a:lnTo>
                  <a:pt x="1266" y="348"/>
                </a:lnTo>
                <a:lnTo>
                  <a:pt x="1272" y="336"/>
                </a:lnTo>
                <a:lnTo>
                  <a:pt x="1272" y="324"/>
                </a:lnTo>
                <a:lnTo>
                  <a:pt x="1278" y="312"/>
                </a:lnTo>
                <a:lnTo>
                  <a:pt x="1278" y="300"/>
                </a:lnTo>
                <a:lnTo>
                  <a:pt x="1284" y="288"/>
                </a:lnTo>
                <a:lnTo>
                  <a:pt x="1284" y="276"/>
                </a:lnTo>
                <a:lnTo>
                  <a:pt x="1290" y="264"/>
                </a:lnTo>
                <a:lnTo>
                  <a:pt x="1290" y="252"/>
                </a:lnTo>
                <a:lnTo>
                  <a:pt x="1296" y="240"/>
                </a:lnTo>
                <a:lnTo>
                  <a:pt x="1296" y="228"/>
                </a:lnTo>
                <a:lnTo>
                  <a:pt x="1302" y="216"/>
                </a:lnTo>
                <a:lnTo>
                  <a:pt x="1302" y="204"/>
                </a:lnTo>
                <a:lnTo>
                  <a:pt x="1308" y="198"/>
                </a:lnTo>
                <a:lnTo>
                  <a:pt x="1308" y="186"/>
                </a:lnTo>
                <a:lnTo>
                  <a:pt x="1314" y="180"/>
                </a:lnTo>
                <a:lnTo>
                  <a:pt x="1314" y="168"/>
                </a:lnTo>
                <a:lnTo>
                  <a:pt x="1320" y="162"/>
                </a:lnTo>
                <a:lnTo>
                  <a:pt x="1320" y="144"/>
                </a:lnTo>
                <a:lnTo>
                  <a:pt x="1326" y="138"/>
                </a:lnTo>
                <a:lnTo>
                  <a:pt x="1326" y="132"/>
                </a:lnTo>
                <a:lnTo>
                  <a:pt x="1332" y="126"/>
                </a:lnTo>
                <a:lnTo>
                  <a:pt x="1332" y="120"/>
                </a:lnTo>
                <a:lnTo>
                  <a:pt x="1338" y="114"/>
                </a:lnTo>
                <a:lnTo>
                  <a:pt x="1338" y="108"/>
                </a:lnTo>
                <a:lnTo>
                  <a:pt x="1344" y="102"/>
                </a:lnTo>
                <a:lnTo>
                  <a:pt x="1344" y="96"/>
                </a:lnTo>
                <a:lnTo>
                  <a:pt x="1350" y="90"/>
                </a:lnTo>
                <a:lnTo>
                  <a:pt x="1356" y="84"/>
                </a:lnTo>
                <a:lnTo>
                  <a:pt x="1356" y="78"/>
                </a:lnTo>
                <a:lnTo>
                  <a:pt x="1368" y="66"/>
                </a:lnTo>
                <a:lnTo>
                  <a:pt x="1368" y="60"/>
                </a:lnTo>
                <a:lnTo>
                  <a:pt x="1374" y="54"/>
                </a:lnTo>
                <a:lnTo>
                  <a:pt x="1386" y="42"/>
                </a:lnTo>
                <a:lnTo>
                  <a:pt x="1386" y="42"/>
                </a:lnTo>
                <a:lnTo>
                  <a:pt x="1398" y="30"/>
                </a:lnTo>
                <a:lnTo>
                  <a:pt x="1398" y="24"/>
                </a:lnTo>
                <a:lnTo>
                  <a:pt x="1404" y="24"/>
                </a:lnTo>
                <a:lnTo>
                  <a:pt x="1410" y="18"/>
                </a:lnTo>
                <a:lnTo>
                  <a:pt x="1416" y="12"/>
                </a:lnTo>
                <a:lnTo>
                  <a:pt x="1422" y="6"/>
                </a:lnTo>
                <a:lnTo>
                  <a:pt x="1428" y="0"/>
                </a:lnTo>
                <a:lnTo>
                  <a:pt x="143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43240" y="1457280"/>
            <a:ext cx="114480" cy="66600"/>
          </a:xfrm>
          <a:custGeom>
            <a:avLst/>
            <a:gdLst/>
            <a:ahLst/>
            <a:rect l="l" t="t" r="r" b="b"/>
            <a:pathLst>
              <a:path w="72" h="42">
                <a:moveTo>
                  <a:pt x="0" y="42"/>
                </a:moveTo>
                <a:lnTo>
                  <a:pt x="6" y="36"/>
                </a:lnTo>
                <a:lnTo>
                  <a:pt x="12" y="30"/>
                </a:lnTo>
                <a:lnTo>
                  <a:pt x="18" y="30"/>
                </a:lnTo>
                <a:lnTo>
                  <a:pt x="24" y="24"/>
                </a:lnTo>
                <a:lnTo>
                  <a:pt x="30" y="18"/>
                </a:lnTo>
                <a:lnTo>
                  <a:pt x="36" y="18"/>
                </a:lnTo>
                <a:lnTo>
                  <a:pt x="42" y="12"/>
                </a:lnTo>
                <a:lnTo>
                  <a:pt x="48" y="12"/>
                </a:lnTo>
                <a:lnTo>
                  <a:pt x="54" y="6"/>
                </a:lnTo>
                <a:lnTo>
                  <a:pt x="60" y="6"/>
                </a:lnTo>
                <a:lnTo>
                  <a:pt x="66" y="0"/>
                </a:lnTo>
                <a:lnTo>
                  <a:pt x="7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04520" y="1977120"/>
            <a:ext cx="167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448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48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400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00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353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53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286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86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219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48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48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4312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774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762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62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943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076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76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181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81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257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57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9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9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438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38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486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86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486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86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81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15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800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00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98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8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115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115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219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19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296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96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372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72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429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29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486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86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04640" y="2590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04640" y="1647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04640" y="1333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43680" y="2019240"/>
            <a:ext cx="2390760" cy="905040"/>
          </a:xfrm>
          <a:custGeom>
            <a:avLst/>
            <a:gdLst/>
            <a:ahLst/>
            <a:rect l="l" t="t" r="r" b="b"/>
            <a:pathLst>
              <a:path w="1506" h="570">
                <a:moveTo>
                  <a:pt x="0" y="570"/>
                </a:moveTo>
                <a:lnTo>
                  <a:pt x="192" y="558"/>
                </a:lnTo>
                <a:lnTo>
                  <a:pt x="312" y="552"/>
                </a:lnTo>
                <a:lnTo>
                  <a:pt x="390" y="552"/>
                </a:lnTo>
                <a:lnTo>
                  <a:pt x="456" y="546"/>
                </a:lnTo>
                <a:lnTo>
                  <a:pt x="504" y="546"/>
                </a:lnTo>
                <a:lnTo>
                  <a:pt x="552" y="546"/>
                </a:lnTo>
                <a:lnTo>
                  <a:pt x="588" y="546"/>
                </a:lnTo>
                <a:lnTo>
                  <a:pt x="624" y="540"/>
                </a:lnTo>
                <a:lnTo>
                  <a:pt x="654" y="540"/>
                </a:lnTo>
                <a:lnTo>
                  <a:pt x="678" y="540"/>
                </a:lnTo>
                <a:lnTo>
                  <a:pt x="702" y="540"/>
                </a:lnTo>
                <a:lnTo>
                  <a:pt x="726" y="534"/>
                </a:lnTo>
                <a:lnTo>
                  <a:pt x="750" y="534"/>
                </a:lnTo>
                <a:lnTo>
                  <a:pt x="768" y="534"/>
                </a:lnTo>
                <a:lnTo>
                  <a:pt x="786" y="528"/>
                </a:lnTo>
                <a:lnTo>
                  <a:pt x="804" y="528"/>
                </a:lnTo>
                <a:lnTo>
                  <a:pt x="816" y="528"/>
                </a:lnTo>
                <a:lnTo>
                  <a:pt x="834" y="528"/>
                </a:lnTo>
                <a:lnTo>
                  <a:pt x="846" y="522"/>
                </a:lnTo>
                <a:lnTo>
                  <a:pt x="864" y="522"/>
                </a:lnTo>
                <a:lnTo>
                  <a:pt x="876" y="522"/>
                </a:lnTo>
                <a:lnTo>
                  <a:pt x="888" y="516"/>
                </a:lnTo>
                <a:lnTo>
                  <a:pt x="900" y="516"/>
                </a:lnTo>
                <a:lnTo>
                  <a:pt x="912" y="516"/>
                </a:lnTo>
                <a:lnTo>
                  <a:pt x="924" y="510"/>
                </a:lnTo>
                <a:lnTo>
                  <a:pt x="936" y="510"/>
                </a:lnTo>
                <a:lnTo>
                  <a:pt x="942" y="504"/>
                </a:lnTo>
                <a:lnTo>
                  <a:pt x="954" y="504"/>
                </a:lnTo>
                <a:lnTo>
                  <a:pt x="966" y="504"/>
                </a:lnTo>
                <a:lnTo>
                  <a:pt x="972" y="498"/>
                </a:lnTo>
                <a:lnTo>
                  <a:pt x="984" y="498"/>
                </a:lnTo>
                <a:lnTo>
                  <a:pt x="990" y="498"/>
                </a:lnTo>
                <a:lnTo>
                  <a:pt x="1002" y="492"/>
                </a:lnTo>
                <a:lnTo>
                  <a:pt x="1008" y="492"/>
                </a:lnTo>
                <a:lnTo>
                  <a:pt x="1014" y="486"/>
                </a:lnTo>
                <a:lnTo>
                  <a:pt x="1026" y="486"/>
                </a:lnTo>
                <a:lnTo>
                  <a:pt x="1032" y="480"/>
                </a:lnTo>
                <a:lnTo>
                  <a:pt x="1038" y="480"/>
                </a:lnTo>
                <a:lnTo>
                  <a:pt x="1044" y="480"/>
                </a:lnTo>
                <a:lnTo>
                  <a:pt x="1050" y="474"/>
                </a:lnTo>
                <a:lnTo>
                  <a:pt x="1062" y="474"/>
                </a:lnTo>
                <a:lnTo>
                  <a:pt x="1068" y="468"/>
                </a:lnTo>
                <a:lnTo>
                  <a:pt x="1074" y="468"/>
                </a:lnTo>
                <a:lnTo>
                  <a:pt x="1080" y="462"/>
                </a:lnTo>
                <a:lnTo>
                  <a:pt x="1086" y="462"/>
                </a:lnTo>
                <a:lnTo>
                  <a:pt x="1092" y="456"/>
                </a:lnTo>
                <a:lnTo>
                  <a:pt x="1098" y="456"/>
                </a:lnTo>
                <a:lnTo>
                  <a:pt x="1104" y="450"/>
                </a:lnTo>
                <a:lnTo>
                  <a:pt x="1110" y="444"/>
                </a:lnTo>
                <a:lnTo>
                  <a:pt x="1116" y="444"/>
                </a:lnTo>
                <a:lnTo>
                  <a:pt x="1122" y="438"/>
                </a:lnTo>
                <a:lnTo>
                  <a:pt x="1128" y="432"/>
                </a:lnTo>
                <a:lnTo>
                  <a:pt x="1134" y="432"/>
                </a:lnTo>
                <a:lnTo>
                  <a:pt x="1140" y="426"/>
                </a:lnTo>
                <a:lnTo>
                  <a:pt x="1146" y="420"/>
                </a:lnTo>
                <a:lnTo>
                  <a:pt x="1152" y="420"/>
                </a:lnTo>
                <a:lnTo>
                  <a:pt x="1158" y="408"/>
                </a:lnTo>
                <a:lnTo>
                  <a:pt x="1164" y="408"/>
                </a:lnTo>
                <a:lnTo>
                  <a:pt x="1170" y="402"/>
                </a:lnTo>
                <a:lnTo>
                  <a:pt x="1176" y="402"/>
                </a:lnTo>
                <a:lnTo>
                  <a:pt x="1182" y="390"/>
                </a:lnTo>
                <a:lnTo>
                  <a:pt x="1188" y="390"/>
                </a:lnTo>
                <a:lnTo>
                  <a:pt x="1194" y="378"/>
                </a:lnTo>
                <a:lnTo>
                  <a:pt x="1200" y="372"/>
                </a:lnTo>
                <a:lnTo>
                  <a:pt x="1206" y="366"/>
                </a:lnTo>
                <a:lnTo>
                  <a:pt x="1212" y="360"/>
                </a:lnTo>
                <a:lnTo>
                  <a:pt x="1218" y="354"/>
                </a:lnTo>
                <a:lnTo>
                  <a:pt x="1224" y="348"/>
                </a:lnTo>
                <a:lnTo>
                  <a:pt x="1236" y="336"/>
                </a:lnTo>
                <a:lnTo>
                  <a:pt x="1236" y="330"/>
                </a:lnTo>
                <a:lnTo>
                  <a:pt x="1242" y="324"/>
                </a:lnTo>
                <a:lnTo>
                  <a:pt x="1254" y="312"/>
                </a:lnTo>
                <a:lnTo>
                  <a:pt x="1254" y="306"/>
                </a:lnTo>
                <a:lnTo>
                  <a:pt x="1260" y="300"/>
                </a:lnTo>
                <a:lnTo>
                  <a:pt x="1272" y="288"/>
                </a:lnTo>
                <a:lnTo>
                  <a:pt x="1272" y="282"/>
                </a:lnTo>
                <a:lnTo>
                  <a:pt x="1278" y="276"/>
                </a:lnTo>
                <a:lnTo>
                  <a:pt x="1278" y="270"/>
                </a:lnTo>
                <a:lnTo>
                  <a:pt x="1284" y="264"/>
                </a:lnTo>
                <a:lnTo>
                  <a:pt x="1290" y="258"/>
                </a:lnTo>
                <a:lnTo>
                  <a:pt x="1290" y="252"/>
                </a:lnTo>
                <a:lnTo>
                  <a:pt x="1302" y="240"/>
                </a:lnTo>
                <a:lnTo>
                  <a:pt x="1302" y="234"/>
                </a:lnTo>
                <a:lnTo>
                  <a:pt x="1314" y="222"/>
                </a:lnTo>
                <a:lnTo>
                  <a:pt x="1314" y="216"/>
                </a:lnTo>
                <a:lnTo>
                  <a:pt x="1320" y="210"/>
                </a:lnTo>
                <a:lnTo>
                  <a:pt x="1320" y="204"/>
                </a:lnTo>
                <a:lnTo>
                  <a:pt x="1326" y="198"/>
                </a:lnTo>
                <a:lnTo>
                  <a:pt x="1332" y="192"/>
                </a:lnTo>
                <a:lnTo>
                  <a:pt x="1332" y="186"/>
                </a:lnTo>
                <a:lnTo>
                  <a:pt x="1338" y="180"/>
                </a:lnTo>
                <a:lnTo>
                  <a:pt x="1338" y="174"/>
                </a:lnTo>
                <a:lnTo>
                  <a:pt x="1344" y="168"/>
                </a:lnTo>
                <a:lnTo>
                  <a:pt x="1350" y="162"/>
                </a:lnTo>
                <a:lnTo>
                  <a:pt x="1356" y="156"/>
                </a:lnTo>
                <a:lnTo>
                  <a:pt x="1356" y="150"/>
                </a:lnTo>
                <a:lnTo>
                  <a:pt x="1362" y="144"/>
                </a:lnTo>
                <a:lnTo>
                  <a:pt x="1362" y="138"/>
                </a:lnTo>
                <a:lnTo>
                  <a:pt x="1368" y="132"/>
                </a:lnTo>
                <a:lnTo>
                  <a:pt x="1380" y="120"/>
                </a:lnTo>
                <a:lnTo>
                  <a:pt x="1380" y="114"/>
                </a:lnTo>
                <a:lnTo>
                  <a:pt x="1386" y="108"/>
                </a:lnTo>
                <a:lnTo>
                  <a:pt x="1392" y="102"/>
                </a:lnTo>
                <a:lnTo>
                  <a:pt x="1404" y="90"/>
                </a:lnTo>
                <a:lnTo>
                  <a:pt x="1404" y="84"/>
                </a:lnTo>
                <a:lnTo>
                  <a:pt x="1410" y="78"/>
                </a:lnTo>
                <a:lnTo>
                  <a:pt x="1416" y="72"/>
                </a:lnTo>
                <a:lnTo>
                  <a:pt x="1422" y="66"/>
                </a:lnTo>
                <a:lnTo>
                  <a:pt x="1428" y="60"/>
                </a:lnTo>
                <a:lnTo>
                  <a:pt x="1434" y="54"/>
                </a:lnTo>
                <a:lnTo>
                  <a:pt x="1440" y="48"/>
                </a:lnTo>
                <a:lnTo>
                  <a:pt x="1446" y="42"/>
                </a:lnTo>
                <a:lnTo>
                  <a:pt x="1452" y="36"/>
                </a:lnTo>
                <a:lnTo>
                  <a:pt x="1458" y="30"/>
                </a:lnTo>
                <a:lnTo>
                  <a:pt x="1464" y="24"/>
                </a:lnTo>
                <a:lnTo>
                  <a:pt x="1470" y="24"/>
                </a:lnTo>
                <a:lnTo>
                  <a:pt x="1476" y="18"/>
                </a:lnTo>
                <a:lnTo>
                  <a:pt x="1482" y="12"/>
                </a:lnTo>
                <a:lnTo>
                  <a:pt x="1488" y="12"/>
                </a:lnTo>
                <a:lnTo>
                  <a:pt x="1494" y="6"/>
                </a:lnTo>
                <a:lnTo>
                  <a:pt x="1500" y="0"/>
                </a:lnTo>
                <a:lnTo>
                  <a:pt x="150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43680" y="1314360"/>
            <a:ext cx="2219040" cy="1657440"/>
          </a:xfrm>
          <a:custGeom>
            <a:avLst/>
            <a:gdLst/>
            <a:ahLst/>
            <a:rect l="l" t="t" r="r" b="b"/>
            <a:pathLst>
              <a:path w="1398" h="1044">
                <a:moveTo>
                  <a:pt x="0" y="1044"/>
                </a:moveTo>
                <a:lnTo>
                  <a:pt x="192" y="1044"/>
                </a:lnTo>
                <a:lnTo>
                  <a:pt x="312" y="1038"/>
                </a:lnTo>
                <a:lnTo>
                  <a:pt x="390" y="1038"/>
                </a:lnTo>
                <a:lnTo>
                  <a:pt x="456" y="1038"/>
                </a:lnTo>
                <a:lnTo>
                  <a:pt x="504" y="1038"/>
                </a:lnTo>
                <a:lnTo>
                  <a:pt x="552" y="1032"/>
                </a:lnTo>
                <a:lnTo>
                  <a:pt x="588" y="1032"/>
                </a:lnTo>
                <a:lnTo>
                  <a:pt x="624" y="1032"/>
                </a:lnTo>
                <a:lnTo>
                  <a:pt x="654" y="1032"/>
                </a:lnTo>
                <a:lnTo>
                  <a:pt x="678" y="1026"/>
                </a:lnTo>
                <a:lnTo>
                  <a:pt x="702" y="1026"/>
                </a:lnTo>
                <a:lnTo>
                  <a:pt x="726" y="1026"/>
                </a:lnTo>
                <a:lnTo>
                  <a:pt x="750" y="1026"/>
                </a:lnTo>
                <a:lnTo>
                  <a:pt x="768" y="1020"/>
                </a:lnTo>
                <a:lnTo>
                  <a:pt x="786" y="1020"/>
                </a:lnTo>
                <a:lnTo>
                  <a:pt x="804" y="1020"/>
                </a:lnTo>
                <a:lnTo>
                  <a:pt x="816" y="1014"/>
                </a:lnTo>
                <a:lnTo>
                  <a:pt x="834" y="1014"/>
                </a:lnTo>
                <a:lnTo>
                  <a:pt x="846" y="1014"/>
                </a:lnTo>
                <a:lnTo>
                  <a:pt x="864" y="1008"/>
                </a:lnTo>
                <a:lnTo>
                  <a:pt x="876" y="1008"/>
                </a:lnTo>
                <a:lnTo>
                  <a:pt x="888" y="1008"/>
                </a:lnTo>
                <a:lnTo>
                  <a:pt x="900" y="1002"/>
                </a:lnTo>
                <a:lnTo>
                  <a:pt x="912" y="1002"/>
                </a:lnTo>
                <a:lnTo>
                  <a:pt x="924" y="1002"/>
                </a:lnTo>
                <a:lnTo>
                  <a:pt x="936" y="996"/>
                </a:lnTo>
                <a:lnTo>
                  <a:pt x="942" y="996"/>
                </a:lnTo>
                <a:lnTo>
                  <a:pt x="954" y="990"/>
                </a:lnTo>
                <a:lnTo>
                  <a:pt x="966" y="990"/>
                </a:lnTo>
                <a:lnTo>
                  <a:pt x="972" y="984"/>
                </a:lnTo>
                <a:lnTo>
                  <a:pt x="984" y="984"/>
                </a:lnTo>
                <a:lnTo>
                  <a:pt x="990" y="978"/>
                </a:lnTo>
                <a:lnTo>
                  <a:pt x="1002" y="978"/>
                </a:lnTo>
                <a:lnTo>
                  <a:pt x="1008" y="972"/>
                </a:lnTo>
                <a:lnTo>
                  <a:pt x="1014" y="972"/>
                </a:lnTo>
                <a:lnTo>
                  <a:pt x="1026" y="966"/>
                </a:lnTo>
                <a:lnTo>
                  <a:pt x="1032" y="960"/>
                </a:lnTo>
                <a:lnTo>
                  <a:pt x="1038" y="960"/>
                </a:lnTo>
                <a:lnTo>
                  <a:pt x="1044" y="954"/>
                </a:lnTo>
                <a:lnTo>
                  <a:pt x="1050" y="948"/>
                </a:lnTo>
                <a:lnTo>
                  <a:pt x="1062" y="948"/>
                </a:lnTo>
                <a:lnTo>
                  <a:pt x="1068" y="942"/>
                </a:lnTo>
                <a:lnTo>
                  <a:pt x="1074" y="936"/>
                </a:lnTo>
                <a:lnTo>
                  <a:pt x="1080" y="930"/>
                </a:lnTo>
                <a:lnTo>
                  <a:pt x="1086" y="930"/>
                </a:lnTo>
                <a:lnTo>
                  <a:pt x="1092" y="924"/>
                </a:lnTo>
                <a:lnTo>
                  <a:pt x="1098" y="918"/>
                </a:lnTo>
                <a:lnTo>
                  <a:pt x="1104" y="912"/>
                </a:lnTo>
                <a:lnTo>
                  <a:pt x="1110" y="906"/>
                </a:lnTo>
                <a:lnTo>
                  <a:pt x="1116" y="900"/>
                </a:lnTo>
                <a:lnTo>
                  <a:pt x="1122" y="894"/>
                </a:lnTo>
                <a:lnTo>
                  <a:pt x="1128" y="882"/>
                </a:lnTo>
                <a:lnTo>
                  <a:pt x="1134" y="876"/>
                </a:lnTo>
                <a:lnTo>
                  <a:pt x="1140" y="870"/>
                </a:lnTo>
                <a:lnTo>
                  <a:pt x="1146" y="864"/>
                </a:lnTo>
                <a:lnTo>
                  <a:pt x="1152" y="858"/>
                </a:lnTo>
                <a:lnTo>
                  <a:pt x="1158" y="852"/>
                </a:lnTo>
                <a:lnTo>
                  <a:pt x="1158" y="840"/>
                </a:lnTo>
                <a:lnTo>
                  <a:pt x="1164" y="834"/>
                </a:lnTo>
                <a:lnTo>
                  <a:pt x="1170" y="828"/>
                </a:lnTo>
                <a:lnTo>
                  <a:pt x="1176" y="816"/>
                </a:lnTo>
                <a:lnTo>
                  <a:pt x="1182" y="810"/>
                </a:lnTo>
                <a:lnTo>
                  <a:pt x="1182" y="798"/>
                </a:lnTo>
                <a:lnTo>
                  <a:pt x="1188" y="792"/>
                </a:lnTo>
                <a:lnTo>
                  <a:pt x="1194" y="780"/>
                </a:lnTo>
                <a:lnTo>
                  <a:pt x="1194" y="774"/>
                </a:lnTo>
                <a:lnTo>
                  <a:pt x="1200" y="762"/>
                </a:lnTo>
                <a:lnTo>
                  <a:pt x="1206" y="750"/>
                </a:lnTo>
                <a:lnTo>
                  <a:pt x="1206" y="738"/>
                </a:lnTo>
                <a:lnTo>
                  <a:pt x="1212" y="732"/>
                </a:lnTo>
                <a:lnTo>
                  <a:pt x="1218" y="720"/>
                </a:lnTo>
                <a:lnTo>
                  <a:pt x="1218" y="708"/>
                </a:lnTo>
                <a:lnTo>
                  <a:pt x="1224" y="696"/>
                </a:lnTo>
                <a:lnTo>
                  <a:pt x="1230" y="684"/>
                </a:lnTo>
                <a:lnTo>
                  <a:pt x="1230" y="666"/>
                </a:lnTo>
                <a:lnTo>
                  <a:pt x="1236" y="654"/>
                </a:lnTo>
                <a:lnTo>
                  <a:pt x="1236" y="642"/>
                </a:lnTo>
                <a:lnTo>
                  <a:pt x="1242" y="630"/>
                </a:lnTo>
                <a:lnTo>
                  <a:pt x="1248" y="612"/>
                </a:lnTo>
                <a:lnTo>
                  <a:pt x="1248" y="600"/>
                </a:lnTo>
                <a:lnTo>
                  <a:pt x="1254" y="582"/>
                </a:lnTo>
                <a:lnTo>
                  <a:pt x="1254" y="570"/>
                </a:lnTo>
                <a:lnTo>
                  <a:pt x="1260" y="552"/>
                </a:lnTo>
                <a:lnTo>
                  <a:pt x="1266" y="534"/>
                </a:lnTo>
                <a:lnTo>
                  <a:pt x="1266" y="522"/>
                </a:lnTo>
                <a:lnTo>
                  <a:pt x="1272" y="504"/>
                </a:lnTo>
                <a:lnTo>
                  <a:pt x="1272" y="486"/>
                </a:lnTo>
                <a:lnTo>
                  <a:pt x="1278" y="468"/>
                </a:lnTo>
                <a:lnTo>
                  <a:pt x="1278" y="450"/>
                </a:lnTo>
                <a:lnTo>
                  <a:pt x="1284" y="432"/>
                </a:lnTo>
                <a:lnTo>
                  <a:pt x="1284" y="414"/>
                </a:lnTo>
                <a:lnTo>
                  <a:pt x="1290" y="396"/>
                </a:lnTo>
                <a:lnTo>
                  <a:pt x="1290" y="378"/>
                </a:lnTo>
                <a:lnTo>
                  <a:pt x="1296" y="366"/>
                </a:lnTo>
                <a:lnTo>
                  <a:pt x="1296" y="348"/>
                </a:lnTo>
                <a:lnTo>
                  <a:pt x="1302" y="330"/>
                </a:lnTo>
                <a:lnTo>
                  <a:pt x="1302" y="312"/>
                </a:lnTo>
                <a:lnTo>
                  <a:pt x="1308" y="300"/>
                </a:lnTo>
                <a:lnTo>
                  <a:pt x="1308" y="282"/>
                </a:lnTo>
                <a:lnTo>
                  <a:pt x="1314" y="270"/>
                </a:lnTo>
                <a:lnTo>
                  <a:pt x="1314" y="258"/>
                </a:lnTo>
                <a:lnTo>
                  <a:pt x="1320" y="240"/>
                </a:lnTo>
                <a:lnTo>
                  <a:pt x="1320" y="216"/>
                </a:lnTo>
                <a:lnTo>
                  <a:pt x="1326" y="204"/>
                </a:lnTo>
                <a:lnTo>
                  <a:pt x="1326" y="192"/>
                </a:lnTo>
                <a:lnTo>
                  <a:pt x="1332" y="186"/>
                </a:lnTo>
                <a:lnTo>
                  <a:pt x="1332" y="174"/>
                </a:lnTo>
                <a:lnTo>
                  <a:pt x="1338" y="162"/>
                </a:lnTo>
                <a:lnTo>
                  <a:pt x="1338" y="144"/>
                </a:lnTo>
                <a:lnTo>
                  <a:pt x="1344" y="138"/>
                </a:lnTo>
                <a:lnTo>
                  <a:pt x="1344" y="126"/>
                </a:lnTo>
                <a:lnTo>
                  <a:pt x="1350" y="120"/>
                </a:lnTo>
                <a:lnTo>
                  <a:pt x="1350" y="114"/>
                </a:lnTo>
                <a:lnTo>
                  <a:pt x="1356" y="108"/>
                </a:lnTo>
                <a:lnTo>
                  <a:pt x="1356" y="90"/>
                </a:lnTo>
                <a:lnTo>
                  <a:pt x="1362" y="84"/>
                </a:lnTo>
                <a:lnTo>
                  <a:pt x="1362" y="72"/>
                </a:lnTo>
                <a:lnTo>
                  <a:pt x="1374" y="60"/>
                </a:lnTo>
                <a:lnTo>
                  <a:pt x="1374" y="48"/>
                </a:lnTo>
                <a:lnTo>
                  <a:pt x="1380" y="42"/>
                </a:lnTo>
                <a:lnTo>
                  <a:pt x="1380" y="36"/>
                </a:lnTo>
                <a:lnTo>
                  <a:pt x="1386" y="30"/>
                </a:lnTo>
                <a:lnTo>
                  <a:pt x="1386" y="24"/>
                </a:lnTo>
                <a:lnTo>
                  <a:pt x="1392" y="18"/>
                </a:lnTo>
                <a:lnTo>
                  <a:pt x="1392" y="12"/>
                </a:lnTo>
                <a:lnTo>
                  <a:pt x="1398" y="6"/>
                </a:lnTo>
                <a:lnTo>
                  <a:pt x="139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62720" y="1095480"/>
            <a:ext cx="171720" cy="218880"/>
          </a:xfrm>
          <a:custGeom>
            <a:avLst/>
            <a:gdLst/>
            <a:ahLst/>
            <a:rect l="l" t="t" r="r" b="b"/>
            <a:pathLst>
              <a:path w="108" h="138">
                <a:moveTo>
                  <a:pt x="0" y="138"/>
                </a:moveTo>
                <a:lnTo>
                  <a:pt x="12" y="126"/>
                </a:lnTo>
                <a:lnTo>
                  <a:pt x="12" y="120"/>
                </a:lnTo>
                <a:lnTo>
                  <a:pt x="18" y="114"/>
                </a:lnTo>
                <a:lnTo>
                  <a:pt x="18" y="108"/>
                </a:lnTo>
                <a:lnTo>
                  <a:pt x="30" y="96"/>
                </a:lnTo>
                <a:lnTo>
                  <a:pt x="30" y="90"/>
                </a:lnTo>
                <a:lnTo>
                  <a:pt x="42" y="78"/>
                </a:lnTo>
                <a:lnTo>
                  <a:pt x="42" y="72"/>
                </a:lnTo>
                <a:lnTo>
                  <a:pt x="48" y="66"/>
                </a:lnTo>
                <a:lnTo>
                  <a:pt x="54" y="60"/>
                </a:lnTo>
                <a:lnTo>
                  <a:pt x="66" y="48"/>
                </a:lnTo>
                <a:lnTo>
                  <a:pt x="66" y="42"/>
                </a:lnTo>
                <a:lnTo>
                  <a:pt x="72" y="36"/>
                </a:lnTo>
                <a:lnTo>
                  <a:pt x="78" y="30"/>
                </a:lnTo>
                <a:lnTo>
                  <a:pt x="84" y="24"/>
                </a:lnTo>
                <a:lnTo>
                  <a:pt x="90" y="18"/>
                </a:lnTo>
                <a:lnTo>
                  <a:pt x="96" y="12"/>
                </a:lnTo>
                <a:lnTo>
                  <a:pt x="102" y="6"/>
                </a:lnTo>
                <a:lnTo>
                  <a:pt x="10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4032720" y="1952640"/>
            <a:ext cx="151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171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71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124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24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0764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764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009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09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43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43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1718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718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664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006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486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86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666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800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00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905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05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811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11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114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14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162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62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209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09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2097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097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046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38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524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24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7051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051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838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38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943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43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019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19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095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095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52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52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210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10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27920" y="51814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61320" y="4867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61320" y="4238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61320" y="3924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66960" y="3724200"/>
            <a:ext cx="2362320" cy="1847880"/>
          </a:xfrm>
          <a:custGeom>
            <a:avLst/>
            <a:gdLst/>
            <a:ahLst/>
            <a:rect l="l" t="t" r="r" b="b"/>
            <a:pathLst>
              <a:path w="1488" h="1164">
                <a:moveTo>
                  <a:pt x="0" y="1164"/>
                </a:moveTo>
                <a:lnTo>
                  <a:pt x="192" y="1152"/>
                </a:lnTo>
                <a:lnTo>
                  <a:pt x="312" y="1140"/>
                </a:lnTo>
                <a:lnTo>
                  <a:pt x="390" y="1128"/>
                </a:lnTo>
                <a:lnTo>
                  <a:pt x="456" y="1116"/>
                </a:lnTo>
                <a:lnTo>
                  <a:pt x="504" y="1104"/>
                </a:lnTo>
                <a:lnTo>
                  <a:pt x="552" y="1092"/>
                </a:lnTo>
                <a:lnTo>
                  <a:pt x="588" y="1080"/>
                </a:lnTo>
                <a:lnTo>
                  <a:pt x="624" y="1068"/>
                </a:lnTo>
                <a:lnTo>
                  <a:pt x="654" y="1056"/>
                </a:lnTo>
                <a:lnTo>
                  <a:pt x="678" y="1044"/>
                </a:lnTo>
                <a:lnTo>
                  <a:pt x="702" y="1032"/>
                </a:lnTo>
                <a:lnTo>
                  <a:pt x="726" y="1020"/>
                </a:lnTo>
                <a:lnTo>
                  <a:pt x="750" y="1008"/>
                </a:lnTo>
                <a:lnTo>
                  <a:pt x="768" y="996"/>
                </a:lnTo>
                <a:lnTo>
                  <a:pt x="786" y="978"/>
                </a:lnTo>
                <a:lnTo>
                  <a:pt x="804" y="966"/>
                </a:lnTo>
                <a:lnTo>
                  <a:pt x="816" y="954"/>
                </a:lnTo>
                <a:lnTo>
                  <a:pt x="834" y="942"/>
                </a:lnTo>
                <a:lnTo>
                  <a:pt x="846" y="930"/>
                </a:lnTo>
                <a:lnTo>
                  <a:pt x="864" y="918"/>
                </a:lnTo>
                <a:lnTo>
                  <a:pt x="876" y="906"/>
                </a:lnTo>
                <a:lnTo>
                  <a:pt x="888" y="894"/>
                </a:lnTo>
                <a:lnTo>
                  <a:pt x="900" y="882"/>
                </a:lnTo>
                <a:lnTo>
                  <a:pt x="912" y="870"/>
                </a:lnTo>
                <a:lnTo>
                  <a:pt x="924" y="858"/>
                </a:lnTo>
                <a:lnTo>
                  <a:pt x="936" y="846"/>
                </a:lnTo>
                <a:lnTo>
                  <a:pt x="942" y="834"/>
                </a:lnTo>
                <a:lnTo>
                  <a:pt x="954" y="822"/>
                </a:lnTo>
                <a:lnTo>
                  <a:pt x="966" y="810"/>
                </a:lnTo>
                <a:lnTo>
                  <a:pt x="972" y="798"/>
                </a:lnTo>
                <a:lnTo>
                  <a:pt x="984" y="786"/>
                </a:lnTo>
                <a:lnTo>
                  <a:pt x="990" y="774"/>
                </a:lnTo>
                <a:lnTo>
                  <a:pt x="1002" y="768"/>
                </a:lnTo>
                <a:lnTo>
                  <a:pt x="1008" y="756"/>
                </a:lnTo>
                <a:lnTo>
                  <a:pt x="1014" y="744"/>
                </a:lnTo>
                <a:lnTo>
                  <a:pt x="1026" y="732"/>
                </a:lnTo>
                <a:lnTo>
                  <a:pt x="1032" y="720"/>
                </a:lnTo>
                <a:lnTo>
                  <a:pt x="1038" y="708"/>
                </a:lnTo>
                <a:lnTo>
                  <a:pt x="1044" y="696"/>
                </a:lnTo>
                <a:lnTo>
                  <a:pt x="1050" y="684"/>
                </a:lnTo>
                <a:lnTo>
                  <a:pt x="1062" y="672"/>
                </a:lnTo>
                <a:lnTo>
                  <a:pt x="1068" y="660"/>
                </a:lnTo>
                <a:lnTo>
                  <a:pt x="1074" y="648"/>
                </a:lnTo>
                <a:lnTo>
                  <a:pt x="1080" y="642"/>
                </a:lnTo>
                <a:lnTo>
                  <a:pt x="1086" y="630"/>
                </a:lnTo>
                <a:lnTo>
                  <a:pt x="1092" y="618"/>
                </a:lnTo>
                <a:lnTo>
                  <a:pt x="1098" y="606"/>
                </a:lnTo>
                <a:lnTo>
                  <a:pt x="1104" y="600"/>
                </a:lnTo>
                <a:lnTo>
                  <a:pt x="1110" y="588"/>
                </a:lnTo>
                <a:lnTo>
                  <a:pt x="1116" y="576"/>
                </a:lnTo>
                <a:lnTo>
                  <a:pt x="1122" y="570"/>
                </a:lnTo>
                <a:lnTo>
                  <a:pt x="1128" y="558"/>
                </a:lnTo>
                <a:lnTo>
                  <a:pt x="1128" y="546"/>
                </a:lnTo>
                <a:lnTo>
                  <a:pt x="1134" y="534"/>
                </a:lnTo>
                <a:lnTo>
                  <a:pt x="1140" y="522"/>
                </a:lnTo>
                <a:lnTo>
                  <a:pt x="1146" y="516"/>
                </a:lnTo>
                <a:lnTo>
                  <a:pt x="1152" y="504"/>
                </a:lnTo>
                <a:lnTo>
                  <a:pt x="1158" y="498"/>
                </a:lnTo>
                <a:lnTo>
                  <a:pt x="1158" y="486"/>
                </a:lnTo>
                <a:lnTo>
                  <a:pt x="1164" y="474"/>
                </a:lnTo>
                <a:lnTo>
                  <a:pt x="1170" y="462"/>
                </a:lnTo>
                <a:lnTo>
                  <a:pt x="1176" y="456"/>
                </a:lnTo>
                <a:lnTo>
                  <a:pt x="1182" y="450"/>
                </a:lnTo>
                <a:lnTo>
                  <a:pt x="1182" y="438"/>
                </a:lnTo>
                <a:lnTo>
                  <a:pt x="1188" y="426"/>
                </a:lnTo>
                <a:lnTo>
                  <a:pt x="1194" y="420"/>
                </a:lnTo>
                <a:lnTo>
                  <a:pt x="1194" y="408"/>
                </a:lnTo>
                <a:lnTo>
                  <a:pt x="1200" y="402"/>
                </a:lnTo>
                <a:lnTo>
                  <a:pt x="1206" y="390"/>
                </a:lnTo>
                <a:lnTo>
                  <a:pt x="1206" y="384"/>
                </a:lnTo>
                <a:lnTo>
                  <a:pt x="1212" y="378"/>
                </a:lnTo>
                <a:lnTo>
                  <a:pt x="1218" y="366"/>
                </a:lnTo>
                <a:lnTo>
                  <a:pt x="1218" y="360"/>
                </a:lnTo>
                <a:lnTo>
                  <a:pt x="1224" y="348"/>
                </a:lnTo>
                <a:lnTo>
                  <a:pt x="1230" y="342"/>
                </a:lnTo>
                <a:lnTo>
                  <a:pt x="1230" y="336"/>
                </a:lnTo>
                <a:lnTo>
                  <a:pt x="1236" y="324"/>
                </a:lnTo>
                <a:lnTo>
                  <a:pt x="1236" y="318"/>
                </a:lnTo>
                <a:lnTo>
                  <a:pt x="1242" y="312"/>
                </a:lnTo>
                <a:lnTo>
                  <a:pt x="1248" y="300"/>
                </a:lnTo>
                <a:lnTo>
                  <a:pt x="1254" y="288"/>
                </a:lnTo>
                <a:lnTo>
                  <a:pt x="1254" y="282"/>
                </a:lnTo>
                <a:lnTo>
                  <a:pt x="1260" y="276"/>
                </a:lnTo>
                <a:lnTo>
                  <a:pt x="1266" y="264"/>
                </a:lnTo>
                <a:lnTo>
                  <a:pt x="1272" y="252"/>
                </a:lnTo>
                <a:lnTo>
                  <a:pt x="1272" y="246"/>
                </a:lnTo>
                <a:lnTo>
                  <a:pt x="1278" y="240"/>
                </a:lnTo>
                <a:lnTo>
                  <a:pt x="1278" y="234"/>
                </a:lnTo>
                <a:lnTo>
                  <a:pt x="1284" y="228"/>
                </a:lnTo>
                <a:lnTo>
                  <a:pt x="1284" y="222"/>
                </a:lnTo>
                <a:lnTo>
                  <a:pt x="1290" y="216"/>
                </a:lnTo>
                <a:lnTo>
                  <a:pt x="1290" y="210"/>
                </a:lnTo>
                <a:lnTo>
                  <a:pt x="1296" y="204"/>
                </a:lnTo>
                <a:lnTo>
                  <a:pt x="1302" y="192"/>
                </a:lnTo>
                <a:lnTo>
                  <a:pt x="1308" y="186"/>
                </a:lnTo>
                <a:lnTo>
                  <a:pt x="1308" y="180"/>
                </a:lnTo>
                <a:lnTo>
                  <a:pt x="1314" y="174"/>
                </a:lnTo>
                <a:lnTo>
                  <a:pt x="1320" y="168"/>
                </a:lnTo>
                <a:lnTo>
                  <a:pt x="1320" y="162"/>
                </a:lnTo>
                <a:lnTo>
                  <a:pt x="1326" y="150"/>
                </a:lnTo>
                <a:lnTo>
                  <a:pt x="1338" y="138"/>
                </a:lnTo>
                <a:lnTo>
                  <a:pt x="1338" y="132"/>
                </a:lnTo>
                <a:lnTo>
                  <a:pt x="1344" y="126"/>
                </a:lnTo>
                <a:lnTo>
                  <a:pt x="1356" y="114"/>
                </a:lnTo>
                <a:lnTo>
                  <a:pt x="1356" y="108"/>
                </a:lnTo>
                <a:lnTo>
                  <a:pt x="1368" y="96"/>
                </a:lnTo>
                <a:lnTo>
                  <a:pt x="1368" y="90"/>
                </a:lnTo>
                <a:lnTo>
                  <a:pt x="1374" y="84"/>
                </a:lnTo>
                <a:lnTo>
                  <a:pt x="1380" y="78"/>
                </a:lnTo>
                <a:lnTo>
                  <a:pt x="1386" y="72"/>
                </a:lnTo>
                <a:lnTo>
                  <a:pt x="1392" y="66"/>
                </a:lnTo>
                <a:lnTo>
                  <a:pt x="1398" y="60"/>
                </a:lnTo>
                <a:lnTo>
                  <a:pt x="1404" y="54"/>
                </a:lnTo>
                <a:lnTo>
                  <a:pt x="1410" y="48"/>
                </a:lnTo>
                <a:lnTo>
                  <a:pt x="1416" y="42"/>
                </a:lnTo>
                <a:lnTo>
                  <a:pt x="1422" y="42"/>
                </a:lnTo>
                <a:lnTo>
                  <a:pt x="1428" y="36"/>
                </a:lnTo>
                <a:lnTo>
                  <a:pt x="1434" y="30"/>
                </a:lnTo>
                <a:lnTo>
                  <a:pt x="1440" y="30"/>
                </a:lnTo>
                <a:lnTo>
                  <a:pt x="1446" y="18"/>
                </a:lnTo>
                <a:lnTo>
                  <a:pt x="1452" y="18"/>
                </a:lnTo>
                <a:lnTo>
                  <a:pt x="1458" y="18"/>
                </a:lnTo>
                <a:lnTo>
                  <a:pt x="1464" y="12"/>
                </a:lnTo>
                <a:lnTo>
                  <a:pt x="1470" y="6"/>
                </a:lnTo>
                <a:lnTo>
                  <a:pt x="1476" y="6"/>
                </a:lnTo>
                <a:lnTo>
                  <a:pt x="1482" y="0"/>
                </a:lnTo>
                <a:lnTo>
                  <a:pt x="148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29280" y="371484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66960" y="4419720"/>
            <a:ext cx="2390760" cy="1143000"/>
          </a:xfrm>
          <a:custGeom>
            <a:avLst/>
            <a:gdLst/>
            <a:ahLst/>
            <a:rect l="l" t="t" r="r" b="b"/>
            <a:pathLst>
              <a:path w="1506" h="720">
                <a:moveTo>
                  <a:pt x="0" y="720"/>
                </a:moveTo>
                <a:lnTo>
                  <a:pt x="192" y="708"/>
                </a:lnTo>
                <a:lnTo>
                  <a:pt x="312" y="696"/>
                </a:lnTo>
                <a:lnTo>
                  <a:pt x="390" y="684"/>
                </a:lnTo>
                <a:lnTo>
                  <a:pt x="456" y="672"/>
                </a:lnTo>
                <a:lnTo>
                  <a:pt x="504" y="660"/>
                </a:lnTo>
                <a:lnTo>
                  <a:pt x="552" y="642"/>
                </a:lnTo>
                <a:lnTo>
                  <a:pt x="588" y="630"/>
                </a:lnTo>
                <a:lnTo>
                  <a:pt x="624" y="618"/>
                </a:lnTo>
                <a:lnTo>
                  <a:pt x="654" y="606"/>
                </a:lnTo>
                <a:lnTo>
                  <a:pt x="678" y="594"/>
                </a:lnTo>
                <a:lnTo>
                  <a:pt x="702" y="582"/>
                </a:lnTo>
                <a:lnTo>
                  <a:pt x="726" y="570"/>
                </a:lnTo>
                <a:lnTo>
                  <a:pt x="750" y="558"/>
                </a:lnTo>
                <a:lnTo>
                  <a:pt x="768" y="546"/>
                </a:lnTo>
                <a:lnTo>
                  <a:pt x="786" y="528"/>
                </a:lnTo>
                <a:lnTo>
                  <a:pt x="804" y="516"/>
                </a:lnTo>
                <a:lnTo>
                  <a:pt x="816" y="504"/>
                </a:lnTo>
                <a:lnTo>
                  <a:pt x="834" y="492"/>
                </a:lnTo>
                <a:lnTo>
                  <a:pt x="846" y="480"/>
                </a:lnTo>
                <a:lnTo>
                  <a:pt x="864" y="468"/>
                </a:lnTo>
                <a:lnTo>
                  <a:pt x="876" y="456"/>
                </a:lnTo>
                <a:lnTo>
                  <a:pt x="888" y="444"/>
                </a:lnTo>
                <a:lnTo>
                  <a:pt x="900" y="432"/>
                </a:lnTo>
                <a:lnTo>
                  <a:pt x="912" y="420"/>
                </a:lnTo>
                <a:lnTo>
                  <a:pt x="924" y="408"/>
                </a:lnTo>
                <a:lnTo>
                  <a:pt x="936" y="402"/>
                </a:lnTo>
                <a:lnTo>
                  <a:pt x="942" y="390"/>
                </a:lnTo>
                <a:lnTo>
                  <a:pt x="954" y="378"/>
                </a:lnTo>
                <a:lnTo>
                  <a:pt x="966" y="366"/>
                </a:lnTo>
                <a:lnTo>
                  <a:pt x="972" y="354"/>
                </a:lnTo>
                <a:lnTo>
                  <a:pt x="984" y="342"/>
                </a:lnTo>
                <a:lnTo>
                  <a:pt x="990" y="330"/>
                </a:lnTo>
                <a:lnTo>
                  <a:pt x="1002" y="318"/>
                </a:lnTo>
                <a:lnTo>
                  <a:pt x="1008" y="306"/>
                </a:lnTo>
                <a:lnTo>
                  <a:pt x="1014" y="300"/>
                </a:lnTo>
                <a:lnTo>
                  <a:pt x="1026" y="288"/>
                </a:lnTo>
                <a:lnTo>
                  <a:pt x="1032" y="276"/>
                </a:lnTo>
                <a:lnTo>
                  <a:pt x="1038" y="270"/>
                </a:lnTo>
                <a:lnTo>
                  <a:pt x="1044" y="258"/>
                </a:lnTo>
                <a:lnTo>
                  <a:pt x="1050" y="246"/>
                </a:lnTo>
                <a:lnTo>
                  <a:pt x="1062" y="234"/>
                </a:lnTo>
                <a:lnTo>
                  <a:pt x="1068" y="228"/>
                </a:lnTo>
                <a:lnTo>
                  <a:pt x="1074" y="216"/>
                </a:lnTo>
                <a:lnTo>
                  <a:pt x="1080" y="210"/>
                </a:lnTo>
                <a:lnTo>
                  <a:pt x="1086" y="198"/>
                </a:lnTo>
                <a:lnTo>
                  <a:pt x="1092" y="186"/>
                </a:lnTo>
                <a:lnTo>
                  <a:pt x="1098" y="180"/>
                </a:lnTo>
                <a:lnTo>
                  <a:pt x="1104" y="168"/>
                </a:lnTo>
                <a:lnTo>
                  <a:pt x="1110" y="162"/>
                </a:lnTo>
                <a:lnTo>
                  <a:pt x="1116" y="150"/>
                </a:lnTo>
                <a:lnTo>
                  <a:pt x="1122" y="144"/>
                </a:lnTo>
                <a:lnTo>
                  <a:pt x="1128" y="138"/>
                </a:lnTo>
                <a:lnTo>
                  <a:pt x="1128" y="132"/>
                </a:lnTo>
                <a:lnTo>
                  <a:pt x="1134" y="120"/>
                </a:lnTo>
                <a:lnTo>
                  <a:pt x="1140" y="114"/>
                </a:lnTo>
                <a:lnTo>
                  <a:pt x="1146" y="108"/>
                </a:lnTo>
                <a:lnTo>
                  <a:pt x="1152" y="96"/>
                </a:lnTo>
                <a:lnTo>
                  <a:pt x="1158" y="90"/>
                </a:lnTo>
                <a:lnTo>
                  <a:pt x="1158" y="84"/>
                </a:lnTo>
                <a:lnTo>
                  <a:pt x="1164" y="78"/>
                </a:lnTo>
                <a:lnTo>
                  <a:pt x="1170" y="72"/>
                </a:lnTo>
                <a:lnTo>
                  <a:pt x="1176" y="66"/>
                </a:lnTo>
                <a:lnTo>
                  <a:pt x="1182" y="60"/>
                </a:lnTo>
                <a:lnTo>
                  <a:pt x="1182" y="54"/>
                </a:lnTo>
                <a:lnTo>
                  <a:pt x="1188" y="48"/>
                </a:lnTo>
                <a:lnTo>
                  <a:pt x="1200" y="36"/>
                </a:lnTo>
                <a:lnTo>
                  <a:pt x="1194" y="36"/>
                </a:lnTo>
                <a:lnTo>
                  <a:pt x="1200" y="36"/>
                </a:lnTo>
                <a:lnTo>
                  <a:pt x="1206" y="24"/>
                </a:lnTo>
                <a:lnTo>
                  <a:pt x="1212" y="24"/>
                </a:lnTo>
                <a:lnTo>
                  <a:pt x="1218" y="12"/>
                </a:lnTo>
                <a:lnTo>
                  <a:pt x="1224" y="12"/>
                </a:lnTo>
                <a:lnTo>
                  <a:pt x="1230" y="6"/>
                </a:lnTo>
                <a:lnTo>
                  <a:pt x="1236" y="6"/>
                </a:lnTo>
                <a:lnTo>
                  <a:pt x="1242" y="0"/>
                </a:lnTo>
                <a:lnTo>
                  <a:pt x="1248" y="0"/>
                </a:lnTo>
                <a:lnTo>
                  <a:pt x="1254" y="6"/>
                </a:lnTo>
                <a:lnTo>
                  <a:pt x="1260" y="6"/>
                </a:lnTo>
                <a:lnTo>
                  <a:pt x="1266" y="12"/>
                </a:lnTo>
                <a:lnTo>
                  <a:pt x="1272" y="18"/>
                </a:lnTo>
                <a:lnTo>
                  <a:pt x="1278" y="24"/>
                </a:lnTo>
                <a:lnTo>
                  <a:pt x="1290" y="36"/>
                </a:lnTo>
                <a:lnTo>
                  <a:pt x="1290" y="42"/>
                </a:lnTo>
                <a:lnTo>
                  <a:pt x="1296" y="48"/>
                </a:lnTo>
                <a:lnTo>
                  <a:pt x="1296" y="54"/>
                </a:lnTo>
                <a:lnTo>
                  <a:pt x="1302" y="60"/>
                </a:lnTo>
                <a:lnTo>
                  <a:pt x="1302" y="66"/>
                </a:lnTo>
                <a:lnTo>
                  <a:pt x="1308" y="72"/>
                </a:lnTo>
                <a:lnTo>
                  <a:pt x="1308" y="78"/>
                </a:lnTo>
                <a:lnTo>
                  <a:pt x="1320" y="96"/>
                </a:lnTo>
                <a:lnTo>
                  <a:pt x="1320" y="108"/>
                </a:lnTo>
                <a:lnTo>
                  <a:pt x="1326" y="120"/>
                </a:lnTo>
                <a:lnTo>
                  <a:pt x="1332" y="132"/>
                </a:lnTo>
                <a:lnTo>
                  <a:pt x="1338" y="138"/>
                </a:lnTo>
                <a:lnTo>
                  <a:pt x="1338" y="150"/>
                </a:lnTo>
                <a:lnTo>
                  <a:pt x="1344" y="156"/>
                </a:lnTo>
                <a:lnTo>
                  <a:pt x="1350" y="162"/>
                </a:lnTo>
                <a:lnTo>
                  <a:pt x="1350" y="168"/>
                </a:lnTo>
                <a:lnTo>
                  <a:pt x="1356" y="174"/>
                </a:lnTo>
                <a:lnTo>
                  <a:pt x="1356" y="180"/>
                </a:lnTo>
                <a:lnTo>
                  <a:pt x="1362" y="186"/>
                </a:lnTo>
                <a:lnTo>
                  <a:pt x="1362" y="192"/>
                </a:lnTo>
                <a:lnTo>
                  <a:pt x="1374" y="198"/>
                </a:lnTo>
                <a:lnTo>
                  <a:pt x="1374" y="210"/>
                </a:lnTo>
                <a:lnTo>
                  <a:pt x="1380" y="216"/>
                </a:lnTo>
                <a:lnTo>
                  <a:pt x="1386" y="222"/>
                </a:lnTo>
                <a:lnTo>
                  <a:pt x="1392" y="228"/>
                </a:lnTo>
                <a:lnTo>
                  <a:pt x="1398" y="234"/>
                </a:lnTo>
                <a:lnTo>
                  <a:pt x="1404" y="240"/>
                </a:lnTo>
                <a:lnTo>
                  <a:pt x="1410" y="246"/>
                </a:lnTo>
                <a:lnTo>
                  <a:pt x="1416" y="252"/>
                </a:lnTo>
                <a:lnTo>
                  <a:pt x="1422" y="258"/>
                </a:lnTo>
                <a:lnTo>
                  <a:pt x="1428" y="258"/>
                </a:lnTo>
                <a:lnTo>
                  <a:pt x="1434" y="258"/>
                </a:lnTo>
                <a:lnTo>
                  <a:pt x="1440" y="264"/>
                </a:lnTo>
                <a:lnTo>
                  <a:pt x="1446" y="270"/>
                </a:lnTo>
                <a:lnTo>
                  <a:pt x="1452" y="270"/>
                </a:lnTo>
                <a:lnTo>
                  <a:pt x="1458" y="270"/>
                </a:lnTo>
                <a:lnTo>
                  <a:pt x="1464" y="270"/>
                </a:lnTo>
                <a:lnTo>
                  <a:pt x="1470" y="276"/>
                </a:lnTo>
                <a:lnTo>
                  <a:pt x="1476" y="276"/>
                </a:lnTo>
                <a:lnTo>
                  <a:pt x="1482" y="276"/>
                </a:lnTo>
                <a:lnTo>
                  <a:pt x="1488" y="276"/>
                </a:lnTo>
                <a:lnTo>
                  <a:pt x="1494" y="276"/>
                </a:lnTo>
                <a:lnTo>
                  <a:pt x="1500" y="276"/>
                </a:lnTo>
                <a:lnTo>
                  <a:pt x="1506" y="27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792000" y="454644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448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48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400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00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353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53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286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86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5219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448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48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4312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774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762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62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943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076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76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181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81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257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57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39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9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438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38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486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486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486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86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381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515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800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00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98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98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15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115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7219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219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7296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296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7372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372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7429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429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7486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486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83804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3804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143680" y="4048200"/>
            <a:ext cx="2361960" cy="1514520"/>
          </a:xfrm>
          <a:custGeom>
            <a:avLst/>
            <a:gdLst/>
            <a:ahLst/>
            <a:rect l="l" t="t" r="r" b="b"/>
            <a:pathLst>
              <a:path w="1488" h="954">
                <a:moveTo>
                  <a:pt x="0" y="954"/>
                </a:moveTo>
                <a:lnTo>
                  <a:pt x="192" y="948"/>
                </a:lnTo>
                <a:lnTo>
                  <a:pt x="312" y="936"/>
                </a:lnTo>
                <a:lnTo>
                  <a:pt x="390" y="924"/>
                </a:lnTo>
                <a:lnTo>
                  <a:pt x="456" y="918"/>
                </a:lnTo>
                <a:lnTo>
                  <a:pt x="504" y="906"/>
                </a:lnTo>
                <a:lnTo>
                  <a:pt x="552" y="900"/>
                </a:lnTo>
                <a:lnTo>
                  <a:pt x="588" y="888"/>
                </a:lnTo>
                <a:lnTo>
                  <a:pt x="624" y="876"/>
                </a:lnTo>
                <a:lnTo>
                  <a:pt x="654" y="870"/>
                </a:lnTo>
                <a:lnTo>
                  <a:pt x="678" y="858"/>
                </a:lnTo>
                <a:lnTo>
                  <a:pt x="702" y="852"/>
                </a:lnTo>
                <a:lnTo>
                  <a:pt x="726" y="840"/>
                </a:lnTo>
                <a:lnTo>
                  <a:pt x="750" y="828"/>
                </a:lnTo>
                <a:lnTo>
                  <a:pt x="768" y="822"/>
                </a:lnTo>
                <a:lnTo>
                  <a:pt x="786" y="810"/>
                </a:lnTo>
                <a:lnTo>
                  <a:pt x="804" y="804"/>
                </a:lnTo>
                <a:lnTo>
                  <a:pt x="816" y="792"/>
                </a:lnTo>
                <a:lnTo>
                  <a:pt x="834" y="780"/>
                </a:lnTo>
                <a:lnTo>
                  <a:pt x="846" y="774"/>
                </a:lnTo>
                <a:lnTo>
                  <a:pt x="864" y="762"/>
                </a:lnTo>
                <a:lnTo>
                  <a:pt x="876" y="756"/>
                </a:lnTo>
                <a:lnTo>
                  <a:pt x="888" y="744"/>
                </a:lnTo>
                <a:lnTo>
                  <a:pt x="900" y="738"/>
                </a:lnTo>
                <a:lnTo>
                  <a:pt x="912" y="726"/>
                </a:lnTo>
                <a:lnTo>
                  <a:pt x="924" y="720"/>
                </a:lnTo>
                <a:lnTo>
                  <a:pt x="936" y="708"/>
                </a:lnTo>
                <a:lnTo>
                  <a:pt x="942" y="696"/>
                </a:lnTo>
                <a:lnTo>
                  <a:pt x="954" y="690"/>
                </a:lnTo>
                <a:lnTo>
                  <a:pt x="966" y="678"/>
                </a:lnTo>
                <a:lnTo>
                  <a:pt x="972" y="672"/>
                </a:lnTo>
                <a:lnTo>
                  <a:pt x="984" y="660"/>
                </a:lnTo>
                <a:lnTo>
                  <a:pt x="990" y="654"/>
                </a:lnTo>
                <a:lnTo>
                  <a:pt x="1002" y="642"/>
                </a:lnTo>
                <a:lnTo>
                  <a:pt x="1008" y="636"/>
                </a:lnTo>
                <a:lnTo>
                  <a:pt x="1014" y="624"/>
                </a:lnTo>
                <a:lnTo>
                  <a:pt x="1026" y="618"/>
                </a:lnTo>
                <a:lnTo>
                  <a:pt x="1032" y="606"/>
                </a:lnTo>
                <a:lnTo>
                  <a:pt x="1038" y="600"/>
                </a:lnTo>
                <a:lnTo>
                  <a:pt x="1044" y="588"/>
                </a:lnTo>
                <a:lnTo>
                  <a:pt x="1050" y="582"/>
                </a:lnTo>
                <a:lnTo>
                  <a:pt x="1062" y="570"/>
                </a:lnTo>
                <a:lnTo>
                  <a:pt x="1068" y="564"/>
                </a:lnTo>
                <a:lnTo>
                  <a:pt x="1074" y="552"/>
                </a:lnTo>
                <a:lnTo>
                  <a:pt x="1080" y="546"/>
                </a:lnTo>
                <a:lnTo>
                  <a:pt x="1086" y="540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0"/>
                </a:lnTo>
                <a:lnTo>
                  <a:pt x="1110" y="504"/>
                </a:lnTo>
                <a:lnTo>
                  <a:pt x="1116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28" y="468"/>
                </a:lnTo>
                <a:lnTo>
                  <a:pt x="1134" y="462"/>
                </a:lnTo>
                <a:lnTo>
                  <a:pt x="1140" y="450"/>
                </a:lnTo>
                <a:lnTo>
                  <a:pt x="1146" y="444"/>
                </a:lnTo>
                <a:lnTo>
                  <a:pt x="1152" y="438"/>
                </a:lnTo>
                <a:lnTo>
                  <a:pt x="1158" y="426"/>
                </a:lnTo>
                <a:lnTo>
                  <a:pt x="1158" y="420"/>
                </a:lnTo>
                <a:lnTo>
                  <a:pt x="1164" y="414"/>
                </a:lnTo>
                <a:lnTo>
                  <a:pt x="1170" y="402"/>
                </a:lnTo>
                <a:lnTo>
                  <a:pt x="1176" y="396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2"/>
                </a:lnTo>
                <a:lnTo>
                  <a:pt x="1194" y="366"/>
                </a:lnTo>
                <a:lnTo>
                  <a:pt x="1194" y="360"/>
                </a:lnTo>
                <a:lnTo>
                  <a:pt x="1200" y="354"/>
                </a:lnTo>
                <a:lnTo>
                  <a:pt x="1206" y="348"/>
                </a:lnTo>
                <a:lnTo>
                  <a:pt x="1206" y="342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12"/>
                </a:lnTo>
                <a:lnTo>
                  <a:pt x="1230" y="306"/>
                </a:lnTo>
                <a:lnTo>
                  <a:pt x="1230" y="300"/>
                </a:lnTo>
                <a:lnTo>
                  <a:pt x="1236" y="294"/>
                </a:lnTo>
                <a:lnTo>
                  <a:pt x="1236" y="282"/>
                </a:lnTo>
                <a:lnTo>
                  <a:pt x="1242" y="276"/>
                </a:lnTo>
                <a:lnTo>
                  <a:pt x="1248" y="270"/>
                </a:lnTo>
                <a:lnTo>
                  <a:pt x="1248" y="264"/>
                </a:lnTo>
                <a:lnTo>
                  <a:pt x="1254" y="258"/>
                </a:lnTo>
                <a:lnTo>
                  <a:pt x="1254" y="252"/>
                </a:lnTo>
                <a:lnTo>
                  <a:pt x="1260" y="246"/>
                </a:lnTo>
                <a:lnTo>
                  <a:pt x="1266" y="240"/>
                </a:lnTo>
                <a:lnTo>
                  <a:pt x="1266" y="234"/>
                </a:lnTo>
                <a:lnTo>
                  <a:pt x="1272" y="228"/>
                </a:lnTo>
                <a:lnTo>
                  <a:pt x="1272" y="222"/>
                </a:lnTo>
                <a:lnTo>
                  <a:pt x="1278" y="216"/>
                </a:lnTo>
                <a:lnTo>
                  <a:pt x="1284" y="210"/>
                </a:lnTo>
                <a:lnTo>
                  <a:pt x="1284" y="204"/>
                </a:lnTo>
                <a:lnTo>
                  <a:pt x="1290" y="198"/>
                </a:lnTo>
                <a:lnTo>
                  <a:pt x="1290" y="192"/>
                </a:lnTo>
                <a:lnTo>
                  <a:pt x="1302" y="180"/>
                </a:lnTo>
                <a:lnTo>
                  <a:pt x="1302" y="174"/>
                </a:lnTo>
                <a:lnTo>
                  <a:pt x="1314" y="162"/>
                </a:lnTo>
                <a:lnTo>
                  <a:pt x="1314" y="156"/>
                </a:lnTo>
                <a:lnTo>
                  <a:pt x="1320" y="150"/>
                </a:lnTo>
                <a:lnTo>
                  <a:pt x="1320" y="144"/>
                </a:lnTo>
                <a:lnTo>
                  <a:pt x="1326" y="138"/>
                </a:lnTo>
                <a:lnTo>
                  <a:pt x="1338" y="126"/>
                </a:lnTo>
                <a:lnTo>
                  <a:pt x="1338" y="120"/>
                </a:lnTo>
                <a:lnTo>
                  <a:pt x="1344" y="114"/>
                </a:lnTo>
                <a:lnTo>
                  <a:pt x="1350" y="108"/>
                </a:lnTo>
                <a:lnTo>
                  <a:pt x="1362" y="96"/>
                </a:lnTo>
                <a:lnTo>
                  <a:pt x="1362" y="90"/>
                </a:lnTo>
                <a:lnTo>
                  <a:pt x="1368" y="84"/>
                </a:lnTo>
                <a:lnTo>
                  <a:pt x="1374" y="78"/>
                </a:lnTo>
                <a:lnTo>
                  <a:pt x="1380" y="72"/>
                </a:lnTo>
                <a:lnTo>
                  <a:pt x="1386" y="66"/>
                </a:lnTo>
                <a:lnTo>
                  <a:pt x="1392" y="60"/>
                </a:lnTo>
                <a:lnTo>
                  <a:pt x="1398" y="54"/>
                </a:lnTo>
                <a:lnTo>
                  <a:pt x="1404" y="48"/>
                </a:lnTo>
                <a:lnTo>
                  <a:pt x="1410" y="48"/>
                </a:lnTo>
                <a:lnTo>
                  <a:pt x="1416" y="42"/>
                </a:lnTo>
                <a:lnTo>
                  <a:pt x="1422" y="36"/>
                </a:lnTo>
                <a:lnTo>
                  <a:pt x="1428" y="30"/>
                </a:lnTo>
                <a:lnTo>
                  <a:pt x="1434" y="30"/>
                </a:lnTo>
                <a:lnTo>
                  <a:pt x="1440" y="24"/>
                </a:lnTo>
                <a:lnTo>
                  <a:pt x="1446" y="18"/>
                </a:lnTo>
                <a:lnTo>
                  <a:pt x="1452" y="18"/>
                </a:lnTo>
                <a:lnTo>
                  <a:pt x="1458" y="12"/>
                </a:lnTo>
                <a:lnTo>
                  <a:pt x="1464" y="6"/>
                </a:lnTo>
                <a:lnTo>
                  <a:pt x="1470" y="6"/>
                </a:lnTo>
                <a:lnTo>
                  <a:pt x="1476" y="6"/>
                </a:lnTo>
                <a:lnTo>
                  <a:pt x="1482" y="0"/>
                </a:lnTo>
                <a:lnTo>
                  <a:pt x="148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505640" y="4038480"/>
            <a:ext cx="2880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143680" y="4591080"/>
            <a:ext cx="2390760" cy="971640"/>
          </a:xfrm>
          <a:custGeom>
            <a:avLst/>
            <a:gdLst/>
            <a:ahLst/>
            <a:rect l="l" t="t" r="r" b="b"/>
            <a:pathLst>
              <a:path w="1506" h="612">
                <a:moveTo>
                  <a:pt x="0" y="612"/>
                </a:moveTo>
                <a:lnTo>
                  <a:pt x="192" y="606"/>
                </a:lnTo>
                <a:lnTo>
                  <a:pt x="312" y="594"/>
                </a:lnTo>
                <a:lnTo>
                  <a:pt x="390" y="582"/>
                </a:lnTo>
                <a:lnTo>
                  <a:pt x="456" y="576"/>
                </a:lnTo>
                <a:lnTo>
                  <a:pt x="504" y="564"/>
                </a:lnTo>
                <a:lnTo>
                  <a:pt x="552" y="552"/>
                </a:lnTo>
                <a:lnTo>
                  <a:pt x="588" y="546"/>
                </a:lnTo>
                <a:lnTo>
                  <a:pt x="624" y="534"/>
                </a:lnTo>
                <a:lnTo>
                  <a:pt x="654" y="528"/>
                </a:lnTo>
                <a:lnTo>
                  <a:pt x="678" y="516"/>
                </a:lnTo>
                <a:lnTo>
                  <a:pt x="702" y="504"/>
                </a:lnTo>
                <a:lnTo>
                  <a:pt x="726" y="498"/>
                </a:lnTo>
                <a:lnTo>
                  <a:pt x="750" y="486"/>
                </a:lnTo>
                <a:lnTo>
                  <a:pt x="768" y="474"/>
                </a:lnTo>
                <a:lnTo>
                  <a:pt x="786" y="468"/>
                </a:lnTo>
                <a:lnTo>
                  <a:pt x="804" y="456"/>
                </a:lnTo>
                <a:lnTo>
                  <a:pt x="816" y="450"/>
                </a:lnTo>
                <a:lnTo>
                  <a:pt x="834" y="438"/>
                </a:lnTo>
                <a:lnTo>
                  <a:pt x="846" y="432"/>
                </a:lnTo>
                <a:lnTo>
                  <a:pt x="864" y="420"/>
                </a:lnTo>
                <a:lnTo>
                  <a:pt x="876" y="408"/>
                </a:lnTo>
                <a:lnTo>
                  <a:pt x="888" y="402"/>
                </a:lnTo>
                <a:lnTo>
                  <a:pt x="900" y="390"/>
                </a:lnTo>
                <a:lnTo>
                  <a:pt x="912" y="384"/>
                </a:lnTo>
                <a:lnTo>
                  <a:pt x="924" y="372"/>
                </a:lnTo>
                <a:lnTo>
                  <a:pt x="936" y="366"/>
                </a:lnTo>
                <a:lnTo>
                  <a:pt x="942" y="354"/>
                </a:lnTo>
                <a:lnTo>
                  <a:pt x="954" y="348"/>
                </a:lnTo>
                <a:lnTo>
                  <a:pt x="966" y="336"/>
                </a:lnTo>
                <a:lnTo>
                  <a:pt x="972" y="330"/>
                </a:lnTo>
                <a:lnTo>
                  <a:pt x="984" y="318"/>
                </a:lnTo>
                <a:lnTo>
                  <a:pt x="990" y="312"/>
                </a:lnTo>
                <a:lnTo>
                  <a:pt x="1002" y="306"/>
                </a:lnTo>
                <a:lnTo>
                  <a:pt x="1008" y="294"/>
                </a:lnTo>
                <a:lnTo>
                  <a:pt x="1014" y="288"/>
                </a:lnTo>
                <a:lnTo>
                  <a:pt x="1026" y="276"/>
                </a:lnTo>
                <a:lnTo>
                  <a:pt x="1032" y="270"/>
                </a:lnTo>
                <a:lnTo>
                  <a:pt x="1038" y="258"/>
                </a:lnTo>
                <a:lnTo>
                  <a:pt x="1044" y="252"/>
                </a:lnTo>
                <a:lnTo>
                  <a:pt x="1050" y="246"/>
                </a:lnTo>
                <a:lnTo>
                  <a:pt x="1062" y="234"/>
                </a:lnTo>
                <a:lnTo>
                  <a:pt x="1068" y="228"/>
                </a:lnTo>
                <a:lnTo>
                  <a:pt x="1074" y="222"/>
                </a:lnTo>
                <a:lnTo>
                  <a:pt x="1080" y="210"/>
                </a:lnTo>
                <a:lnTo>
                  <a:pt x="1086" y="204"/>
                </a:lnTo>
                <a:lnTo>
                  <a:pt x="1092" y="198"/>
                </a:lnTo>
                <a:lnTo>
                  <a:pt x="1098" y="186"/>
                </a:lnTo>
                <a:lnTo>
                  <a:pt x="1104" y="180"/>
                </a:lnTo>
                <a:lnTo>
                  <a:pt x="1110" y="174"/>
                </a:lnTo>
                <a:lnTo>
                  <a:pt x="1116" y="168"/>
                </a:lnTo>
                <a:lnTo>
                  <a:pt x="1122" y="156"/>
                </a:lnTo>
                <a:lnTo>
                  <a:pt x="1128" y="150"/>
                </a:lnTo>
                <a:lnTo>
                  <a:pt x="1128" y="144"/>
                </a:lnTo>
                <a:lnTo>
                  <a:pt x="1134" y="138"/>
                </a:lnTo>
                <a:lnTo>
                  <a:pt x="1140" y="132"/>
                </a:lnTo>
                <a:lnTo>
                  <a:pt x="1146" y="126"/>
                </a:lnTo>
                <a:lnTo>
                  <a:pt x="1152" y="114"/>
                </a:lnTo>
                <a:lnTo>
                  <a:pt x="1158" y="108"/>
                </a:lnTo>
                <a:lnTo>
                  <a:pt x="1158" y="102"/>
                </a:lnTo>
                <a:lnTo>
                  <a:pt x="1164" y="96"/>
                </a:lnTo>
                <a:lnTo>
                  <a:pt x="1170" y="90"/>
                </a:lnTo>
                <a:lnTo>
                  <a:pt x="1176" y="84"/>
                </a:lnTo>
                <a:lnTo>
                  <a:pt x="1182" y="78"/>
                </a:lnTo>
                <a:lnTo>
                  <a:pt x="1182" y="72"/>
                </a:lnTo>
                <a:lnTo>
                  <a:pt x="1194" y="66"/>
                </a:lnTo>
                <a:lnTo>
                  <a:pt x="1194" y="60"/>
                </a:lnTo>
                <a:lnTo>
                  <a:pt x="1200" y="54"/>
                </a:lnTo>
                <a:lnTo>
                  <a:pt x="1212" y="42"/>
                </a:lnTo>
                <a:lnTo>
                  <a:pt x="1206" y="42"/>
                </a:lnTo>
                <a:lnTo>
                  <a:pt x="1212" y="42"/>
                </a:lnTo>
                <a:lnTo>
                  <a:pt x="1224" y="30"/>
                </a:lnTo>
                <a:lnTo>
                  <a:pt x="1218" y="30"/>
                </a:lnTo>
                <a:lnTo>
                  <a:pt x="1224" y="30"/>
                </a:lnTo>
                <a:lnTo>
                  <a:pt x="1230" y="24"/>
                </a:lnTo>
                <a:lnTo>
                  <a:pt x="1236" y="18"/>
                </a:lnTo>
                <a:lnTo>
                  <a:pt x="1242" y="12"/>
                </a:lnTo>
                <a:lnTo>
                  <a:pt x="1248" y="12"/>
                </a:lnTo>
                <a:lnTo>
                  <a:pt x="1254" y="6"/>
                </a:lnTo>
                <a:lnTo>
                  <a:pt x="1260" y="6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6"/>
                </a:lnTo>
                <a:lnTo>
                  <a:pt x="1290" y="6"/>
                </a:lnTo>
                <a:lnTo>
                  <a:pt x="1296" y="12"/>
                </a:lnTo>
                <a:lnTo>
                  <a:pt x="1302" y="12"/>
                </a:lnTo>
                <a:lnTo>
                  <a:pt x="1308" y="18"/>
                </a:lnTo>
                <a:lnTo>
                  <a:pt x="1314" y="24"/>
                </a:lnTo>
                <a:lnTo>
                  <a:pt x="1320" y="30"/>
                </a:lnTo>
                <a:lnTo>
                  <a:pt x="1326" y="36"/>
                </a:lnTo>
                <a:lnTo>
                  <a:pt x="1332" y="42"/>
                </a:lnTo>
                <a:lnTo>
                  <a:pt x="1338" y="48"/>
                </a:lnTo>
                <a:lnTo>
                  <a:pt x="1344" y="54"/>
                </a:lnTo>
                <a:lnTo>
                  <a:pt x="1350" y="60"/>
                </a:lnTo>
                <a:lnTo>
                  <a:pt x="1356" y="66"/>
                </a:lnTo>
                <a:lnTo>
                  <a:pt x="1362" y="72"/>
                </a:lnTo>
                <a:lnTo>
                  <a:pt x="1368" y="72"/>
                </a:lnTo>
                <a:lnTo>
                  <a:pt x="1374" y="78"/>
                </a:lnTo>
                <a:lnTo>
                  <a:pt x="1380" y="84"/>
                </a:lnTo>
                <a:lnTo>
                  <a:pt x="1386" y="84"/>
                </a:lnTo>
                <a:lnTo>
                  <a:pt x="1392" y="90"/>
                </a:lnTo>
                <a:lnTo>
                  <a:pt x="1398" y="90"/>
                </a:lnTo>
                <a:lnTo>
                  <a:pt x="1404" y="96"/>
                </a:lnTo>
                <a:lnTo>
                  <a:pt x="1410" y="96"/>
                </a:lnTo>
                <a:lnTo>
                  <a:pt x="1416" y="96"/>
                </a:lnTo>
                <a:lnTo>
                  <a:pt x="1422" y="102"/>
                </a:lnTo>
                <a:lnTo>
                  <a:pt x="1428" y="102"/>
                </a:lnTo>
                <a:lnTo>
                  <a:pt x="1434" y="102"/>
                </a:lnTo>
                <a:lnTo>
                  <a:pt x="1440" y="102"/>
                </a:lnTo>
                <a:lnTo>
                  <a:pt x="1446" y="102"/>
                </a:lnTo>
                <a:lnTo>
                  <a:pt x="1452" y="102"/>
                </a:lnTo>
                <a:lnTo>
                  <a:pt x="1458" y="102"/>
                </a:lnTo>
                <a:lnTo>
                  <a:pt x="1464" y="108"/>
                </a:lnTo>
                <a:lnTo>
                  <a:pt x="1470" y="108"/>
                </a:lnTo>
                <a:lnTo>
                  <a:pt x="1476" y="102"/>
                </a:lnTo>
                <a:lnTo>
                  <a:pt x="1482" y="102"/>
                </a:lnTo>
                <a:lnTo>
                  <a:pt x="1488" y="102"/>
                </a:lnTo>
                <a:lnTo>
                  <a:pt x="1494" y="102"/>
                </a:lnTo>
                <a:lnTo>
                  <a:pt x="1500" y="102"/>
                </a:lnTo>
                <a:lnTo>
                  <a:pt x="1506" y="10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4134240" y="454968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92320" y="22860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 flipV="1">
            <a:off x="2171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>
            <a:off x="2171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 flipV="1">
            <a:off x="2124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2124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 flipV="1">
            <a:off x="20764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20764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 flipV="1">
            <a:off x="2009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2009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 flipV="1">
            <a:off x="1943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1943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 flipV="1">
            <a:off x="21718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21718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20664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22006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 flipV="1">
            <a:off x="2486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2486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 flipV="1">
            <a:off x="2666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2666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 flipV="1">
            <a:off x="2800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2800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 flipV="1">
            <a:off x="2905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2905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 flipV="1">
            <a:off x="29811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29811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 flipV="1">
            <a:off x="3114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3114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 flipV="1">
            <a:off x="3162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3162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 flipV="1">
            <a:off x="3209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3209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 flipV="1">
            <a:off x="32097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32097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31046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3238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 flipV="1">
            <a:off x="3524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3524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 flipV="1">
            <a:off x="37051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37051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 flipV="1">
            <a:off x="3838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3838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 flipV="1">
            <a:off x="3943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3943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 flipV="1">
            <a:off x="4019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4019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V="1">
            <a:off x="4095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>
            <a:off x="4095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 flipV="1">
            <a:off x="4152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4152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 flipV="1">
            <a:off x="4210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4210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1761840" y="259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1695240" y="22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169524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1695240" y="133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1884240" y="2666880"/>
            <a:ext cx="2373480" cy="76320"/>
          </a:xfrm>
          <a:custGeom>
            <a:avLst/>
            <a:gdLst/>
            <a:ahLst/>
            <a:rect l="l" t="t" r="r" b="b"/>
            <a:pathLst>
              <a:path w="1314" h="0">
                <a:moveTo>
                  <a:pt x="0" y="0"/>
                </a:moveTo>
                <a:lnTo>
                  <a:pt x="120" y="0"/>
                </a:lnTo>
                <a:lnTo>
                  <a:pt x="198" y="0"/>
                </a:lnTo>
                <a:lnTo>
                  <a:pt x="264" y="0"/>
                </a:lnTo>
                <a:lnTo>
                  <a:pt x="312" y="0"/>
                </a:lnTo>
                <a:lnTo>
                  <a:pt x="360" y="0"/>
                </a:lnTo>
                <a:lnTo>
                  <a:pt x="396" y="0"/>
                </a:lnTo>
                <a:lnTo>
                  <a:pt x="432" y="0"/>
                </a:lnTo>
                <a:lnTo>
                  <a:pt x="462" y="0"/>
                </a:lnTo>
                <a:lnTo>
                  <a:pt x="486" y="0"/>
                </a:lnTo>
                <a:lnTo>
                  <a:pt x="510" y="0"/>
                </a:lnTo>
                <a:lnTo>
                  <a:pt x="534" y="0"/>
                </a:lnTo>
                <a:lnTo>
                  <a:pt x="558" y="0"/>
                </a:lnTo>
                <a:lnTo>
                  <a:pt x="576" y="0"/>
                </a:lnTo>
                <a:lnTo>
                  <a:pt x="594" y="0"/>
                </a:lnTo>
                <a:lnTo>
                  <a:pt x="612" y="0"/>
                </a:lnTo>
                <a:lnTo>
                  <a:pt x="624" y="0"/>
                </a:lnTo>
                <a:lnTo>
                  <a:pt x="642" y="0"/>
                </a:lnTo>
                <a:lnTo>
                  <a:pt x="654" y="0"/>
                </a:lnTo>
                <a:lnTo>
                  <a:pt x="672" y="0"/>
                </a:lnTo>
                <a:lnTo>
                  <a:pt x="684" y="0"/>
                </a:lnTo>
                <a:lnTo>
                  <a:pt x="696" y="0"/>
                </a:lnTo>
                <a:lnTo>
                  <a:pt x="708" y="0"/>
                </a:lnTo>
                <a:lnTo>
                  <a:pt x="720" y="0"/>
                </a:lnTo>
                <a:lnTo>
                  <a:pt x="732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10" y="0"/>
                </a:lnTo>
                <a:lnTo>
                  <a:pt x="816" y="0"/>
                </a:lnTo>
                <a:lnTo>
                  <a:pt x="822" y="0"/>
                </a:lnTo>
                <a:lnTo>
                  <a:pt x="834" y="0"/>
                </a:lnTo>
                <a:lnTo>
                  <a:pt x="840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70" y="0"/>
                </a:lnTo>
                <a:lnTo>
                  <a:pt x="876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  <a:lnTo>
                  <a:pt x="960" y="0"/>
                </a:lnTo>
                <a:lnTo>
                  <a:pt x="966" y="0"/>
                </a:lnTo>
                <a:lnTo>
                  <a:pt x="972" y="0"/>
                </a:lnTo>
                <a:lnTo>
                  <a:pt x="978" y="0"/>
                </a:lnTo>
                <a:lnTo>
                  <a:pt x="984" y="0"/>
                </a:lnTo>
                <a:lnTo>
                  <a:pt x="990" y="0"/>
                </a:lnTo>
                <a:lnTo>
                  <a:pt x="996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0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56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2171880" y="1276200"/>
            <a:ext cx="1952280" cy="1390680"/>
          </a:xfrm>
          <a:custGeom>
            <a:avLst/>
            <a:gdLst/>
            <a:ahLst/>
            <a:rect l="l" t="t" r="r" b="b"/>
            <a:pathLst>
              <a:path w="1230" h="876">
                <a:moveTo>
                  <a:pt x="0" y="876"/>
                </a:moveTo>
                <a:lnTo>
                  <a:pt x="120" y="876"/>
                </a:lnTo>
                <a:lnTo>
                  <a:pt x="198" y="876"/>
                </a:lnTo>
                <a:lnTo>
                  <a:pt x="264" y="876"/>
                </a:lnTo>
                <a:lnTo>
                  <a:pt x="312" y="876"/>
                </a:lnTo>
                <a:lnTo>
                  <a:pt x="360" y="876"/>
                </a:lnTo>
                <a:lnTo>
                  <a:pt x="396" y="876"/>
                </a:lnTo>
                <a:lnTo>
                  <a:pt x="432" y="876"/>
                </a:lnTo>
                <a:lnTo>
                  <a:pt x="462" y="876"/>
                </a:lnTo>
                <a:lnTo>
                  <a:pt x="486" y="876"/>
                </a:lnTo>
                <a:lnTo>
                  <a:pt x="510" y="876"/>
                </a:lnTo>
                <a:lnTo>
                  <a:pt x="534" y="876"/>
                </a:lnTo>
                <a:lnTo>
                  <a:pt x="558" y="876"/>
                </a:lnTo>
                <a:lnTo>
                  <a:pt x="576" y="876"/>
                </a:lnTo>
                <a:lnTo>
                  <a:pt x="594" y="876"/>
                </a:lnTo>
                <a:lnTo>
                  <a:pt x="612" y="876"/>
                </a:lnTo>
                <a:lnTo>
                  <a:pt x="624" y="876"/>
                </a:lnTo>
                <a:lnTo>
                  <a:pt x="642" y="876"/>
                </a:lnTo>
                <a:lnTo>
                  <a:pt x="654" y="876"/>
                </a:lnTo>
                <a:lnTo>
                  <a:pt x="672" y="876"/>
                </a:lnTo>
                <a:lnTo>
                  <a:pt x="684" y="876"/>
                </a:lnTo>
                <a:lnTo>
                  <a:pt x="696" y="876"/>
                </a:lnTo>
                <a:lnTo>
                  <a:pt x="708" y="876"/>
                </a:lnTo>
                <a:lnTo>
                  <a:pt x="720" y="876"/>
                </a:lnTo>
                <a:lnTo>
                  <a:pt x="732" y="876"/>
                </a:lnTo>
                <a:lnTo>
                  <a:pt x="744" y="876"/>
                </a:lnTo>
                <a:lnTo>
                  <a:pt x="750" y="876"/>
                </a:lnTo>
                <a:lnTo>
                  <a:pt x="762" y="876"/>
                </a:lnTo>
                <a:lnTo>
                  <a:pt x="774" y="876"/>
                </a:lnTo>
                <a:lnTo>
                  <a:pt x="780" y="876"/>
                </a:lnTo>
                <a:lnTo>
                  <a:pt x="792" y="870"/>
                </a:lnTo>
                <a:lnTo>
                  <a:pt x="798" y="870"/>
                </a:lnTo>
                <a:lnTo>
                  <a:pt x="810" y="870"/>
                </a:lnTo>
                <a:lnTo>
                  <a:pt x="816" y="870"/>
                </a:lnTo>
                <a:lnTo>
                  <a:pt x="822" y="870"/>
                </a:lnTo>
                <a:lnTo>
                  <a:pt x="834" y="870"/>
                </a:lnTo>
                <a:lnTo>
                  <a:pt x="840" y="870"/>
                </a:lnTo>
                <a:lnTo>
                  <a:pt x="846" y="870"/>
                </a:lnTo>
                <a:lnTo>
                  <a:pt x="852" y="870"/>
                </a:lnTo>
                <a:lnTo>
                  <a:pt x="858" y="870"/>
                </a:lnTo>
                <a:lnTo>
                  <a:pt x="870" y="870"/>
                </a:lnTo>
                <a:lnTo>
                  <a:pt x="876" y="870"/>
                </a:lnTo>
                <a:lnTo>
                  <a:pt x="882" y="864"/>
                </a:lnTo>
                <a:lnTo>
                  <a:pt x="888" y="864"/>
                </a:lnTo>
                <a:lnTo>
                  <a:pt x="894" y="864"/>
                </a:lnTo>
                <a:lnTo>
                  <a:pt x="900" y="864"/>
                </a:lnTo>
                <a:lnTo>
                  <a:pt x="906" y="864"/>
                </a:lnTo>
                <a:lnTo>
                  <a:pt x="912" y="864"/>
                </a:lnTo>
                <a:lnTo>
                  <a:pt x="918" y="864"/>
                </a:lnTo>
                <a:lnTo>
                  <a:pt x="924" y="858"/>
                </a:lnTo>
                <a:lnTo>
                  <a:pt x="930" y="858"/>
                </a:lnTo>
                <a:lnTo>
                  <a:pt x="936" y="858"/>
                </a:lnTo>
                <a:lnTo>
                  <a:pt x="942" y="858"/>
                </a:lnTo>
                <a:lnTo>
                  <a:pt x="948" y="852"/>
                </a:lnTo>
                <a:lnTo>
                  <a:pt x="954" y="852"/>
                </a:lnTo>
                <a:lnTo>
                  <a:pt x="960" y="852"/>
                </a:lnTo>
                <a:lnTo>
                  <a:pt x="966" y="852"/>
                </a:lnTo>
                <a:lnTo>
                  <a:pt x="972" y="846"/>
                </a:lnTo>
                <a:lnTo>
                  <a:pt x="978" y="846"/>
                </a:lnTo>
                <a:lnTo>
                  <a:pt x="984" y="846"/>
                </a:lnTo>
                <a:lnTo>
                  <a:pt x="990" y="840"/>
                </a:lnTo>
                <a:lnTo>
                  <a:pt x="996" y="840"/>
                </a:lnTo>
                <a:lnTo>
                  <a:pt x="1002" y="834"/>
                </a:lnTo>
                <a:lnTo>
                  <a:pt x="1008" y="834"/>
                </a:lnTo>
                <a:lnTo>
                  <a:pt x="1014" y="828"/>
                </a:lnTo>
                <a:lnTo>
                  <a:pt x="1020" y="822"/>
                </a:lnTo>
                <a:lnTo>
                  <a:pt x="1026" y="816"/>
                </a:lnTo>
                <a:lnTo>
                  <a:pt x="1032" y="816"/>
                </a:lnTo>
                <a:lnTo>
                  <a:pt x="1038" y="810"/>
                </a:lnTo>
                <a:lnTo>
                  <a:pt x="1044" y="804"/>
                </a:lnTo>
                <a:lnTo>
                  <a:pt x="1050" y="798"/>
                </a:lnTo>
                <a:lnTo>
                  <a:pt x="1056" y="786"/>
                </a:lnTo>
                <a:lnTo>
                  <a:pt x="1062" y="780"/>
                </a:lnTo>
                <a:lnTo>
                  <a:pt x="1068" y="774"/>
                </a:lnTo>
                <a:lnTo>
                  <a:pt x="1074" y="768"/>
                </a:lnTo>
                <a:lnTo>
                  <a:pt x="1074" y="762"/>
                </a:lnTo>
                <a:lnTo>
                  <a:pt x="1080" y="756"/>
                </a:lnTo>
                <a:lnTo>
                  <a:pt x="1080" y="750"/>
                </a:lnTo>
                <a:lnTo>
                  <a:pt x="1086" y="744"/>
                </a:lnTo>
                <a:lnTo>
                  <a:pt x="1086" y="738"/>
                </a:lnTo>
                <a:lnTo>
                  <a:pt x="1092" y="732"/>
                </a:lnTo>
                <a:lnTo>
                  <a:pt x="1092" y="720"/>
                </a:lnTo>
                <a:lnTo>
                  <a:pt x="1098" y="714"/>
                </a:lnTo>
                <a:lnTo>
                  <a:pt x="1098" y="702"/>
                </a:lnTo>
                <a:lnTo>
                  <a:pt x="1104" y="696"/>
                </a:lnTo>
                <a:lnTo>
                  <a:pt x="1104" y="684"/>
                </a:lnTo>
                <a:lnTo>
                  <a:pt x="1110" y="672"/>
                </a:lnTo>
                <a:lnTo>
                  <a:pt x="1110" y="660"/>
                </a:lnTo>
                <a:lnTo>
                  <a:pt x="1116" y="648"/>
                </a:lnTo>
                <a:lnTo>
                  <a:pt x="1116" y="636"/>
                </a:lnTo>
                <a:lnTo>
                  <a:pt x="1122" y="624"/>
                </a:lnTo>
                <a:lnTo>
                  <a:pt x="1122" y="606"/>
                </a:lnTo>
                <a:lnTo>
                  <a:pt x="1128" y="588"/>
                </a:lnTo>
                <a:lnTo>
                  <a:pt x="1128" y="552"/>
                </a:lnTo>
                <a:lnTo>
                  <a:pt x="1134" y="534"/>
                </a:lnTo>
                <a:lnTo>
                  <a:pt x="1134" y="510"/>
                </a:lnTo>
                <a:lnTo>
                  <a:pt x="1140" y="486"/>
                </a:lnTo>
                <a:lnTo>
                  <a:pt x="1140" y="462"/>
                </a:lnTo>
                <a:lnTo>
                  <a:pt x="1146" y="438"/>
                </a:lnTo>
                <a:lnTo>
                  <a:pt x="1146" y="378"/>
                </a:lnTo>
                <a:lnTo>
                  <a:pt x="1152" y="342"/>
                </a:lnTo>
                <a:lnTo>
                  <a:pt x="1152" y="312"/>
                </a:lnTo>
                <a:lnTo>
                  <a:pt x="1158" y="276"/>
                </a:lnTo>
                <a:lnTo>
                  <a:pt x="1158" y="240"/>
                </a:lnTo>
                <a:lnTo>
                  <a:pt x="1164" y="204"/>
                </a:lnTo>
                <a:lnTo>
                  <a:pt x="1164" y="132"/>
                </a:lnTo>
                <a:lnTo>
                  <a:pt x="1170" y="102"/>
                </a:lnTo>
                <a:lnTo>
                  <a:pt x="1170" y="48"/>
                </a:lnTo>
                <a:lnTo>
                  <a:pt x="1176" y="24"/>
                </a:lnTo>
                <a:lnTo>
                  <a:pt x="1176" y="12"/>
                </a:lnTo>
                <a:lnTo>
                  <a:pt x="1182" y="0"/>
                </a:lnTo>
                <a:lnTo>
                  <a:pt x="1182" y="6"/>
                </a:lnTo>
                <a:lnTo>
                  <a:pt x="1188" y="12"/>
                </a:lnTo>
                <a:lnTo>
                  <a:pt x="1188" y="36"/>
                </a:lnTo>
                <a:lnTo>
                  <a:pt x="1194" y="54"/>
                </a:lnTo>
                <a:lnTo>
                  <a:pt x="1194" y="72"/>
                </a:lnTo>
                <a:lnTo>
                  <a:pt x="1200" y="96"/>
                </a:lnTo>
                <a:lnTo>
                  <a:pt x="1200" y="138"/>
                </a:lnTo>
                <a:lnTo>
                  <a:pt x="1206" y="156"/>
                </a:lnTo>
                <a:lnTo>
                  <a:pt x="1206" y="198"/>
                </a:lnTo>
                <a:lnTo>
                  <a:pt x="1212" y="216"/>
                </a:lnTo>
                <a:lnTo>
                  <a:pt x="1212" y="258"/>
                </a:lnTo>
                <a:lnTo>
                  <a:pt x="1218" y="276"/>
                </a:lnTo>
                <a:lnTo>
                  <a:pt x="1218" y="306"/>
                </a:lnTo>
                <a:lnTo>
                  <a:pt x="1224" y="324"/>
                </a:lnTo>
                <a:lnTo>
                  <a:pt x="1224" y="360"/>
                </a:lnTo>
                <a:lnTo>
                  <a:pt x="1230" y="372"/>
                </a:lnTo>
                <a:lnTo>
                  <a:pt x="1230" y="4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4124160" y="1943280"/>
            <a:ext cx="133560" cy="628560"/>
          </a:xfrm>
          <a:custGeom>
            <a:avLst/>
            <a:gdLst/>
            <a:ahLst/>
            <a:rect l="l" t="t" r="r" b="b"/>
            <a:pathLst>
              <a:path w="84" h="396">
                <a:moveTo>
                  <a:pt x="0" y="0"/>
                </a:moveTo>
                <a:lnTo>
                  <a:pt x="6" y="12"/>
                </a:lnTo>
                <a:lnTo>
                  <a:pt x="6" y="36"/>
                </a:lnTo>
                <a:lnTo>
                  <a:pt x="12" y="48"/>
                </a:lnTo>
                <a:lnTo>
                  <a:pt x="12" y="78"/>
                </a:lnTo>
                <a:lnTo>
                  <a:pt x="18" y="84"/>
                </a:lnTo>
                <a:lnTo>
                  <a:pt x="18" y="108"/>
                </a:lnTo>
                <a:lnTo>
                  <a:pt x="24" y="120"/>
                </a:lnTo>
                <a:lnTo>
                  <a:pt x="24" y="150"/>
                </a:lnTo>
                <a:lnTo>
                  <a:pt x="30" y="162"/>
                </a:lnTo>
                <a:lnTo>
                  <a:pt x="30" y="180"/>
                </a:lnTo>
                <a:lnTo>
                  <a:pt x="36" y="192"/>
                </a:lnTo>
                <a:lnTo>
                  <a:pt x="36" y="216"/>
                </a:lnTo>
                <a:lnTo>
                  <a:pt x="42" y="228"/>
                </a:lnTo>
                <a:lnTo>
                  <a:pt x="42" y="252"/>
                </a:lnTo>
                <a:lnTo>
                  <a:pt x="48" y="258"/>
                </a:lnTo>
                <a:lnTo>
                  <a:pt x="48" y="276"/>
                </a:lnTo>
                <a:lnTo>
                  <a:pt x="54" y="282"/>
                </a:lnTo>
                <a:lnTo>
                  <a:pt x="54" y="300"/>
                </a:lnTo>
                <a:lnTo>
                  <a:pt x="60" y="306"/>
                </a:lnTo>
                <a:lnTo>
                  <a:pt x="60" y="330"/>
                </a:lnTo>
                <a:lnTo>
                  <a:pt x="66" y="336"/>
                </a:lnTo>
                <a:lnTo>
                  <a:pt x="66" y="354"/>
                </a:lnTo>
                <a:lnTo>
                  <a:pt x="72" y="360"/>
                </a:lnTo>
                <a:lnTo>
                  <a:pt x="72" y="372"/>
                </a:lnTo>
                <a:lnTo>
                  <a:pt x="78" y="378"/>
                </a:lnTo>
                <a:lnTo>
                  <a:pt x="78" y="396"/>
                </a:lnTo>
                <a:lnTo>
                  <a:pt x="84" y="39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 rot="16200000">
            <a:off x="50904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2179080" y="876240"/>
            <a:ext cx="174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N export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534312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>
            <a:off x="54774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>
            <a:off x="6381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>
            <a:off x="6515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493344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4933440" y="14860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503820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3" name=""/>
          <p:cNvGrpSpPr/>
          <p:nvPr/>
        </p:nvGrpSpPr>
        <p:grpSpPr>
          <a:xfrm>
            <a:off x="5143680" y="2952360"/>
            <a:ext cx="2392200" cy="30600"/>
            <a:chOff x="5143680" y="2952360"/>
            <a:chExt cx="2392200" cy="30600"/>
          </a:xfrm>
        </p:grpSpPr>
        <p:sp>
          <p:nvSpPr>
            <p:cNvPr id="3364" name=""/>
            <p:cNvSpPr/>
            <p:nvPr/>
          </p:nvSpPr>
          <p:spPr>
            <a:xfrm>
              <a:off x="5143680" y="2981160"/>
              <a:ext cx="239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5143680" y="2981160"/>
              <a:ext cx="239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 flipV="1">
              <a:off x="544824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V="1">
              <a:off x="540072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 flipV="1">
              <a:off x="535320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V="1">
              <a:off x="528624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 flipV="1">
              <a:off x="521964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 flipV="1">
              <a:off x="514368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 flipV="1">
              <a:off x="5448240" y="29523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 flipV="1">
              <a:off x="576252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 flipV="1">
              <a:off x="594360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 flipV="1">
              <a:off x="607680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 flipV="1">
              <a:off x="618156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 flipV="1">
              <a:off x="625788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 flipV="1">
              <a:off x="633420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 flipV="1">
              <a:off x="639144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 flipV="1">
              <a:off x="643896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 flipV="1">
              <a:off x="648648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V="1">
              <a:off x="6486480" y="29523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 flipV="1">
              <a:off x="680076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 flipV="1">
              <a:off x="698184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V="1">
              <a:off x="711504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 flipV="1">
              <a:off x="721980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V="1">
              <a:off x="729612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V="1">
              <a:off x="737244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 flipV="1">
              <a:off x="742968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 flipV="1">
              <a:off x="748656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V="1">
              <a:off x="753444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 flipV="1">
              <a:off x="7534440" y="29523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5143680" y="2981160"/>
              <a:ext cx="18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 flipH="1">
              <a:off x="7505640" y="2981160"/>
              <a:ext cx="28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5143680" y="2981160"/>
              <a:ext cx="239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5448240" y="1285920"/>
            <a:ext cx="1990800" cy="1409760"/>
          </a:xfrm>
          <a:custGeom>
            <a:avLst/>
            <a:gdLst/>
            <a:ahLst/>
            <a:rect l="l" t="t" r="r" b="b"/>
            <a:pathLst>
              <a:path w="1254" h="888">
                <a:moveTo>
                  <a:pt x="0" y="828"/>
                </a:moveTo>
                <a:lnTo>
                  <a:pt x="120" y="570"/>
                </a:lnTo>
                <a:lnTo>
                  <a:pt x="198" y="396"/>
                </a:lnTo>
                <a:lnTo>
                  <a:pt x="264" y="282"/>
                </a:lnTo>
                <a:lnTo>
                  <a:pt x="312" y="192"/>
                </a:lnTo>
                <a:lnTo>
                  <a:pt x="360" y="138"/>
                </a:lnTo>
                <a:lnTo>
                  <a:pt x="396" y="90"/>
                </a:lnTo>
                <a:lnTo>
                  <a:pt x="432" y="60"/>
                </a:lnTo>
                <a:lnTo>
                  <a:pt x="462" y="36"/>
                </a:lnTo>
                <a:lnTo>
                  <a:pt x="486" y="24"/>
                </a:lnTo>
                <a:lnTo>
                  <a:pt x="510" y="18"/>
                </a:lnTo>
                <a:lnTo>
                  <a:pt x="534" y="6"/>
                </a:lnTo>
                <a:lnTo>
                  <a:pt x="558" y="6"/>
                </a:lnTo>
                <a:lnTo>
                  <a:pt x="576" y="6"/>
                </a:lnTo>
                <a:lnTo>
                  <a:pt x="594" y="6"/>
                </a:lnTo>
                <a:lnTo>
                  <a:pt x="612" y="6"/>
                </a:lnTo>
                <a:lnTo>
                  <a:pt x="624" y="6"/>
                </a:lnTo>
                <a:lnTo>
                  <a:pt x="642" y="12"/>
                </a:lnTo>
                <a:lnTo>
                  <a:pt x="654" y="18"/>
                </a:lnTo>
                <a:lnTo>
                  <a:pt x="672" y="18"/>
                </a:lnTo>
                <a:lnTo>
                  <a:pt x="684" y="24"/>
                </a:lnTo>
                <a:lnTo>
                  <a:pt x="696" y="30"/>
                </a:lnTo>
                <a:lnTo>
                  <a:pt x="708" y="36"/>
                </a:lnTo>
                <a:lnTo>
                  <a:pt x="720" y="42"/>
                </a:lnTo>
                <a:lnTo>
                  <a:pt x="732" y="48"/>
                </a:lnTo>
                <a:lnTo>
                  <a:pt x="744" y="54"/>
                </a:lnTo>
                <a:lnTo>
                  <a:pt x="750" y="60"/>
                </a:lnTo>
                <a:lnTo>
                  <a:pt x="762" y="66"/>
                </a:lnTo>
                <a:lnTo>
                  <a:pt x="774" y="72"/>
                </a:lnTo>
                <a:lnTo>
                  <a:pt x="780" y="78"/>
                </a:lnTo>
                <a:lnTo>
                  <a:pt x="792" y="84"/>
                </a:lnTo>
                <a:lnTo>
                  <a:pt x="798" y="90"/>
                </a:lnTo>
                <a:lnTo>
                  <a:pt x="810" y="96"/>
                </a:lnTo>
                <a:lnTo>
                  <a:pt x="816" y="102"/>
                </a:lnTo>
                <a:lnTo>
                  <a:pt x="822" y="108"/>
                </a:lnTo>
                <a:lnTo>
                  <a:pt x="834" y="114"/>
                </a:lnTo>
                <a:lnTo>
                  <a:pt x="840" y="120"/>
                </a:lnTo>
                <a:lnTo>
                  <a:pt x="846" y="120"/>
                </a:lnTo>
                <a:lnTo>
                  <a:pt x="852" y="126"/>
                </a:lnTo>
                <a:lnTo>
                  <a:pt x="858" y="132"/>
                </a:lnTo>
                <a:lnTo>
                  <a:pt x="870" y="138"/>
                </a:lnTo>
                <a:lnTo>
                  <a:pt x="876" y="144"/>
                </a:lnTo>
                <a:lnTo>
                  <a:pt x="882" y="144"/>
                </a:lnTo>
                <a:lnTo>
                  <a:pt x="888" y="150"/>
                </a:lnTo>
                <a:lnTo>
                  <a:pt x="894" y="150"/>
                </a:lnTo>
                <a:lnTo>
                  <a:pt x="900" y="156"/>
                </a:lnTo>
                <a:lnTo>
                  <a:pt x="906" y="156"/>
                </a:lnTo>
                <a:lnTo>
                  <a:pt x="912" y="162"/>
                </a:lnTo>
                <a:lnTo>
                  <a:pt x="918" y="162"/>
                </a:lnTo>
                <a:lnTo>
                  <a:pt x="924" y="168"/>
                </a:lnTo>
                <a:lnTo>
                  <a:pt x="930" y="168"/>
                </a:lnTo>
                <a:lnTo>
                  <a:pt x="936" y="174"/>
                </a:lnTo>
                <a:lnTo>
                  <a:pt x="942" y="174"/>
                </a:lnTo>
                <a:lnTo>
                  <a:pt x="948" y="174"/>
                </a:lnTo>
                <a:lnTo>
                  <a:pt x="954" y="180"/>
                </a:lnTo>
                <a:lnTo>
                  <a:pt x="960" y="180"/>
                </a:lnTo>
                <a:lnTo>
                  <a:pt x="966" y="180"/>
                </a:lnTo>
                <a:lnTo>
                  <a:pt x="972" y="180"/>
                </a:lnTo>
                <a:lnTo>
                  <a:pt x="978" y="180"/>
                </a:lnTo>
                <a:lnTo>
                  <a:pt x="984" y="180"/>
                </a:lnTo>
                <a:lnTo>
                  <a:pt x="990" y="180"/>
                </a:lnTo>
                <a:lnTo>
                  <a:pt x="996" y="180"/>
                </a:lnTo>
                <a:lnTo>
                  <a:pt x="1002" y="174"/>
                </a:lnTo>
                <a:lnTo>
                  <a:pt x="1008" y="174"/>
                </a:lnTo>
                <a:lnTo>
                  <a:pt x="1014" y="168"/>
                </a:lnTo>
                <a:lnTo>
                  <a:pt x="1020" y="168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56"/>
                </a:lnTo>
                <a:lnTo>
                  <a:pt x="1044" y="144"/>
                </a:lnTo>
                <a:lnTo>
                  <a:pt x="1050" y="144"/>
                </a:lnTo>
                <a:lnTo>
                  <a:pt x="1056" y="132"/>
                </a:lnTo>
                <a:lnTo>
                  <a:pt x="1062" y="126"/>
                </a:lnTo>
                <a:lnTo>
                  <a:pt x="1068" y="120"/>
                </a:lnTo>
                <a:lnTo>
                  <a:pt x="1074" y="114"/>
                </a:lnTo>
                <a:lnTo>
                  <a:pt x="1074" y="108"/>
                </a:lnTo>
                <a:lnTo>
                  <a:pt x="1080" y="102"/>
                </a:lnTo>
                <a:lnTo>
                  <a:pt x="1086" y="96"/>
                </a:lnTo>
                <a:lnTo>
                  <a:pt x="1086" y="90"/>
                </a:lnTo>
                <a:lnTo>
                  <a:pt x="1092" y="84"/>
                </a:lnTo>
                <a:lnTo>
                  <a:pt x="1092" y="78"/>
                </a:lnTo>
                <a:lnTo>
                  <a:pt x="1098" y="72"/>
                </a:lnTo>
                <a:lnTo>
                  <a:pt x="1098" y="66"/>
                </a:lnTo>
                <a:lnTo>
                  <a:pt x="1104" y="60"/>
                </a:lnTo>
                <a:lnTo>
                  <a:pt x="1104" y="54"/>
                </a:lnTo>
                <a:lnTo>
                  <a:pt x="1110" y="48"/>
                </a:lnTo>
                <a:lnTo>
                  <a:pt x="1110" y="42"/>
                </a:lnTo>
                <a:lnTo>
                  <a:pt x="1116" y="36"/>
                </a:lnTo>
                <a:lnTo>
                  <a:pt x="1116" y="30"/>
                </a:lnTo>
                <a:lnTo>
                  <a:pt x="1122" y="24"/>
                </a:lnTo>
                <a:lnTo>
                  <a:pt x="1128" y="18"/>
                </a:lnTo>
                <a:lnTo>
                  <a:pt x="1128" y="6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12"/>
                </a:lnTo>
                <a:lnTo>
                  <a:pt x="1158" y="18"/>
                </a:lnTo>
                <a:lnTo>
                  <a:pt x="1158" y="30"/>
                </a:lnTo>
                <a:lnTo>
                  <a:pt x="1164" y="42"/>
                </a:lnTo>
                <a:lnTo>
                  <a:pt x="1164" y="72"/>
                </a:lnTo>
                <a:lnTo>
                  <a:pt x="1170" y="96"/>
                </a:lnTo>
                <a:lnTo>
                  <a:pt x="1170" y="144"/>
                </a:lnTo>
                <a:lnTo>
                  <a:pt x="1176" y="174"/>
                </a:lnTo>
                <a:lnTo>
                  <a:pt x="1176" y="204"/>
                </a:lnTo>
                <a:lnTo>
                  <a:pt x="1182" y="240"/>
                </a:lnTo>
                <a:lnTo>
                  <a:pt x="1182" y="312"/>
                </a:lnTo>
                <a:lnTo>
                  <a:pt x="1188" y="354"/>
                </a:lnTo>
                <a:lnTo>
                  <a:pt x="1188" y="426"/>
                </a:lnTo>
                <a:lnTo>
                  <a:pt x="1194" y="456"/>
                </a:lnTo>
                <a:lnTo>
                  <a:pt x="1194" y="492"/>
                </a:lnTo>
                <a:lnTo>
                  <a:pt x="1200" y="522"/>
                </a:lnTo>
                <a:lnTo>
                  <a:pt x="1200" y="582"/>
                </a:lnTo>
                <a:lnTo>
                  <a:pt x="1206" y="606"/>
                </a:lnTo>
                <a:lnTo>
                  <a:pt x="1206" y="654"/>
                </a:lnTo>
                <a:lnTo>
                  <a:pt x="1212" y="678"/>
                </a:lnTo>
                <a:lnTo>
                  <a:pt x="1212" y="714"/>
                </a:lnTo>
                <a:lnTo>
                  <a:pt x="1218" y="732"/>
                </a:lnTo>
                <a:lnTo>
                  <a:pt x="1218" y="762"/>
                </a:lnTo>
                <a:lnTo>
                  <a:pt x="1224" y="774"/>
                </a:lnTo>
                <a:lnTo>
                  <a:pt x="1224" y="798"/>
                </a:lnTo>
                <a:lnTo>
                  <a:pt x="1230" y="810"/>
                </a:lnTo>
                <a:lnTo>
                  <a:pt x="1230" y="834"/>
                </a:lnTo>
                <a:lnTo>
                  <a:pt x="1236" y="840"/>
                </a:lnTo>
                <a:lnTo>
                  <a:pt x="1236" y="858"/>
                </a:lnTo>
                <a:lnTo>
                  <a:pt x="1242" y="864"/>
                </a:lnTo>
                <a:lnTo>
                  <a:pt x="1242" y="870"/>
                </a:lnTo>
                <a:lnTo>
                  <a:pt x="1254" y="882"/>
                </a:lnTo>
                <a:lnTo>
                  <a:pt x="1254" y="8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7439040" y="2590920"/>
            <a:ext cx="95400" cy="104760"/>
          </a:xfrm>
          <a:custGeom>
            <a:avLst/>
            <a:gdLst/>
            <a:ahLst/>
            <a:rect l="l" t="t" r="r" b="b"/>
            <a:pathLst>
              <a:path w="60" h="66">
                <a:moveTo>
                  <a:pt x="0" y="66"/>
                </a:moveTo>
                <a:lnTo>
                  <a:pt x="6" y="66"/>
                </a:lnTo>
                <a:lnTo>
                  <a:pt x="12" y="66"/>
                </a:lnTo>
                <a:lnTo>
                  <a:pt x="18" y="66"/>
                </a:lnTo>
                <a:lnTo>
                  <a:pt x="24" y="60"/>
                </a:lnTo>
                <a:lnTo>
                  <a:pt x="30" y="54"/>
                </a:lnTo>
                <a:lnTo>
                  <a:pt x="42" y="42"/>
                </a:lnTo>
                <a:lnTo>
                  <a:pt x="42" y="30"/>
                </a:lnTo>
                <a:lnTo>
                  <a:pt x="54" y="18"/>
                </a:lnTo>
                <a:lnTo>
                  <a:pt x="54" y="6"/>
                </a:lnTo>
                <a:lnTo>
                  <a:pt x="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 rot="16200000">
            <a:off x="381420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5132160" y="876240"/>
            <a:ext cx="240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of cumul. Ninput retained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 flipV="1">
            <a:off x="2171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2171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 flipV="1">
            <a:off x="2124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2124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V="1">
            <a:off x="20764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20764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 flipV="1">
            <a:off x="2009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2009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 flipV="1">
            <a:off x="1943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>
            <a:off x="1943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 flipV="1">
            <a:off x="21718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>
            <a:off x="21718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20664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>
            <a:off x="22006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 flipV="1">
            <a:off x="2486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2486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 flipV="1">
            <a:off x="2666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2666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 flipV="1">
            <a:off x="2800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>
            <a:off x="2800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 flipV="1">
            <a:off x="2905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2905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 flipV="1">
            <a:off x="29811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29811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 flipV="1">
            <a:off x="3114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3114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 flipV="1">
            <a:off x="3162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>
            <a:off x="3162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 flipV="1">
            <a:off x="3209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>
            <a:off x="3209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 flipV="1">
            <a:off x="32097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32097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31046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>
            <a:off x="3238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 flipV="1">
            <a:off x="3524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>
            <a:off x="3524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 flipV="1">
            <a:off x="37051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37051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 flipV="1">
            <a:off x="3838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3838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 flipV="1">
            <a:off x="3943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3943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 flipV="1">
            <a:off x="4019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>
            <a:off x="4019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 flipV="1">
            <a:off x="4095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>
            <a:off x="4095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 flipV="1">
            <a:off x="4152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>
            <a:off x="4152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 flipV="1">
            <a:off x="4210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4210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165708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165708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176184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>
            <a:off x="1884240" y="4057560"/>
            <a:ext cx="2373480" cy="101520"/>
          </a:xfrm>
          <a:custGeom>
            <a:avLst/>
            <a:gdLst/>
            <a:ahLst/>
            <a:rect l="l" t="t" r="r" b="b"/>
            <a:pathLst>
              <a:path w="1314" h="0">
                <a:moveTo>
                  <a:pt x="0" y="0"/>
                </a:moveTo>
                <a:lnTo>
                  <a:pt x="120" y="0"/>
                </a:lnTo>
                <a:lnTo>
                  <a:pt x="198" y="0"/>
                </a:lnTo>
                <a:lnTo>
                  <a:pt x="264" y="0"/>
                </a:lnTo>
                <a:lnTo>
                  <a:pt x="312" y="0"/>
                </a:lnTo>
                <a:lnTo>
                  <a:pt x="360" y="0"/>
                </a:lnTo>
                <a:lnTo>
                  <a:pt x="396" y="0"/>
                </a:lnTo>
                <a:lnTo>
                  <a:pt x="432" y="0"/>
                </a:lnTo>
                <a:lnTo>
                  <a:pt x="462" y="0"/>
                </a:lnTo>
                <a:lnTo>
                  <a:pt x="486" y="0"/>
                </a:lnTo>
                <a:lnTo>
                  <a:pt x="510" y="0"/>
                </a:lnTo>
                <a:lnTo>
                  <a:pt x="534" y="0"/>
                </a:lnTo>
                <a:lnTo>
                  <a:pt x="558" y="0"/>
                </a:lnTo>
                <a:lnTo>
                  <a:pt x="576" y="0"/>
                </a:lnTo>
                <a:lnTo>
                  <a:pt x="594" y="0"/>
                </a:lnTo>
                <a:lnTo>
                  <a:pt x="612" y="0"/>
                </a:lnTo>
                <a:lnTo>
                  <a:pt x="624" y="0"/>
                </a:lnTo>
                <a:lnTo>
                  <a:pt x="642" y="0"/>
                </a:lnTo>
                <a:lnTo>
                  <a:pt x="654" y="0"/>
                </a:lnTo>
                <a:lnTo>
                  <a:pt x="672" y="0"/>
                </a:lnTo>
                <a:lnTo>
                  <a:pt x="684" y="0"/>
                </a:lnTo>
                <a:lnTo>
                  <a:pt x="696" y="0"/>
                </a:lnTo>
                <a:lnTo>
                  <a:pt x="708" y="0"/>
                </a:lnTo>
                <a:lnTo>
                  <a:pt x="720" y="0"/>
                </a:lnTo>
                <a:lnTo>
                  <a:pt x="732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10" y="0"/>
                </a:lnTo>
                <a:lnTo>
                  <a:pt x="816" y="0"/>
                </a:lnTo>
                <a:lnTo>
                  <a:pt x="822" y="0"/>
                </a:lnTo>
                <a:lnTo>
                  <a:pt x="834" y="0"/>
                </a:lnTo>
                <a:lnTo>
                  <a:pt x="840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70" y="0"/>
                </a:lnTo>
                <a:lnTo>
                  <a:pt x="876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  <a:lnTo>
                  <a:pt x="960" y="0"/>
                </a:lnTo>
                <a:lnTo>
                  <a:pt x="966" y="0"/>
                </a:lnTo>
                <a:lnTo>
                  <a:pt x="972" y="0"/>
                </a:lnTo>
                <a:lnTo>
                  <a:pt x="978" y="0"/>
                </a:lnTo>
                <a:lnTo>
                  <a:pt x="984" y="0"/>
                </a:lnTo>
                <a:lnTo>
                  <a:pt x="990" y="0"/>
                </a:lnTo>
                <a:lnTo>
                  <a:pt x="996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0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56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2171880" y="3952800"/>
            <a:ext cx="2009520" cy="1467000"/>
          </a:xfrm>
          <a:custGeom>
            <a:avLst/>
            <a:gdLst/>
            <a:ahLst/>
            <a:rect l="l" t="t" r="r" b="b"/>
            <a:pathLst>
              <a:path w="1266" h="924">
                <a:moveTo>
                  <a:pt x="0" y="66"/>
                </a:moveTo>
                <a:lnTo>
                  <a:pt x="120" y="66"/>
                </a:lnTo>
                <a:lnTo>
                  <a:pt x="198" y="66"/>
                </a:lnTo>
                <a:lnTo>
                  <a:pt x="264" y="66"/>
                </a:lnTo>
                <a:lnTo>
                  <a:pt x="312" y="66"/>
                </a:lnTo>
                <a:lnTo>
                  <a:pt x="360" y="66"/>
                </a:lnTo>
                <a:lnTo>
                  <a:pt x="396" y="66"/>
                </a:lnTo>
                <a:lnTo>
                  <a:pt x="432" y="66"/>
                </a:lnTo>
                <a:lnTo>
                  <a:pt x="462" y="66"/>
                </a:lnTo>
                <a:lnTo>
                  <a:pt x="486" y="66"/>
                </a:lnTo>
                <a:lnTo>
                  <a:pt x="510" y="66"/>
                </a:lnTo>
                <a:lnTo>
                  <a:pt x="534" y="66"/>
                </a:lnTo>
                <a:lnTo>
                  <a:pt x="558" y="66"/>
                </a:lnTo>
                <a:lnTo>
                  <a:pt x="576" y="66"/>
                </a:lnTo>
                <a:lnTo>
                  <a:pt x="594" y="66"/>
                </a:lnTo>
                <a:lnTo>
                  <a:pt x="612" y="66"/>
                </a:lnTo>
                <a:lnTo>
                  <a:pt x="624" y="66"/>
                </a:lnTo>
                <a:lnTo>
                  <a:pt x="642" y="66"/>
                </a:lnTo>
                <a:lnTo>
                  <a:pt x="654" y="66"/>
                </a:lnTo>
                <a:lnTo>
                  <a:pt x="672" y="66"/>
                </a:lnTo>
                <a:lnTo>
                  <a:pt x="684" y="66"/>
                </a:lnTo>
                <a:lnTo>
                  <a:pt x="696" y="66"/>
                </a:lnTo>
                <a:lnTo>
                  <a:pt x="708" y="66"/>
                </a:lnTo>
                <a:lnTo>
                  <a:pt x="720" y="66"/>
                </a:lnTo>
                <a:lnTo>
                  <a:pt x="732" y="66"/>
                </a:lnTo>
                <a:lnTo>
                  <a:pt x="744" y="66"/>
                </a:lnTo>
                <a:lnTo>
                  <a:pt x="750" y="66"/>
                </a:lnTo>
                <a:lnTo>
                  <a:pt x="762" y="60"/>
                </a:lnTo>
                <a:lnTo>
                  <a:pt x="774" y="60"/>
                </a:lnTo>
                <a:lnTo>
                  <a:pt x="780" y="60"/>
                </a:lnTo>
                <a:lnTo>
                  <a:pt x="792" y="60"/>
                </a:lnTo>
                <a:lnTo>
                  <a:pt x="798" y="60"/>
                </a:lnTo>
                <a:lnTo>
                  <a:pt x="810" y="60"/>
                </a:lnTo>
                <a:lnTo>
                  <a:pt x="816" y="60"/>
                </a:lnTo>
                <a:lnTo>
                  <a:pt x="822" y="60"/>
                </a:lnTo>
                <a:lnTo>
                  <a:pt x="834" y="60"/>
                </a:lnTo>
                <a:lnTo>
                  <a:pt x="840" y="60"/>
                </a:lnTo>
                <a:lnTo>
                  <a:pt x="846" y="60"/>
                </a:lnTo>
                <a:lnTo>
                  <a:pt x="852" y="60"/>
                </a:lnTo>
                <a:lnTo>
                  <a:pt x="858" y="60"/>
                </a:lnTo>
                <a:lnTo>
                  <a:pt x="870" y="60"/>
                </a:lnTo>
                <a:lnTo>
                  <a:pt x="876" y="60"/>
                </a:lnTo>
                <a:lnTo>
                  <a:pt x="882" y="60"/>
                </a:lnTo>
                <a:lnTo>
                  <a:pt x="888" y="60"/>
                </a:lnTo>
                <a:lnTo>
                  <a:pt x="894" y="60"/>
                </a:lnTo>
                <a:lnTo>
                  <a:pt x="900" y="60"/>
                </a:lnTo>
                <a:lnTo>
                  <a:pt x="906" y="60"/>
                </a:lnTo>
                <a:lnTo>
                  <a:pt x="912" y="54"/>
                </a:lnTo>
                <a:lnTo>
                  <a:pt x="918" y="54"/>
                </a:lnTo>
                <a:lnTo>
                  <a:pt x="924" y="54"/>
                </a:lnTo>
                <a:lnTo>
                  <a:pt x="930" y="54"/>
                </a:lnTo>
                <a:lnTo>
                  <a:pt x="936" y="54"/>
                </a:lnTo>
                <a:lnTo>
                  <a:pt x="942" y="54"/>
                </a:lnTo>
                <a:lnTo>
                  <a:pt x="948" y="54"/>
                </a:lnTo>
                <a:lnTo>
                  <a:pt x="954" y="54"/>
                </a:lnTo>
                <a:lnTo>
                  <a:pt x="960" y="54"/>
                </a:lnTo>
                <a:lnTo>
                  <a:pt x="966" y="48"/>
                </a:lnTo>
                <a:lnTo>
                  <a:pt x="972" y="48"/>
                </a:lnTo>
                <a:lnTo>
                  <a:pt x="978" y="48"/>
                </a:lnTo>
                <a:lnTo>
                  <a:pt x="984" y="48"/>
                </a:lnTo>
                <a:lnTo>
                  <a:pt x="990" y="48"/>
                </a:lnTo>
                <a:lnTo>
                  <a:pt x="996" y="48"/>
                </a:lnTo>
                <a:lnTo>
                  <a:pt x="1002" y="42"/>
                </a:lnTo>
                <a:lnTo>
                  <a:pt x="1008" y="42"/>
                </a:lnTo>
                <a:lnTo>
                  <a:pt x="1014" y="42"/>
                </a:lnTo>
                <a:lnTo>
                  <a:pt x="1020" y="36"/>
                </a:lnTo>
                <a:lnTo>
                  <a:pt x="1026" y="36"/>
                </a:lnTo>
                <a:lnTo>
                  <a:pt x="1032" y="36"/>
                </a:lnTo>
                <a:lnTo>
                  <a:pt x="1038" y="30"/>
                </a:lnTo>
                <a:lnTo>
                  <a:pt x="1044" y="30"/>
                </a:lnTo>
                <a:lnTo>
                  <a:pt x="1050" y="30"/>
                </a:lnTo>
                <a:lnTo>
                  <a:pt x="1056" y="24"/>
                </a:lnTo>
                <a:lnTo>
                  <a:pt x="1062" y="24"/>
                </a:lnTo>
                <a:lnTo>
                  <a:pt x="1068" y="18"/>
                </a:lnTo>
                <a:lnTo>
                  <a:pt x="1074" y="18"/>
                </a:lnTo>
                <a:lnTo>
                  <a:pt x="1080" y="12"/>
                </a:lnTo>
                <a:lnTo>
                  <a:pt x="1086" y="12"/>
                </a:lnTo>
                <a:lnTo>
                  <a:pt x="1092" y="6"/>
                </a:lnTo>
                <a:lnTo>
                  <a:pt x="1098" y="6"/>
                </a:lnTo>
                <a:lnTo>
                  <a:pt x="1104" y="6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6"/>
                </a:lnTo>
                <a:lnTo>
                  <a:pt x="1134" y="12"/>
                </a:lnTo>
                <a:lnTo>
                  <a:pt x="1140" y="24"/>
                </a:lnTo>
                <a:lnTo>
                  <a:pt x="1146" y="30"/>
                </a:lnTo>
                <a:lnTo>
                  <a:pt x="1146" y="42"/>
                </a:lnTo>
                <a:lnTo>
                  <a:pt x="1152" y="54"/>
                </a:lnTo>
                <a:lnTo>
                  <a:pt x="1152" y="66"/>
                </a:lnTo>
                <a:lnTo>
                  <a:pt x="1158" y="78"/>
                </a:lnTo>
                <a:lnTo>
                  <a:pt x="1158" y="96"/>
                </a:lnTo>
                <a:lnTo>
                  <a:pt x="1164" y="108"/>
                </a:lnTo>
                <a:lnTo>
                  <a:pt x="1164" y="150"/>
                </a:lnTo>
                <a:lnTo>
                  <a:pt x="1170" y="174"/>
                </a:lnTo>
                <a:lnTo>
                  <a:pt x="1170" y="222"/>
                </a:lnTo>
                <a:lnTo>
                  <a:pt x="1176" y="246"/>
                </a:lnTo>
                <a:lnTo>
                  <a:pt x="1176" y="276"/>
                </a:lnTo>
                <a:lnTo>
                  <a:pt x="1182" y="306"/>
                </a:lnTo>
                <a:lnTo>
                  <a:pt x="1182" y="366"/>
                </a:lnTo>
                <a:lnTo>
                  <a:pt x="1188" y="396"/>
                </a:lnTo>
                <a:lnTo>
                  <a:pt x="1188" y="450"/>
                </a:lnTo>
                <a:lnTo>
                  <a:pt x="1194" y="474"/>
                </a:lnTo>
                <a:lnTo>
                  <a:pt x="1194" y="498"/>
                </a:lnTo>
                <a:lnTo>
                  <a:pt x="1200" y="522"/>
                </a:lnTo>
                <a:lnTo>
                  <a:pt x="1200" y="564"/>
                </a:lnTo>
                <a:lnTo>
                  <a:pt x="1206" y="588"/>
                </a:lnTo>
                <a:lnTo>
                  <a:pt x="1206" y="624"/>
                </a:lnTo>
                <a:lnTo>
                  <a:pt x="1212" y="642"/>
                </a:lnTo>
                <a:lnTo>
                  <a:pt x="1212" y="672"/>
                </a:lnTo>
                <a:lnTo>
                  <a:pt x="1218" y="684"/>
                </a:lnTo>
                <a:lnTo>
                  <a:pt x="1218" y="714"/>
                </a:lnTo>
                <a:lnTo>
                  <a:pt x="1224" y="726"/>
                </a:lnTo>
                <a:lnTo>
                  <a:pt x="1224" y="750"/>
                </a:lnTo>
                <a:lnTo>
                  <a:pt x="1230" y="762"/>
                </a:lnTo>
                <a:lnTo>
                  <a:pt x="1230" y="792"/>
                </a:lnTo>
                <a:lnTo>
                  <a:pt x="1236" y="798"/>
                </a:lnTo>
                <a:lnTo>
                  <a:pt x="1236" y="816"/>
                </a:lnTo>
                <a:lnTo>
                  <a:pt x="1242" y="828"/>
                </a:lnTo>
                <a:lnTo>
                  <a:pt x="1242" y="840"/>
                </a:lnTo>
                <a:lnTo>
                  <a:pt x="1248" y="852"/>
                </a:lnTo>
                <a:lnTo>
                  <a:pt x="1248" y="864"/>
                </a:lnTo>
                <a:lnTo>
                  <a:pt x="1254" y="870"/>
                </a:lnTo>
                <a:lnTo>
                  <a:pt x="1254" y="888"/>
                </a:lnTo>
                <a:lnTo>
                  <a:pt x="1260" y="894"/>
                </a:lnTo>
                <a:lnTo>
                  <a:pt x="1260" y="906"/>
                </a:lnTo>
                <a:lnTo>
                  <a:pt x="1266" y="912"/>
                </a:lnTo>
                <a:lnTo>
                  <a:pt x="1266" y="9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4181400" y="5419800"/>
            <a:ext cx="76320" cy="114120"/>
          </a:xfrm>
          <a:custGeom>
            <a:avLst/>
            <a:gdLst/>
            <a:ahLst/>
            <a:rect l="l" t="t" r="r" b="b"/>
            <a:pathLst>
              <a:path w="48" h="72">
                <a:moveTo>
                  <a:pt x="0" y="0"/>
                </a:moveTo>
                <a:lnTo>
                  <a:pt x="6" y="6"/>
                </a:lnTo>
                <a:lnTo>
                  <a:pt x="6" y="18"/>
                </a:lnTo>
                <a:lnTo>
                  <a:pt x="12" y="24"/>
                </a:lnTo>
                <a:lnTo>
                  <a:pt x="18" y="30"/>
                </a:lnTo>
                <a:lnTo>
                  <a:pt x="18" y="36"/>
                </a:lnTo>
                <a:lnTo>
                  <a:pt x="30" y="48"/>
                </a:lnTo>
                <a:lnTo>
                  <a:pt x="30" y="54"/>
                </a:lnTo>
                <a:lnTo>
                  <a:pt x="42" y="66"/>
                </a:lnTo>
                <a:lnTo>
                  <a:pt x="36" y="66"/>
                </a:lnTo>
                <a:lnTo>
                  <a:pt x="42" y="66"/>
                </a:lnTo>
                <a:lnTo>
                  <a:pt x="48" y="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 rot="16200000">
            <a:off x="53460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>
            <a:off x="2340720" y="346716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 flipV="1">
            <a:off x="5448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5448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 flipV="1">
            <a:off x="5400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5400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 flipV="1">
            <a:off x="5353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>
            <a:off x="5353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 flipV="1">
            <a:off x="5286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5286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 flipV="1">
            <a:off x="5219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5219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 flipV="1">
            <a:off x="5448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5448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534312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54774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 flipV="1">
            <a:off x="5762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5762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 flipV="1">
            <a:off x="5943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5943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 flipV="1">
            <a:off x="6076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6076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 flipV="1">
            <a:off x="6181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6181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 flipV="1">
            <a:off x="6257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6257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 flipV="1">
            <a:off x="639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639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 flipV="1">
            <a:off x="6438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6438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 flipV="1">
            <a:off x="6486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6486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 flipV="1">
            <a:off x="6486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6486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6381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6515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 flipV="1">
            <a:off x="6800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6800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 flipV="1">
            <a:off x="698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698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 flipV="1">
            <a:off x="7115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7115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 flipV="1">
            <a:off x="7219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7219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 flipV="1">
            <a:off x="7296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7296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 flipV="1">
            <a:off x="7372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7372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 flipV="1">
            <a:off x="7429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7429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 flipV="1">
            <a:off x="7486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7486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493344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503820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497160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4904640" y="40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5448240" y="3781440"/>
            <a:ext cx="1952640" cy="1333440"/>
          </a:xfrm>
          <a:custGeom>
            <a:avLst/>
            <a:gdLst/>
            <a:ahLst/>
            <a:rect l="l" t="t" r="r" b="b"/>
            <a:pathLst>
              <a:path w="1230" h="840">
                <a:moveTo>
                  <a:pt x="0" y="840"/>
                </a:moveTo>
                <a:lnTo>
                  <a:pt x="120" y="840"/>
                </a:lnTo>
                <a:lnTo>
                  <a:pt x="198" y="840"/>
                </a:lnTo>
                <a:lnTo>
                  <a:pt x="264" y="840"/>
                </a:lnTo>
                <a:lnTo>
                  <a:pt x="312" y="834"/>
                </a:lnTo>
                <a:lnTo>
                  <a:pt x="360" y="834"/>
                </a:lnTo>
                <a:lnTo>
                  <a:pt x="396" y="834"/>
                </a:lnTo>
                <a:lnTo>
                  <a:pt x="432" y="834"/>
                </a:lnTo>
                <a:lnTo>
                  <a:pt x="462" y="834"/>
                </a:lnTo>
                <a:lnTo>
                  <a:pt x="486" y="834"/>
                </a:lnTo>
                <a:lnTo>
                  <a:pt x="510" y="834"/>
                </a:lnTo>
                <a:lnTo>
                  <a:pt x="534" y="834"/>
                </a:lnTo>
                <a:lnTo>
                  <a:pt x="558" y="834"/>
                </a:lnTo>
                <a:lnTo>
                  <a:pt x="576" y="834"/>
                </a:lnTo>
                <a:lnTo>
                  <a:pt x="594" y="834"/>
                </a:lnTo>
                <a:lnTo>
                  <a:pt x="612" y="834"/>
                </a:lnTo>
                <a:lnTo>
                  <a:pt x="624" y="834"/>
                </a:lnTo>
                <a:lnTo>
                  <a:pt x="642" y="834"/>
                </a:lnTo>
                <a:lnTo>
                  <a:pt x="654" y="834"/>
                </a:lnTo>
                <a:lnTo>
                  <a:pt x="672" y="834"/>
                </a:lnTo>
                <a:lnTo>
                  <a:pt x="684" y="834"/>
                </a:lnTo>
                <a:lnTo>
                  <a:pt x="696" y="834"/>
                </a:lnTo>
                <a:lnTo>
                  <a:pt x="708" y="834"/>
                </a:lnTo>
                <a:lnTo>
                  <a:pt x="720" y="834"/>
                </a:lnTo>
                <a:lnTo>
                  <a:pt x="732" y="834"/>
                </a:lnTo>
                <a:lnTo>
                  <a:pt x="744" y="834"/>
                </a:lnTo>
                <a:lnTo>
                  <a:pt x="750" y="834"/>
                </a:lnTo>
                <a:lnTo>
                  <a:pt x="762" y="834"/>
                </a:lnTo>
                <a:lnTo>
                  <a:pt x="774" y="834"/>
                </a:lnTo>
                <a:lnTo>
                  <a:pt x="780" y="834"/>
                </a:lnTo>
                <a:lnTo>
                  <a:pt x="792" y="834"/>
                </a:lnTo>
                <a:lnTo>
                  <a:pt x="798" y="834"/>
                </a:lnTo>
                <a:lnTo>
                  <a:pt x="810" y="834"/>
                </a:lnTo>
                <a:lnTo>
                  <a:pt x="816" y="828"/>
                </a:lnTo>
                <a:lnTo>
                  <a:pt x="822" y="828"/>
                </a:lnTo>
                <a:lnTo>
                  <a:pt x="834" y="828"/>
                </a:lnTo>
                <a:lnTo>
                  <a:pt x="840" y="828"/>
                </a:lnTo>
                <a:lnTo>
                  <a:pt x="846" y="828"/>
                </a:lnTo>
                <a:lnTo>
                  <a:pt x="852" y="828"/>
                </a:lnTo>
                <a:lnTo>
                  <a:pt x="858" y="828"/>
                </a:lnTo>
                <a:lnTo>
                  <a:pt x="870" y="828"/>
                </a:lnTo>
                <a:lnTo>
                  <a:pt x="876" y="828"/>
                </a:lnTo>
                <a:lnTo>
                  <a:pt x="882" y="828"/>
                </a:lnTo>
                <a:lnTo>
                  <a:pt x="888" y="828"/>
                </a:lnTo>
                <a:lnTo>
                  <a:pt x="894" y="828"/>
                </a:lnTo>
                <a:lnTo>
                  <a:pt x="900" y="822"/>
                </a:lnTo>
                <a:lnTo>
                  <a:pt x="906" y="822"/>
                </a:lnTo>
                <a:lnTo>
                  <a:pt x="912" y="822"/>
                </a:lnTo>
                <a:lnTo>
                  <a:pt x="918" y="822"/>
                </a:lnTo>
                <a:lnTo>
                  <a:pt x="924" y="822"/>
                </a:lnTo>
                <a:lnTo>
                  <a:pt x="930" y="822"/>
                </a:lnTo>
                <a:lnTo>
                  <a:pt x="936" y="822"/>
                </a:lnTo>
                <a:lnTo>
                  <a:pt x="942" y="816"/>
                </a:lnTo>
                <a:lnTo>
                  <a:pt x="948" y="816"/>
                </a:lnTo>
                <a:lnTo>
                  <a:pt x="954" y="816"/>
                </a:lnTo>
                <a:lnTo>
                  <a:pt x="960" y="816"/>
                </a:lnTo>
                <a:lnTo>
                  <a:pt x="966" y="810"/>
                </a:lnTo>
                <a:lnTo>
                  <a:pt x="972" y="810"/>
                </a:lnTo>
                <a:lnTo>
                  <a:pt x="978" y="810"/>
                </a:lnTo>
                <a:lnTo>
                  <a:pt x="984" y="810"/>
                </a:lnTo>
                <a:lnTo>
                  <a:pt x="990" y="804"/>
                </a:lnTo>
                <a:lnTo>
                  <a:pt x="996" y="804"/>
                </a:lnTo>
                <a:lnTo>
                  <a:pt x="1002" y="798"/>
                </a:lnTo>
                <a:lnTo>
                  <a:pt x="1008" y="798"/>
                </a:lnTo>
                <a:lnTo>
                  <a:pt x="1014" y="792"/>
                </a:lnTo>
                <a:lnTo>
                  <a:pt x="1020" y="792"/>
                </a:lnTo>
                <a:lnTo>
                  <a:pt x="1026" y="786"/>
                </a:lnTo>
                <a:lnTo>
                  <a:pt x="1032" y="786"/>
                </a:lnTo>
                <a:lnTo>
                  <a:pt x="1038" y="774"/>
                </a:lnTo>
                <a:lnTo>
                  <a:pt x="1044" y="768"/>
                </a:lnTo>
                <a:lnTo>
                  <a:pt x="1050" y="762"/>
                </a:lnTo>
                <a:lnTo>
                  <a:pt x="1056" y="756"/>
                </a:lnTo>
                <a:lnTo>
                  <a:pt x="1062" y="750"/>
                </a:lnTo>
                <a:lnTo>
                  <a:pt x="1062" y="744"/>
                </a:lnTo>
                <a:lnTo>
                  <a:pt x="1068" y="738"/>
                </a:lnTo>
                <a:lnTo>
                  <a:pt x="1074" y="732"/>
                </a:lnTo>
                <a:lnTo>
                  <a:pt x="1074" y="726"/>
                </a:lnTo>
                <a:lnTo>
                  <a:pt x="1080" y="720"/>
                </a:lnTo>
                <a:lnTo>
                  <a:pt x="1080" y="708"/>
                </a:lnTo>
                <a:lnTo>
                  <a:pt x="1086" y="702"/>
                </a:lnTo>
                <a:lnTo>
                  <a:pt x="1086" y="696"/>
                </a:lnTo>
                <a:lnTo>
                  <a:pt x="1092" y="684"/>
                </a:lnTo>
                <a:lnTo>
                  <a:pt x="1092" y="672"/>
                </a:lnTo>
                <a:lnTo>
                  <a:pt x="1098" y="660"/>
                </a:lnTo>
                <a:lnTo>
                  <a:pt x="1098" y="648"/>
                </a:lnTo>
                <a:lnTo>
                  <a:pt x="1104" y="636"/>
                </a:lnTo>
                <a:lnTo>
                  <a:pt x="1104" y="624"/>
                </a:lnTo>
                <a:lnTo>
                  <a:pt x="1110" y="606"/>
                </a:lnTo>
                <a:lnTo>
                  <a:pt x="1110" y="594"/>
                </a:lnTo>
                <a:lnTo>
                  <a:pt x="1116" y="576"/>
                </a:lnTo>
                <a:lnTo>
                  <a:pt x="1116" y="558"/>
                </a:lnTo>
                <a:lnTo>
                  <a:pt x="1122" y="540"/>
                </a:lnTo>
                <a:lnTo>
                  <a:pt x="1122" y="516"/>
                </a:lnTo>
                <a:lnTo>
                  <a:pt x="1128" y="492"/>
                </a:lnTo>
                <a:lnTo>
                  <a:pt x="1128" y="444"/>
                </a:lnTo>
                <a:lnTo>
                  <a:pt x="1134" y="420"/>
                </a:lnTo>
                <a:lnTo>
                  <a:pt x="1134" y="390"/>
                </a:lnTo>
                <a:lnTo>
                  <a:pt x="1140" y="360"/>
                </a:lnTo>
                <a:lnTo>
                  <a:pt x="1140" y="330"/>
                </a:lnTo>
                <a:lnTo>
                  <a:pt x="1146" y="300"/>
                </a:lnTo>
                <a:lnTo>
                  <a:pt x="1146" y="228"/>
                </a:lnTo>
                <a:lnTo>
                  <a:pt x="1152" y="198"/>
                </a:lnTo>
                <a:lnTo>
                  <a:pt x="1152" y="162"/>
                </a:lnTo>
                <a:lnTo>
                  <a:pt x="1158" y="132"/>
                </a:lnTo>
                <a:lnTo>
                  <a:pt x="1158" y="96"/>
                </a:lnTo>
                <a:lnTo>
                  <a:pt x="1164" y="66"/>
                </a:lnTo>
                <a:lnTo>
                  <a:pt x="1164" y="24"/>
                </a:lnTo>
                <a:lnTo>
                  <a:pt x="1170" y="6"/>
                </a:lnTo>
                <a:lnTo>
                  <a:pt x="1170" y="0"/>
                </a:lnTo>
                <a:lnTo>
                  <a:pt x="1176" y="6"/>
                </a:lnTo>
                <a:lnTo>
                  <a:pt x="1176" y="24"/>
                </a:lnTo>
                <a:lnTo>
                  <a:pt x="1182" y="48"/>
                </a:lnTo>
                <a:lnTo>
                  <a:pt x="1182" y="114"/>
                </a:lnTo>
                <a:lnTo>
                  <a:pt x="1188" y="156"/>
                </a:lnTo>
                <a:lnTo>
                  <a:pt x="1188" y="234"/>
                </a:lnTo>
                <a:lnTo>
                  <a:pt x="1194" y="276"/>
                </a:lnTo>
                <a:lnTo>
                  <a:pt x="1194" y="318"/>
                </a:lnTo>
                <a:lnTo>
                  <a:pt x="1200" y="354"/>
                </a:lnTo>
                <a:lnTo>
                  <a:pt x="1200" y="426"/>
                </a:lnTo>
                <a:lnTo>
                  <a:pt x="1206" y="456"/>
                </a:lnTo>
                <a:lnTo>
                  <a:pt x="1206" y="516"/>
                </a:lnTo>
                <a:lnTo>
                  <a:pt x="1212" y="540"/>
                </a:lnTo>
                <a:lnTo>
                  <a:pt x="1212" y="594"/>
                </a:lnTo>
                <a:lnTo>
                  <a:pt x="1218" y="612"/>
                </a:lnTo>
                <a:lnTo>
                  <a:pt x="1218" y="654"/>
                </a:lnTo>
                <a:lnTo>
                  <a:pt x="1224" y="672"/>
                </a:lnTo>
                <a:lnTo>
                  <a:pt x="1224" y="702"/>
                </a:lnTo>
                <a:lnTo>
                  <a:pt x="1230" y="7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7400880" y="4924440"/>
            <a:ext cx="133560" cy="380880"/>
          </a:xfrm>
          <a:custGeom>
            <a:avLst/>
            <a:gdLst/>
            <a:ahLst/>
            <a:rect l="l" t="t" r="r" b="b"/>
            <a:pathLst>
              <a:path w="84" h="240">
                <a:moveTo>
                  <a:pt x="0" y="0"/>
                </a:moveTo>
                <a:lnTo>
                  <a:pt x="0" y="42"/>
                </a:lnTo>
                <a:lnTo>
                  <a:pt x="6" y="54"/>
                </a:lnTo>
                <a:lnTo>
                  <a:pt x="6" y="72"/>
                </a:lnTo>
                <a:lnTo>
                  <a:pt x="12" y="84"/>
                </a:lnTo>
                <a:lnTo>
                  <a:pt x="12" y="102"/>
                </a:lnTo>
                <a:lnTo>
                  <a:pt x="18" y="108"/>
                </a:lnTo>
                <a:lnTo>
                  <a:pt x="18" y="126"/>
                </a:lnTo>
                <a:lnTo>
                  <a:pt x="24" y="132"/>
                </a:lnTo>
                <a:lnTo>
                  <a:pt x="24" y="150"/>
                </a:lnTo>
                <a:lnTo>
                  <a:pt x="30" y="156"/>
                </a:lnTo>
                <a:lnTo>
                  <a:pt x="30" y="168"/>
                </a:lnTo>
                <a:lnTo>
                  <a:pt x="36" y="174"/>
                </a:lnTo>
                <a:lnTo>
                  <a:pt x="36" y="186"/>
                </a:lnTo>
                <a:lnTo>
                  <a:pt x="42" y="192"/>
                </a:lnTo>
                <a:lnTo>
                  <a:pt x="42" y="198"/>
                </a:lnTo>
                <a:lnTo>
                  <a:pt x="54" y="210"/>
                </a:lnTo>
                <a:lnTo>
                  <a:pt x="54" y="216"/>
                </a:lnTo>
                <a:lnTo>
                  <a:pt x="60" y="222"/>
                </a:lnTo>
                <a:lnTo>
                  <a:pt x="66" y="228"/>
                </a:lnTo>
                <a:lnTo>
                  <a:pt x="72" y="234"/>
                </a:lnTo>
                <a:lnTo>
                  <a:pt x="78" y="240"/>
                </a:lnTo>
                <a:lnTo>
                  <a:pt x="84" y="2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164200" y="5095800"/>
            <a:ext cx="2370240" cy="74520"/>
          </a:xfrm>
          <a:custGeom>
            <a:avLst/>
            <a:gdLst/>
            <a:ahLst/>
            <a:rect l="l" t="t" r="r" b="b"/>
            <a:pathLst>
              <a:path w="1314" h="0">
                <a:moveTo>
                  <a:pt x="0" y="0"/>
                </a:moveTo>
                <a:lnTo>
                  <a:pt x="120" y="0"/>
                </a:lnTo>
                <a:lnTo>
                  <a:pt x="198" y="0"/>
                </a:lnTo>
                <a:lnTo>
                  <a:pt x="264" y="0"/>
                </a:lnTo>
                <a:lnTo>
                  <a:pt x="312" y="0"/>
                </a:lnTo>
                <a:lnTo>
                  <a:pt x="360" y="0"/>
                </a:lnTo>
                <a:lnTo>
                  <a:pt x="396" y="0"/>
                </a:lnTo>
                <a:lnTo>
                  <a:pt x="432" y="0"/>
                </a:lnTo>
                <a:lnTo>
                  <a:pt x="462" y="0"/>
                </a:lnTo>
                <a:lnTo>
                  <a:pt x="486" y="0"/>
                </a:lnTo>
                <a:lnTo>
                  <a:pt x="510" y="0"/>
                </a:lnTo>
                <a:lnTo>
                  <a:pt x="534" y="0"/>
                </a:lnTo>
                <a:lnTo>
                  <a:pt x="558" y="0"/>
                </a:lnTo>
                <a:lnTo>
                  <a:pt x="576" y="0"/>
                </a:lnTo>
                <a:lnTo>
                  <a:pt x="594" y="0"/>
                </a:lnTo>
                <a:lnTo>
                  <a:pt x="612" y="0"/>
                </a:lnTo>
                <a:lnTo>
                  <a:pt x="624" y="0"/>
                </a:lnTo>
                <a:lnTo>
                  <a:pt x="642" y="0"/>
                </a:lnTo>
                <a:lnTo>
                  <a:pt x="654" y="0"/>
                </a:lnTo>
                <a:lnTo>
                  <a:pt x="672" y="0"/>
                </a:lnTo>
                <a:lnTo>
                  <a:pt x="684" y="0"/>
                </a:lnTo>
                <a:lnTo>
                  <a:pt x="696" y="0"/>
                </a:lnTo>
                <a:lnTo>
                  <a:pt x="708" y="0"/>
                </a:lnTo>
                <a:lnTo>
                  <a:pt x="720" y="0"/>
                </a:lnTo>
                <a:lnTo>
                  <a:pt x="732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10" y="0"/>
                </a:lnTo>
                <a:lnTo>
                  <a:pt x="816" y="0"/>
                </a:lnTo>
                <a:lnTo>
                  <a:pt x="822" y="0"/>
                </a:lnTo>
                <a:lnTo>
                  <a:pt x="834" y="0"/>
                </a:lnTo>
                <a:lnTo>
                  <a:pt x="840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70" y="0"/>
                </a:lnTo>
                <a:lnTo>
                  <a:pt x="876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  <a:lnTo>
                  <a:pt x="960" y="0"/>
                </a:lnTo>
                <a:lnTo>
                  <a:pt x="966" y="0"/>
                </a:lnTo>
                <a:lnTo>
                  <a:pt x="972" y="0"/>
                </a:lnTo>
                <a:lnTo>
                  <a:pt x="978" y="0"/>
                </a:lnTo>
                <a:lnTo>
                  <a:pt x="984" y="0"/>
                </a:lnTo>
                <a:lnTo>
                  <a:pt x="990" y="0"/>
                </a:lnTo>
                <a:lnTo>
                  <a:pt x="996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0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56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 rot="16200000">
            <a:off x="378576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5589000" y="3467160"/>
            <a:ext cx="146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mass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8" name=""/>
          <p:cNvGrpSpPr/>
          <p:nvPr/>
        </p:nvGrpSpPr>
        <p:grpSpPr>
          <a:xfrm>
            <a:off x="5145120" y="1093680"/>
            <a:ext cx="2392200" cy="30600"/>
            <a:chOff x="5145120" y="1093680"/>
            <a:chExt cx="2392200" cy="30600"/>
          </a:xfrm>
        </p:grpSpPr>
        <p:sp>
          <p:nvSpPr>
            <p:cNvPr id="3589" name=""/>
            <p:cNvSpPr/>
            <p:nvPr/>
          </p:nvSpPr>
          <p:spPr>
            <a:xfrm flipV="1">
              <a:off x="5145120" y="1093680"/>
              <a:ext cx="239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 flipV="1">
              <a:off x="5145120" y="1093680"/>
              <a:ext cx="239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544968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540216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535464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528768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522108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514512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5449680" y="10958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576396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594504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07824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18300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25932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33564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39288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44040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48792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487920" y="10958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80220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98328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711648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722124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729756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737388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743112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48800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753588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7535880" y="109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 flipV="1">
              <a:off x="5145120" y="1093680"/>
              <a:ext cx="18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 flipH="1" flipV="1">
              <a:off x="7507080" y="1093680"/>
              <a:ext cx="28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V="1">
              <a:off x="5145120" y="1093680"/>
              <a:ext cx="239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1" name=""/>
          <p:cNvSpPr/>
          <p:nvPr/>
        </p:nvSpPr>
        <p:spPr>
          <a:xfrm>
            <a:off x="3269880" y="22860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"/>
          <p:cNvSpPr/>
          <p:nvPr/>
        </p:nvSpPr>
        <p:spPr>
          <a:xfrm>
            <a:off x="3269880" y="22860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 flipV="1">
            <a:off x="2171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2171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 flipV="1">
            <a:off x="2124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2124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 flipV="1">
            <a:off x="20764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20764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 flipV="1">
            <a:off x="2009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2009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 flipV="1">
            <a:off x="1943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1943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 flipV="1">
            <a:off x="21718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21718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20664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22006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V="1">
            <a:off x="2486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2486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 flipV="1">
            <a:off x="2666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2666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 flipV="1">
            <a:off x="2800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2800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 flipV="1">
            <a:off x="2905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2905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 flipV="1">
            <a:off x="29811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29811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 flipV="1">
            <a:off x="3114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3114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 flipV="1">
            <a:off x="3162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3162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 flipV="1">
            <a:off x="3209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3209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 flipV="1">
            <a:off x="32097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2097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1046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3238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 flipV="1">
            <a:off x="3524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3524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 flipV="1">
            <a:off x="37051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37051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 flipV="1">
            <a:off x="3838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3838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 flipV="1">
            <a:off x="3943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3943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 flipV="1">
            <a:off x="4019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4019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 flipV="1">
            <a:off x="4095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4095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 flipV="1">
            <a:off x="4152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4152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 flipV="1">
            <a:off x="4210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4210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2171880" y="2371680"/>
            <a:ext cx="2085840" cy="514440"/>
          </a:xfrm>
          <a:custGeom>
            <a:avLst/>
            <a:gdLst/>
            <a:ahLst/>
            <a:rect l="l" t="t" r="r" b="b"/>
            <a:pathLst>
              <a:path w="1314" h="324">
                <a:moveTo>
                  <a:pt x="0" y="240"/>
                </a:moveTo>
                <a:lnTo>
                  <a:pt x="120" y="282"/>
                </a:lnTo>
                <a:lnTo>
                  <a:pt x="198" y="300"/>
                </a:lnTo>
                <a:lnTo>
                  <a:pt x="264" y="312"/>
                </a:lnTo>
                <a:lnTo>
                  <a:pt x="312" y="312"/>
                </a:lnTo>
                <a:lnTo>
                  <a:pt x="360" y="318"/>
                </a:lnTo>
                <a:lnTo>
                  <a:pt x="396" y="318"/>
                </a:lnTo>
                <a:lnTo>
                  <a:pt x="432" y="318"/>
                </a:lnTo>
                <a:lnTo>
                  <a:pt x="462" y="324"/>
                </a:lnTo>
                <a:lnTo>
                  <a:pt x="486" y="324"/>
                </a:lnTo>
                <a:lnTo>
                  <a:pt x="510" y="324"/>
                </a:lnTo>
                <a:lnTo>
                  <a:pt x="534" y="318"/>
                </a:lnTo>
                <a:lnTo>
                  <a:pt x="558" y="318"/>
                </a:lnTo>
                <a:lnTo>
                  <a:pt x="576" y="318"/>
                </a:lnTo>
                <a:lnTo>
                  <a:pt x="594" y="318"/>
                </a:lnTo>
                <a:lnTo>
                  <a:pt x="612" y="318"/>
                </a:lnTo>
                <a:lnTo>
                  <a:pt x="624" y="318"/>
                </a:lnTo>
                <a:lnTo>
                  <a:pt x="642" y="318"/>
                </a:lnTo>
                <a:lnTo>
                  <a:pt x="654" y="318"/>
                </a:lnTo>
                <a:lnTo>
                  <a:pt x="672" y="312"/>
                </a:lnTo>
                <a:lnTo>
                  <a:pt x="684" y="312"/>
                </a:lnTo>
                <a:lnTo>
                  <a:pt x="696" y="312"/>
                </a:lnTo>
                <a:lnTo>
                  <a:pt x="708" y="312"/>
                </a:lnTo>
                <a:lnTo>
                  <a:pt x="720" y="312"/>
                </a:lnTo>
                <a:lnTo>
                  <a:pt x="732" y="306"/>
                </a:lnTo>
                <a:lnTo>
                  <a:pt x="744" y="306"/>
                </a:lnTo>
                <a:lnTo>
                  <a:pt x="750" y="306"/>
                </a:lnTo>
                <a:lnTo>
                  <a:pt x="762" y="306"/>
                </a:lnTo>
                <a:lnTo>
                  <a:pt x="774" y="300"/>
                </a:lnTo>
                <a:lnTo>
                  <a:pt x="780" y="300"/>
                </a:lnTo>
                <a:lnTo>
                  <a:pt x="792" y="300"/>
                </a:lnTo>
                <a:lnTo>
                  <a:pt x="798" y="294"/>
                </a:lnTo>
                <a:lnTo>
                  <a:pt x="810" y="294"/>
                </a:lnTo>
                <a:lnTo>
                  <a:pt x="816" y="294"/>
                </a:lnTo>
                <a:lnTo>
                  <a:pt x="822" y="294"/>
                </a:lnTo>
                <a:lnTo>
                  <a:pt x="834" y="288"/>
                </a:lnTo>
                <a:lnTo>
                  <a:pt x="840" y="288"/>
                </a:lnTo>
                <a:lnTo>
                  <a:pt x="846" y="288"/>
                </a:lnTo>
                <a:lnTo>
                  <a:pt x="852" y="282"/>
                </a:lnTo>
                <a:lnTo>
                  <a:pt x="858" y="282"/>
                </a:lnTo>
                <a:lnTo>
                  <a:pt x="870" y="282"/>
                </a:lnTo>
                <a:lnTo>
                  <a:pt x="876" y="276"/>
                </a:lnTo>
                <a:lnTo>
                  <a:pt x="882" y="276"/>
                </a:lnTo>
                <a:lnTo>
                  <a:pt x="888" y="270"/>
                </a:lnTo>
                <a:lnTo>
                  <a:pt x="894" y="270"/>
                </a:lnTo>
                <a:lnTo>
                  <a:pt x="900" y="270"/>
                </a:lnTo>
                <a:lnTo>
                  <a:pt x="906" y="264"/>
                </a:lnTo>
                <a:lnTo>
                  <a:pt x="912" y="264"/>
                </a:lnTo>
                <a:lnTo>
                  <a:pt x="918" y="258"/>
                </a:lnTo>
                <a:lnTo>
                  <a:pt x="924" y="258"/>
                </a:lnTo>
                <a:lnTo>
                  <a:pt x="930" y="252"/>
                </a:lnTo>
                <a:lnTo>
                  <a:pt x="936" y="252"/>
                </a:lnTo>
                <a:lnTo>
                  <a:pt x="942" y="246"/>
                </a:lnTo>
                <a:lnTo>
                  <a:pt x="948" y="246"/>
                </a:lnTo>
                <a:lnTo>
                  <a:pt x="954" y="240"/>
                </a:lnTo>
                <a:lnTo>
                  <a:pt x="960" y="240"/>
                </a:lnTo>
                <a:lnTo>
                  <a:pt x="966" y="234"/>
                </a:lnTo>
                <a:lnTo>
                  <a:pt x="972" y="228"/>
                </a:lnTo>
                <a:lnTo>
                  <a:pt x="978" y="228"/>
                </a:lnTo>
                <a:lnTo>
                  <a:pt x="984" y="222"/>
                </a:lnTo>
                <a:lnTo>
                  <a:pt x="990" y="216"/>
                </a:lnTo>
                <a:lnTo>
                  <a:pt x="996" y="210"/>
                </a:lnTo>
                <a:lnTo>
                  <a:pt x="1002" y="204"/>
                </a:lnTo>
                <a:lnTo>
                  <a:pt x="1008" y="204"/>
                </a:lnTo>
                <a:lnTo>
                  <a:pt x="1014" y="192"/>
                </a:lnTo>
                <a:lnTo>
                  <a:pt x="1020" y="192"/>
                </a:lnTo>
                <a:lnTo>
                  <a:pt x="1026" y="186"/>
                </a:lnTo>
                <a:lnTo>
                  <a:pt x="1032" y="180"/>
                </a:lnTo>
                <a:lnTo>
                  <a:pt x="1038" y="174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50"/>
                </a:lnTo>
                <a:lnTo>
                  <a:pt x="1062" y="144"/>
                </a:lnTo>
                <a:lnTo>
                  <a:pt x="1068" y="138"/>
                </a:lnTo>
                <a:lnTo>
                  <a:pt x="1074" y="132"/>
                </a:lnTo>
                <a:lnTo>
                  <a:pt x="1086" y="120"/>
                </a:lnTo>
                <a:lnTo>
                  <a:pt x="1086" y="114"/>
                </a:lnTo>
                <a:lnTo>
                  <a:pt x="1092" y="108"/>
                </a:lnTo>
                <a:lnTo>
                  <a:pt x="1104" y="96"/>
                </a:lnTo>
                <a:lnTo>
                  <a:pt x="1104" y="90"/>
                </a:lnTo>
                <a:lnTo>
                  <a:pt x="1110" y="84"/>
                </a:lnTo>
                <a:lnTo>
                  <a:pt x="1122" y="72"/>
                </a:lnTo>
                <a:lnTo>
                  <a:pt x="1122" y="66"/>
                </a:lnTo>
                <a:lnTo>
                  <a:pt x="1134" y="54"/>
                </a:lnTo>
                <a:lnTo>
                  <a:pt x="1134" y="48"/>
                </a:lnTo>
                <a:lnTo>
                  <a:pt x="1140" y="42"/>
                </a:lnTo>
                <a:lnTo>
                  <a:pt x="1146" y="36"/>
                </a:lnTo>
                <a:lnTo>
                  <a:pt x="1152" y="30"/>
                </a:lnTo>
                <a:lnTo>
                  <a:pt x="1158" y="24"/>
                </a:lnTo>
                <a:lnTo>
                  <a:pt x="1164" y="18"/>
                </a:lnTo>
                <a:lnTo>
                  <a:pt x="1170" y="12"/>
                </a:lnTo>
                <a:lnTo>
                  <a:pt x="1176" y="12"/>
                </a:lnTo>
                <a:lnTo>
                  <a:pt x="1182" y="6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6"/>
                </a:lnTo>
                <a:lnTo>
                  <a:pt x="1224" y="6"/>
                </a:lnTo>
                <a:lnTo>
                  <a:pt x="1230" y="12"/>
                </a:lnTo>
                <a:lnTo>
                  <a:pt x="1236" y="12"/>
                </a:lnTo>
                <a:lnTo>
                  <a:pt x="1242" y="18"/>
                </a:lnTo>
                <a:lnTo>
                  <a:pt x="1248" y="24"/>
                </a:lnTo>
                <a:lnTo>
                  <a:pt x="1254" y="30"/>
                </a:lnTo>
                <a:lnTo>
                  <a:pt x="1260" y="36"/>
                </a:lnTo>
                <a:lnTo>
                  <a:pt x="1266" y="42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2171880" y="1562040"/>
            <a:ext cx="1923840" cy="1352520"/>
          </a:xfrm>
          <a:custGeom>
            <a:avLst/>
            <a:gdLst/>
            <a:ahLst/>
            <a:rect l="l" t="t" r="r" b="b"/>
            <a:pathLst>
              <a:path w="1212" h="852">
                <a:moveTo>
                  <a:pt x="0" y="816"/>
                </a:moveTo>
                <a:lnTo>
                  <a:pt x="120" y="834"/>
                </a:lnTo>
                <a:lnTo>
                  <a:pt x="198" y="840"/>
                </a:lnTo>
                <a:lnTo>
                  <a:pt x="264" y="846"/>
                </a:lnTo>
                <a:lnTo>
                  <a:pt x="312" y="846"/>
                </a:lnTo>
                <a:lnTo>
                  <a:pt x="360" y="852"/>
                </a:lnTo>
                <a:lnTo>
                  <a:pt x="396" y="852"/>
                </a:lnTo>
                <a:lnTo>
                  <a:pt x="432" y="852"/>
                </a:lnTo>
                <a:lnTo>
                  <a:pt x="462" y="852"/>
                </a:lnTo>
                <a:lnTo>
                  <a:pt x="486" y="852"/>
                </a:lnTo>
                <a:lnTo>
                  <a:pt x="510" y="852"/>
                </a:lnTo>
                <a:lnTo>
                  <a:pt x="534" y="846"/>
                </a:lnTo>
                <a:lnTo>
                  <a:pt x="558" y="846"/>
                </a:lnTo>
                <a:lnTo>
                  <a:pt x="576" y="846"/>
                </a:lnTo>
                <a:lnTo>
                  <a:pt x="594" y="846"/>
                </a:lnTo>
                <a:lnTo>
                  <a:pt x="612" y="846"/>
                </a:lnTo>
                <a:lnTo>
                  <a:pt x="624" y="846"/>
                </a:lnTo>
                <a:lnTo>
                  <a:pt x="642" y="846"/>
                </a:lnTo>
                <a:lnTo>
                  <a:pt x="654" y="840"/>
                </a:lnTo>
                <a:lnTo>
                  <a:pt x="672" y="840"/>
                </a:lnTo>
                <a:lnTo>
                  <a:pt x="684" y="840"/>
                </a:lnTo>
                <a:lnTo>
                  <a:pt x="696" y="840"/>
                </a:lnTo>
                <a:lnTo>
                  <a:pt x="708" y="834"/>
                </a:lnTo>
                <a:lnTo>
                  <a:pt x="720" y="834"/>
                </a:lnTo>
                <a:lnTo>
                  <a:pt x="732" y="834"/>
                </a:lnTo>
                <a:lnTo>
                  <a:pt x="744" y="834"/>
                </a:lnTo>
                <a:lnTo>
                  <a:pt x="750" y="828"/>
                </a:lnTo>
                <a:lnTo>
                  <a:pt x="762" y="828"/>
                </a:lnTo>
                <a:lnTo>
                  <a:pt x="774" y="828"/>
                </a:lnTo>
                <a:lnTo>
                  <a:pt x="780" y="828"/>
                </a:lnTo>
                <a:lnTo>
                  <a:pt x="792" y="822"/>
                </a:lnTo>
                <a:lnTo>
                  <a:pt x="798" y="822"/>
                </a:lnTo>
                <a:lnTo>
                  <a:pt x="810" y="822"/>
                </a:lnTo>
                <a:lnTo>
                  <a:pt x="816" y="816"/>
                </a:lnTo>
                <a:lnTo>
                  <a:pt x="822" y="816"/>
                </a:lnTo>
                <a:lnTo>
                  <a:pt x="834" y="816"/>
                </a:lnTo>
                <a:lnTo>
                  <a:pt x="840" y="810"/>
                </a:lnTo>
                <a:lnTo>
                  <a:pt x="846" y="810"/>
                </a:lnTo>
                <a:lnTo>
                  <a:pt x="852" y="804"/>
                </a:lnTo>
                <a:lnTo>
                  <a:pt x="858" y="804"/>
                </a:lnTo>
                <a:lnTo>
                  <a:pt x="870" y="804"/>
                </a:lnTo>
                <a:lnTo>
                  <a:pt x="876" y="798"/>
                </a:lnTo>
                <a:lnTo>
                  <a:pt x="882" y="798"/>
                </a:lnTo>
                <a:lnTo>
                  <a:pt x="888" y="792"/>
                </a:lnTo>
                <a:lnTo>
                  <a:pt x="894" y="792"/>
                </a:lnTo>
                <a:lnTo>
                  <a:pt x="900" y="786"/>
                </a:lnTo>
                <a:lnTo>
                  <a:pt x="906" y="786"/>
                </a:lnTo>
                <a:lnTo>
                  <a:pt x="912" y="780"/>
                </a:lnTo>
                <a:lnTo>
                  <a:pt x="918" y="780"/>
                </a:lnTo>
                <a:lnTo>
                  <a:pt x="924" y="774"/>
                </a:lnTo>
                <a:lnTo>
                  <a:pt x="930" y="774"/>
                </a:lnTo>
                <a:lnTo>
                  <a:pt x="936" y="768"/>
                </a:lnTo>
                <a:lnTo>
                  <a:pt x="942" y="762"/>
                </a:lnTo>
                <a:lnTo>
                  <a:pt x="948" y="756"/>
                </a:lnTo>
                <a:lnTo>
                  <a:pt x="954" y="756"/>
                </a:lnTo>
                <a:lnTo>
                  <a:pt x="960" y="750"/>
                </a:lnTo>
                <a:lnTo>
                  <a:pt x="966" y="744"/>
                </a:lnTo>
                <a:lnTo>
                  <a:pt x="972" y="738"/>
                </a:lnTo>
                <a:lnTo>
                  <a:pt x="978" y="732"/>
                </a:lnTo>
                <a:lnTo>
                  <a:pt x="984" y="726"/>
                </a:lnTo>
                <a:lnTo>
                  <a:pt x="990" y="720"/>
                </a:lnTo>
                <a:lnTo>
                  <a:pt x="996" y="714"/>
                </a:lnTo>
                <a:lnTo>
                  <a:pt x="1002" y="708"/>
                </a:lnTo>
                <a:lnTo>
                  <a:pt x="1002" y="702"/>
                </a:lnTo>
                <a:lnTo>
                  <a:pt x="1008" y="696"/>
                </a:lnTo>
                <a:lnTo>
                  <a:pt x="1014" y="690"/>
                </a:lnTo>
                <a:lnTo>
                  <a:pt x="1014" y="684"/>
                </a:lnTo>
                <a:lnTo>
                  <a:pt x="1020" y="678"/>
                </a:lnTo>
                <a:lnTo>
                  <a:pt x="1026" y="672"/>
                </a:lnTo>
                <a:lnTo>
                  <a:pt x="1026" y="666"/>
                </a:lnTo>
                <a:lnTo>
                  <a:pt x="1032" y="660"/>
                </a:lnTo>
                <a:lnTo>
                  <a:pt x="1038" y="654"/>
                </a:lnTo>
                <a:lnTo>
                  <a:pt x="1038" y="642"/>
                </a:lnTo>
                <a:lnTo>
                  <a:pt x="1044" y="636"/>
                </a:lnTo>
                <a:lnTo>
                  <a:pt x="1044" y="630"/>
                </a:lnTo>
                <a:lnTo>
                  <a:pt x="1050" y="624"/>
                </a:lnTo>
                <a:lnTo>
                  <a:pt x="1056" y="612"/>
                </a:lnTo>
                <a:lnTo>
                  <a:pt x="1056" y="606"/>
                </a:lnTo>
                <a:lnTo>
                  <a:pt x="1062" y="594"/>
                </a:lnTo>
                <a:lnTo>
                  <a:pt x="1062" y="588"/>
                </a:lnTo>
                <a:lnTo>
                  <a:pt x="1068" y="576"/>
                </a:lnTo>
                <a:lnTo>
                  <a:pt x="1074" y="564"/>
                </a:lnTo>
                <a:lnTo>
                  <a:pt x="1074" y="558"/>
                </a:lnTo>
                <a:lnTo>
                  <a:pt x="1080" y="546"/>
                </a:lnTo>
                <a:lnTo>
                  <a:pt x="1080" y="534"/>
                </a:lnTo>
                <a:lnTo>
                  <a:pt x="1086" y="522"/>
                </a:lnTo>
                <a:lnTo>
                  <a:pt x="1086" y="510"/>
                </a:lnTo>
                <a:lnTo>
                  <a:pt x="1092" y="498"/>
                </a:lnTo>
                <a:lnTo>
                  <a:pt x="1092" y="486"/>
                </a:lnTo>
                <a:lnTo>
                  <a:pt x="1098" y="474"/>
                </a:lnTo>
                <a:lnTo>
                  <a:pt x="1098" y="456"/>
                </a:lnTo>
                <a:lnTo>
                  <a:pt x="1104" y="444"/>
                </a:lnTo>
                <a:lnTo>
                  <a:pt x="1104" y="426"/>
                </a:lnTo>
                <a:lnTo>
                  <a:pt x="1110" y="414"/>
                </a:lnTo>
                <a:lnTo>
                  <a:pt x="1110" y="396"/>
                </a:lnTo>
                <a:lnTo>
                  <a:pt x="1116" y="378"/>
                </a:lnTo>
                <a:lnTo>
                  <a:pt x="1116" y="360"/>
                </a:lnTo>
                <a:lnTo>
                  <a:pt x="1122" y="342"/>
                </a:lnTo>
                <a:lnTo>
                  <a:pt x="1122" y="324"/>
                </a:lnTo>
                <a:lnTo>
                  <a:pt x="1128" y="306"/>
                </a:lnTo>
                <a:lnTo>
                  <a:pt x="1128" y="264"/>
                </a:lnTo>
                <a:lnTo>
                  <a:pt x="1134" y="246"/>
                </a:lnTo>
                <a:lnTo>
                  <a:pt x="1134" y="222"/>
                </a:lnTo>
                <a:lnTo>
                  <a:pt x="1140" y="198"/>
                </a:lnTo>
                <a:lnTo>
                  <a:pt x="1140" y="180"/>
                </a:lnTo>
                <a:lnTo>
                  <a:pt x="1146" y="156"/>
                </a:lnTo>
                <a:lnTo>
                  <a:pt x="1146" y="108"/>
                </a:lnTo>
                <a:lnTo>
                  <a:pt x="1152" y="90"/>
                </a:lnTo>
                <a:lnTo>
                  <a:pt x="1152" y="66"/>
                </a:lnTo>
                <a:lnTo>
                  <a:pt x="1158" y="48"/>
                </a:lnTo>
                <a:lnTo>
                  <a:pt x="1158" y="30"/>
                </a:lnTo>
                <a:lnTo>
                  <a:pt x="1164" y="18"/>
                </a:lnTo>
                <a:lnTo>
                  <a:pt x="1164" y="0"/>
                </a:lnTo>
                <a:lnTo>
                  <a:pt x="1170" y="0"/>
                </a:lnTo>
                <a:lnTo>
                  <a:pt x="1170" y="12"/>
                </a:lnTo>
                <a:lnTo>
                  <a:pt x="1176" y="24"/>
                </a:lnTo>
                <a:lnTo>
                  <a:pt x="1176" y="42"/>
                </a:lnTo>
                <a:lnTo>
                  <a:pt x="1182" y="66"/>
                </a:lnTo>
                <a:lnTo>
                  <a:pt x="1182" y="120"/>
                </a:lnTo>
                <a:lnTo>
                  <a:pt x="1188" y="144"/>
                </a:lnTo>
                <a:lnTo>
                  <a:pt x="1188" y="204"/>
                </a:lnTo>
                <a:lnTo>
                  <a:pt x="1194" y="234"/>
                </a:lnTo>
                <a:lnTo>
                  <a:pt x="1194" y="258"/>
                </a:lnTo>
                <a:lnTo>
                  <a:pt x="1200" y="282"/>
                </a:lnTo>
                <a:lnTo>
                  <a:pt x="1200" y="330"/>
                </a:lnTo>
                <a:lnTo>
                  <a:pt x="1206" y="348"/>
                </a:lnTo>
                <a:lnTo>
                  <a:pt x="1206" y="384"/>
                </a:lnTo>
                <a:lnTo>
                  <a:pt x="1212" y="40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>
            <a:off x="4095720" y="2200320"/>
            <a:ext cx="162000" cy="447480"/>
          </a:xfrm>
          <a:custGeom>
            <a:avLst/>
            <a:gdLst/>
            <a:ahLst/>
            <a:rect l="l" t="t" r="r" b="b"/>
            <a:pathLst>
              <a:path w="102" h="282">
                <a:moveTo>
                  <a:pt x="0" y="0"/>
                </a:moveTo>
                <a:lnTo>
                  <a:pt x="0" y="30"/>
                </a:lnTo>
                <a:lnTo>
                  <a:pt x="6" y="42"/>
                </a:lnTo>
                <a:lnTo>
                  <a:pt x="6" y="66"/>
                </a:lnTo>
                <a:lnTo>
                  <a:pt x="12" y="72"/>
                </a:lnTo>
                <a:lnTo>
                  <a:pt x="12" y="96"/>
                </a:lnTo>
                <a:lnTo>
                  <a:pt x="18" y="102"/>
                </a:lnTo>
                <a:lnTo>
                  <a:pt x="18" y="126"/>
                </a:lnTo>
                <a:lnTo>
                  <a:pt x="24" y="132"/>
                </a:lnTo>
                <a:lnTo>
                  <a:pt x="24" y="144"/>
                </a:lnTo>
                <a:lnTo>
                  <a:pt x="30" y="150"/>
                </a:lnTo>
                <a:lnTo>
                  <a:pt x="30" y="162"/>
                </a:lnTo>
                <a:lnTo>
                  <a:pt x="36" y="168"/>
                </a:lnTo>
                <a:lnTo>
                  <a:pt x="36" y="180"/>
                </a:lnTo>
                <a:lnTo>
                  <a:pt x="42" y="186"/>
                </a:lnTo>
                <a:lnTo>
                  <a:pt x="42" y="198"/>
                </a:lnTo>
                <a:lnTo>
                  <a:pt x="54" y="210"/>
                </a:lnTo>
                <a:lnTo>
                  <a:pt x="54" y="222"/>
                </a:lnTo>
                <a:lnTo>
                  <a:pt x="66" y="234"/>
                </a:lnTo>
                <a:lnTo>
                  <a:pt x="66" y="240"/>
                </a:lnTo>
                <a:lnTo>
                  <a:pt x="78" y="252"/>
                </a:lnTo>
                <a:lnTo>
                  <a:pt x="78" y="258"/>
                </a:lnTo>
                <a:lnTo>
                  <a:pt x="90" y="270"/>
                </a:lnTo>
                <a:lnTo>
                  <a:pt x="90" y="276"/>
                </a:lnTo>
                <a:lnTo>
                  <a:pt x="96" y="282"/>
                </a:lnTo>
                <a:lnTo>
                  <a:pt x="102" y="28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 rot="16200000">
            <a:off x="884520" y="1981080"/>
            <a:ext cx="1126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s to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171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71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124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24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0764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0764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2009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9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943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943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21718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1718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0664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006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2486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86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666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666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800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00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2905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905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9811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9811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114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14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162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162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3209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09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2097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097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1046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38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524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24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37051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7051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3838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38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943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943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019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019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095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095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152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52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210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10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866960" y="2095560"/>
            <a:ext cx="2324160" cy="876240"/>
          </a:xfrm>
          <a:custGeom>
            <a:avLst/>
            <a:gdLst/>
            <a:ahLst/>
            <a:rect l="l" t="t" r="r" b="b"/>
            <a:pathLst>
              <a:path w="1464" h="552">
                <a:moveTo>
                  <a:pt x="0" y="552"/>
                </a:moveTo>
                <a:lnTo>
                  <a:pt x="192" y="552"/>
                </a:lnTo>
                <a:lnTo>
                  <a:pt x="312" y="546"/>
                </a:lnTo>
                <a:lnTo>
                  <a:pt x="390" y="546"/>
                </a:lnTo>
                <a:lnTo>
                  <a:pt x="456" y="546"/>
                </a:lnTo>
                <a:lnTo>
                  <a:pt x="504" y="546"/>
                </a:lnTo>
                <a:lnTo>
                  <a:pt x="552" y="546"/>
                </a:lnTo>
                <a:lnTo>
                  <a:pt x="588" y="546"/>
                </a:lnTo>
                <a:lnTo>
                  <a:pt x="624" y="546"/>
                </a:lnTo>
                <a:lnTo>
                  <a:pt x="654" y="546"/>
                </a:lnTo>
                <a:lnTo>
                  <a:pt x="678" y="546"/>
                </a:lnTo>
                <a:lnTo>
                  <a:pt x="702" y="546"/>
                </a:lnTo>
                <a:lnTo>
                  <a:pt x="726" y="546"/>
                </a:lnTo>
                <a:lnTo>
                  <a:pt x="750" y="546"/>
                </a:lnTo>
                <a:lnTo>
                  <a:pt x="768" y="546"/>
                </a:lnTo>
                <a:lnTo>
                  <a:pt x="786" y="540"/>
                </a:lnTo>
                <a:lnTo>
                  <a:pt x="804" y="540"/>
                </a:lnTo>
                <a:lnTo>
                  <a:pt x="816" y="540"/>
                </a:lnTo>
                <a:lnTo>
                  <a:pt x="834" y="540"/>
                </a:lnTo>
                <a:lnTo>
                  <a:pt x="846" y="540"/>
                </a:lnTo>
                <a:lnTo>
                  <a:pt x="864" y="540"/>
                </a:lnTo>
                <a:lnTo>
                  <a:pt x="876" y="540"/>
                </a:lnTo>
                <a:lnTo>
                  <a:pt x="888" y="540"/>
                </a:lnTo>
                <a:lnTo>
                  <a:pt x="900" y="540"/>
                </a:lnTo>
                <a:lnTo>
                  <a:pt x="912" y="540"/>
                </a:lnTo>
                <a:lnTo>
                  <a:pt x="924" y="534"/>
                </a:lnTo>
                <a:lnTo>
                  <a:pt x="936" y="534"/>
                </a:lnTo>
                <a:lnTo>
                  <a:pt x="942" y="534"/>
                </a:lnTo>
                <a:lnTo>
                  <a:pt x="954" y="534"/>
                </a:lnTo>
                <a:lnTo>
                  <a:pt x="966" y="534"/>
                </a:lnTo>
                <a:lnTo>
                  <a:pt x="972" y="534"/>
                </a:lnTo>
                <a:lnTo>
                  <a:pt x="984" y="534"/>
                </a:lnTo>
                <a:lnTo>
                  <a:pt x="990" y="534"/>
                </a:lnTo>
                <a:lnTo>
                  <a:pt x="1002" y="534"/>
                </a:lnTo>
                <a:lnTo>
                  <a:pt x="1008" y="528"/>
                </a:lnTo>
                <a:lnTo>
                  <a:pt x="1014" y="528"/>
                </a:lnTo>
                <a:lnTo>
                  <a:pt x="1026" y="528"/>
                </a:lnTo>
                <a:lnTo>
                  <a:pt x="1032" y="528"/>
                </a:lnTo>
                <a:lnTo>
                  <a:pt x="1038" y="528"/>
                </a:lnTo>
                <a:lnTo>
                  <a:pt x="1044" y="528"/>
                </a:lnTo>
                <a:lnTo>
                  <a:pt x="1050" y="522"/>
                </a:lnTo>
                <a:lnTo>
                  <a:pt x="1062" y="522"/>
                </a:lnTo>
                <a:lnTo>
                  <a:pt x="1068" y="522"/>
                </a:lnTo>
                <a:lnTo>
                  <a:pt x="1074" y="522"/>
                </a:lnTo>
                <a:lnTo>
                  <a:pt x="1080" y="522"/>
                </a:lnTo>
                <a:lnTo>
                  <a:pt x="1086" y="522"/>
                </a:lnTo>
                <a:lnTo>
                  <a:pt x="1092" y="516"/>
                </a:lnTo>
                <a:lnTo>
                  <a:pt x="1098" y="516"/>
                </a:lnTo>
                <a:lnTo>
                  <a:pt x="1104" y="516"/>
                </a:lnTo>
                <a:lnTo>
                  <a:pt x="1110" y="516"/>
                </a:lnTo>
                <a:lnTo>
                  <a:pt x="1116" y="516"/>
                </a:lnTo>
                <a:lnTo>
                  <a:pt x="1122" y="510"/>
                </a:lnTo>
                <a:lnTo>
                  <a:pt x="1128" y="510"/>
                </a:lnTo>
                <a:lnTo>
                  <a:pt x="1134" y="510"/>
                </a:lnTo>
                <a:lnTo>
                  <a:pt x="1140" y="510"/>
                </a:lnTo>
                <a:lnTo>
                  <a:pt x="1146" y="504"/>
                </a:lnTo>
                <a:lnTo>
                  <a:pt x="1152" y="504"/>
                </a:lnTo>
                <a:lnTo>
                  <a:pt x="1158" y="504"/>
                </a:lnTo>
                <a:lnTo>
                  <a:pt x="1164" y="498"/>
                </a:lnTo>
                <a:lnTo>
                  <a:pt x="1170" y="498"/>
                </a:lnTo>
                <a:lnTo>
                  <a:pt x="1176" y="498"/>
                </a:lnTo>
                <a:lnTo>
                  <a:pt x="1182" y="492"/>
                </a:lnTo>
                <a:lnTo>
                  <a:pt x="1188" y="492"/>
                </a:lnTo>
                <a:lnTo>
                  <a:pt x="1194" y="486"/>
                </a:lnTo>
                <a:lnTo>
                  <a:pt x="1200" y="486"/>
                </a:lnTo>
                <a:lnTo>
                  <a:pt x="1206" y="480"/>
                </a:lnTo>
                <a:lnTo>
                  <a:pt x="1212" y="480"/>
                </a:lnTo>
                <a:lnTo>
                  <a:pt x="1218" y="474"/>
                </a:lnTo>
                <a:lnTo>
                  <a:pt x="1224" y="474"/>
                </a:lnTo>
                <a:lnTo>
                  <a:pt x="1230" y="468"/>
                </a:lnTo>
                <a:lnTo>
                  <a:pt x="1236" y="462"/>
                </a:lnTo>
                <a:lnTo>
                  <a:pt x="1242" y="462"/>
                </a:lnTo>
                <a:lnTo>
                  <a:pt x="1248" y="456"/>
                </a:lnTo>
                <a:lnTo>
                  <a:pt x="1254" y="450"/>
                </a:lnTo>
                <a:lnTo>
                  <a:pt x="1260" y="444"/>
                </a:lnTo>
                <a:lnTo>
                  <a:pt x="1266" y="438"/>
                </a:lnTo>
                <a:lnTo>
                  <a:pt x="1272" y="432"/>
                </a:lnTo>
                <a:lnTo>
                  <a:pt x="1278" y="426"/>
                </a:lnTo>
                <a:lnTo>
                  <a:pt x="1284" y="420"/>
                </a:lnTo>
                <a:lnTo>
                  <a:pt x="1290" y="414"/>
                </a:lnTo>
                <a:lnTo>
                  <a:pt x="1296" y="408"/>
                </a:lnTo>
                <a:lnTo>
                  <a:pt x="1308" y="396"/>
                </a:lnTo>
                <a:lnTo>
                  <a:pt x="1308" y="390"/>
                </a:lnTo>
                <a:lnTo>
                  <a:pt x="1314" y="384"/>
                </a:lnTo>
                <a:lnTo>
                  <a:pt x="1320" y="378"/>
                </a:lnTo>
                <a:lnTo>
                  <a:pt x="1320" y="372"/>
                </a:lnTo>
                <a:lnTo>
                  <a:pt x="1332" y="360"/>
                </a:lnTo>
                <a:lnTo>
                  <a:pt x="1332" y="354"/>
                </a:lnTo>
                <a:lnTo>
                  <a:pt x="1338" y="348"/>
                </a:lnTo>
                <a:lnTo>
                  <a:pt x="1338" y="342"/>
                </a:lnTo>
                <a:lnTo>
                  <a:pt x="1344" y="336"/>
                </a:lnTo>
                <a:lnTo>
                  <a:pt x="1344" y="330"/>
                </a:lnTo>
                <a:lnTo>
                  <a:pt x="1350" y="324"/>
                </a:lnTo>
                <a:lnTo>
                  <a:pt x="1356" y="318"/>
                </a:lnTo>
                <a:lnTo>
                  <a:pt x="1356" y="306"/>
                </a:lnTo>
                <a:lnTo>
                  <a:pt x="1362" y="300"/>
                </a:lnTo>
                <a:lnTo>
                  <a:pt x="1362" y="288"/>
                </a:lnTo>
                <a:lnTo>
                  <a:pt x="1368" y="282"/>
                </a:lnTo>
                <a:lnTo>
                  <a:pt x="1374" y="276"/>
                </a:lnTo>
                <a:lnTo>
                  <a:pt x="1374" y="264"/>
                </a:lnTo>
                <a:lnTo>
                  <a:pt x="1380" y="258"/>
                </a:lnTo>
                <a:lnTo>
                  <a:pt x="1380" y="246"/>
                </a:lnTo>
                <a:lnTo>
                  <a:pt x="1386" y="240"/>
                </a:lnTo>
                <a:lnTo>
                  <a:pt x="1392" y="234"/>
                </a:lnTo>
                <a:lnTo>
                  <a:pt x="1392" y="222"/>
                </a:lnTo>
                <a:lnTo>
                  <a:pt x="1398" y="216"/>
                </a:lnTo>
                <a:lnTo>
                  <a:pt x="1398" y="204"/>
                </a:lnTo>
                <a:lnTo>
                  <a:pt x="1404" y="198"/>
                </a:lnTo>
                <a:lnTo>
                  <a:pt x="1404" y="186"/>
                </a:lnTo>
                <a:lnTo>
                  <a:pt x="1410" y="180"/>
                </a:lnTo>
                <a:lnTo>
                  <a:pt x="1410" y="168"/>
                </a:lnTo>
                <a:lnTo>
                  <a:pt x="1416" y="162"/>
                </a:lnTo>
                <a:lnTo>
                  <a:pt x="1416" y="156"/>
                </a:lnTo>
                <a:lnTo>
                  <a:pt x="1422" y="150"/>
                </a:lnTo>
                <a:lnTo>
                  <a:pt x="1422" y="132"/>
                </a:lnTo>
                <a:lnTo>
                  <a:pt x="1428" y="126"/>
                </a:lnTo>
                <a:lnTo>
                  <a:pt x="1428" y="114"/>
                </a:lnTo>
                <a:lnTo>
                  <a:pt x="1434" y="108"/>
                </a:lnTo>
                <a:lnTo>
                  <a:pt x="1434" y="96"/>
                </a:lnTo>
                <a:lnTo>
                  <a:pt x="1440" y="84"/>
                </a:lnTo>
                <a:lnTo>
                  <a:pt x="1440" y="72"/>
                </a:lnTo>
                <a:lnTo>
                  <a:pt x="1446" y="66"/>
                </a:lnTo>
                <a:lnTo>
                  <a:pt x="1446" y="48"/>
                </a:lnTo>
                <a:lnTo>
                  <a:pt x="1452" y="42"/>
                </a:lnTo>
                <a:lnTo>
                  <a:pt x="1452" y="30"/>
                </a:lnTo>
                <a:lnTo>
                  <a:pt x="1458" y="24"/>
                </a:lnTo>
                <a:lnTo>
                  <a:pt x="1458" y="6"/>
                </a:lnTo>
                <a:lnTo>
                  <a:pt x="146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191120" y="1819440"/>
            <a:ext cx="66600" cy="276120"/>
          </a:xfrm>
          <a:custGeom>
            <a:avLst/>
            <a:gdLst/>
            <a:ahLst/>
            <a:rect l="l" t="t" r="r" b="b"/>
            <a:pathLst>
              <a:path w="42" h="174">
                <a:moveTo>
                  <a:pt x="0" y="174"/>
                </a:moveTo>
                <a:lnTo>
                  <a:pt x="0" y="156"/>
                </a:lnTo>
                <a:lnTo>
                  <a:pt x="6" y="150"/>
                </a:lnTo>
                <a:lnTo>
                  <a:pt x="6" y="138"/>
                </a:lnTo>
                <a:lnTo>
                  <a:pt x="12" y="132"/>
                </a:lnTo>
                <a:lnTo>
                  <a:pt x="12" y="114"/>
                </a:lnTo>
                <a:lnTo>
                  <a:pt x="18" y="108"/>
                </a:lnTo>
                <a:lnTo>
                  <a:pt x="18" y="84"/>
                </a:lnTo>
                <a:lnTo>
                  <a:pt x="24" y="78"/>
                </a:lnTo>
                <a:lnTo>
                  <a:pt x="24" y="60"/>
                </a:lnTo>
                <a:lnTo>
                  <a:pt x="30" y="54"/>
                </a:lnTo>
                <a:lnTo>
                  <a:pt x="30" y="36"/>
                </a:lnTo>
                <a:lnTo>
                  <a:pt x="36" y="30"/>
                </a:lnTo>
                <a:lnTo>
                  <a:pt x="36" y="12"/>
                </a:lnTo>
                <a:lnTo>
                  <a:pt x="4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866960" y="1933560"/>
            <a:ext cx="2247840" cy="1038240"/>
          </a:xfrm>
          <a:custGeom>
            <a:avLst/>
            <a:gdLst/>
            <a:ahLst/>
            <a:rect l="l" t="t" r="r" b="b"/>
            <a:pathLst>
              <a:path w="1416" h="654">
                <a:moveTo>
                  <a:pt x="0" y="654"/>
                </a:moveTo>
                <a:lnTo>
                  <a:pt x="192" y="654"/>
                </a:lnTo>
                <a:lnTo>
                  <a:pt x="312" y="648"/>
                </a:lnTo>
                <a:lnTo>
                  <a:pt x="390" y="648"/>
                </a:lnTo>
                <a:lnTo>
                  <a:pt x="456" y="648"/>
                </a:lnTo>
                <a:lnTo>
                  <a:pt x="504" y="648"/>
                </a:lnTo>
                <a:lnTo>
                  <a:pt x="552" y="648"/>
                </a:lnTo>
                <a:lnTo>
                  <a:pt x="588" y="648"/>
                </a:lnTo>
                <a:lnTo>
                  <a:pt x="624" y="648"/>
                </a:lnTo>
                <a:lnTo>
                  <a:pt x="654" y="648"/>
                </a:lnTo>
                <a:lnTo>
                  <a:pt x="678" y="648"/>
                </a:lnTo>
                <a:lnTo>
                  <a:pt x="702" y="648"/>
                </a:lnTo>
                <a:lnTo>
                  <a:pt x="726" y="648"/>
                </a:lnTo>
                <a:lnTo>
                  <a:pt x="750" y="648"/>
                </a:lnTo>
                <a:lnTo>
                  <a:pt x="768" y="648"/>
                </a:lnTo>
                <a:lnTo>
                  <a:pt x="786" y="648"/>
                </a:lnTo>
                <a:lnTo>
                  <a:pt x="804" y="648"/>
                </a:lnTo>
                <a:lnTo>
                  <a:pt x="816" y="648"/>
                </a:lnTo>
                <a:lnTo>
                  <a:pt x="834" y="642"/>
                </a:lnTo>
                <a:lnTo>
                  <a:pt x="846" y="642"/>
                </a:lnTo>
                <a:lnTo>
                  <a:pt x="864" y="642"/>
                </a:lnTo>
                <a:lnTo>
                  <a:pt x="876" y="642"/>
                </a:lnTo>
                <a:lnTo>
                  <a:pt x="888" y="642"/>
                </a:lnTo>
                <a:lnTo>
                  <a:pt x="900" y="642"/>
                </a:lnTo>
                <a:lnTo>
                  <a:pt x="912" y="642"/>
                </a:lnTo>
                <a:lnTo>
                  <a:pt x="924" y="642"/>
                </a:lnTo>
                <a:lnTo>
                  <a:pt x="936" y="642"/>
                </a:lnTo>
                <a:lnTo>
                  <a:pt x="942" y="636"/>
                </a:lnTo>
                <a:lnTo>
                  <a:pt x="954" y="636"/>
                </a:lnTo>
                <a:lnTo>
                  <a:pt x="966" y="636"/>
                </a:lnTo>
                <a:lnTo>
                  <a:pt x="972" y="636"/>
                </a:lnTo>
                <a:lnTo>
                  <a:pt x="984" y="636"/>
                </a:lnTo>
                <a:lnTo>
                  <a:pt x="990" y="636"/>
                </a:lnTo>
                <a:lnTo>
                  <a:pt x="1002" y="630"/>
                </a:lnTo>
                <a:lnTo>
                  <a:pt x="1008" y="630"/>
                </a:lnTo>
                <a:lnTo>
                  <a:pt x="1014" y="630"/>
                </a:lnTo>
                <a:lnTo>
                  <a:pt x="1026" y="630"/>
                </a:lnTo>
                <a:lnTo>
                  <a:pt x="1032" y="630"/>
                </a:lnTo>
                <a:lnTo>
                  <a:pt x="1038" y="624"/>
                </a:lnTo>
                <a:lnTo>
                  <a:pt x="1044" y="624"/>
                </a:lnTo>
                <a:lnTo>
                  <a:pt x="1050" y="624"/>
                </a:lnTo>
                <a:lnTo>
                  <a:pt x="1062" y="624"/>
                </a:lnTo>
                <a:lnTo>
                  <a:pt x="1068" y="624"/>
                </a:lnTo>
                <a:lnTo>
                  <a:pt x="1074" y="618"/>
                </a:lnTo>
                <a:lnTo>
                  <a:pt x="1080" y="618"/>
                </a:lnTo>
                <a:lnTo>
                  <a:pt x="1086" y="618"/>
                </a:lnTo>
                <a:lnTo>
                  <a:pt x="1092" y="612"/>
                </a:lnTo>
                <a:lnTo>
                  <a:pt x="1098" y="612"/>
                </a:lnTo>
                <a:lnTo>
                  <a:pt x="1104" y="612"/>
                </a:lnTo>
                <a:lnTo>
                  <a:pt x="1110" y="612"/>
                </a:lnTo>
                <a:lnTo>
                  <a:pt x="1116" y="606"/>
                </a:lnTo>
                <a:lnTo>
                  <a:pt x="1122" y="606"/>
                </a:lnTo>
                <a:lnTo>
                  <a:pt x="1128" y="600"/>
                </a:lnTo>
                <a:lnTo>
                  <a:pt x="1134" y="600"/>
                </a:lnTo>
                <a:lnTo>
                  <a:pt x="1140" y="594"/>
                </a:lnTo>
                <a:lnTo>
                  <a:pt x="1146" y="594"/>
                </a:lnTo>
                <a:lnTo>
                  <a:pt x="1152" y="594"/>
                </a:lnTo>
                <a:lnTo>
                  <a:pt x="1158" y="588"/>
                </a:lnTo>
                <a:lnTo>
                  <a:pt x="1164" y="582"/>
                </a:lnTo>
                <a:lnTo>
                  <a:pt x="1170" y="582"/>
                </a:lnTo>
                <a:lnTo>
                  <a:pt x="1176" y="576"/>
                </a:lnTo>
                <a:lnTo>
                  <a:pt x="1182" y="570"/>
                </a:lnTo>
                <a:lnTo>
                  <a:pt x="1188" y="570"/>
                </a:lnTo>
                <a:lnTo>
                  <a:pt x="1194" y="564"/>
                </a:lnTo>
                <a:lnTo>
                  <a:pt x="1200" y="558"/>
                </a:lnTo>
                <a:lnTo>
                  <a:pt x="1206" y="552"/>
                </a:lnTo>
                <a:lnTo>
                  <a:pt x="1212" y="546"/>
                </a:lnTo>
                <a:lnTo>
                  <a:pt x="1218" y="540"/>
                </a:lnTo>
                <a:lnTo>
                  <a:pt x="1224" y="534"/>
                </a:lnTo>
                <a:lnTo>
                  <a:pt x="1230" y="528"/>
                </a:lnTo>
                <a:lnTo>
                  <a:pt x="1236" y="516"/>
                </a:lnTo>
                <a:lnTo>
                  <a:pt x="1242" y="510"/>
                </a:lnTo>
                <a:lnTo>
                  <a:pt x="1248" y="504"/>
                </a:lnTo>
                <a:lnTo>
                  <a:pt x="1248" y="498"/>
                </a:lnTo>
                <a:lnTo>
                  <a:pt x="1254" y="492"/>
                </a:lnTo>
                <a:lnTo>
                  <a:pt x="1254" y="486"/>
                </a:lnTo>
                <a:lnTo>
                  <a:pt x="1260" y="480"/>
                </a:lnTo>
                <a:lnTo>
                  <a:pt x="1266" y="474"/>
                </a:lnTo>
                <a:lnTo>
                  <a:pt x="1266" y="468"/>
                </a:lnTo>
                <a:lnTo>
                  <a:pt x="1272" y="462"/>
                </a:lnTo>
                <a:lnTo>
                  <a:pt x="1272" y="456"/>
                </a:lnTo>
                <a:lnTo>
                  <a:pt x="1278" y="450"/>
                </a:lnTo>
                <a:lnTo>
                  <a:pt x="1278" y="444"/>
                </a:lnTo>
                <a:lnTo>
                  <a:pt x="1284" y="438"/>
                </a:lnTo>
                <a:lnTo>
                  <a:pt x="1284" y="426"/>
                </a:lnTo>
                <a:lnTo>
                  <a:pt x="1290" y="420"/>
                </a:lnTo>
                <a:lnTo>
                  <a:pt x="1290" y="414"/>
                </a:lnTo>
                <a:lnTo>
                  <a:pt x="1296" y="408"/>
                </a:lnTo>
                <a:lnTo>
                  <a:pt x="1296" y="396"/>
                </a:lnTo>
                <a:lnTo>
                  <a:pt x="1302" y="390"/>
                </a:lnTo>
                <a:lnTo>
                  <a:pt x="1302" y="378"/>
                </a:lnTo>
                <a:lnTo>
                  <a:pt x="1308" y="372"/>
                </a:lnTo>
                <a:lnTo>
                  <a:pt x="1308" y="366"/>
                </a:lnTo>
                <a:lnTo>
                  <a:pt x="1314" y="354"/>
                </a:lnTo>
                <a:lnTo>
                  <a:pt x="1314" y="348"/>
                </a:lnTo>
                <a:lnTo>
                  <a:pt x="1320" y="336"/>
                </a:lnTo>
                <a:lnTo>
                  <a:pt x="1320" y="318"/>
                </a:lnTo>
                <a:lnTo>
                  <a:pt x="1326" y="312"/>
                </a:lnTo>
                <a:lnTo>
                  <a:pt x="1326" y="300"/>
                </a:lnTo>
                <a:lnTo>
                  <a:pt x="1332" y="294"/>
                </a:lnTo>
                <a:lnTo>
                  <a:pt x="1332" y="288"/>
                </a:lnTo>
                <a:lnTo>
                  <a:pt x="1338" y="276"/>
                </a:lnTo>
                <a:lnTo>
                  <a:pt x="1338" y="264"/>
                </a:lnTo>
                <a:lnTo>
                  <a:pt x="1344" y="252"/>
                </a:lnTo>
                <a:lnTo>
                  <a:pt x="1344" y="246"/>
                </a:lnTo>
                <a:lnTo>
                  <a:pt x="1350" y="234"/>
                </a:lnTo>
                <a:lnTo>
                  <a:pt x="1350" y="228"/>
                </a:lnTo>
                <a:lnTo>
                  <a:pt x="1356" y="216"/>
                </a:lnTo>
                <a:lnTo>
                  <a:pt x="1356" y="204"/>
                </a:lnTo>
                <a:lnTo>
                  <a:pt x="1362" y="192"/>
                </a:lnTo>
                <a:lnTo>
                  <a:pt x="1362" y="180"/>
                </a:lnTo>
                <a:lnTo>
                  <a:pt x="1368" y="168"/>
                </a:lnTo>
                <a:lnTo>
                  <a:pt x="1368" y="162"/>
                </a:lnTo>
                <a:lnTo>
                  <a:pt x="1374" y="156"/>
                </a:lnTo>
                <a:lnTo>
                  <a:pt x="1374" y="138"/>
                </a:lnTo>
                <a:lnTo>
                  <a:pt x="1380" y="132"/>
                </a:lnTo>
                <a:lnTo>
                  <a:pt x="1380" y="114"/>
                </a:lnTo>
                <a:lnTo>
                  <a:pt x="1386" y="108"/>
                </a:lnTo>
                <a:lnTo>
                  <a:pt x="1386" y="96"/>
                </a:lnTo>
                <a:lnTo>
                  <a:pt x="1392" y="90"/>
                </a:lnTo>
                <a:lnTo>
                  <a:pt x="1392" y="72"/>
                </a:lnTo>
                <a:lnTo>
                  <a:pt x="1398" y="66"/>
                </a:lnTo>
                <a:lnTo>
                  <a:pt x="1398" y="54"/>
                </a:lnTo>
                <a:lnTo>
                  <a:pt x="1404" y="48"/>
                </a:lnTo>
                <a:lnTo>
                  <a:pt x="1404" y="30"/>
                </a:lnTo>
                <a:lnTo>
                  <a:pt x="1410" y="24"/>
                </a:lnTo>
                <a:lnTo>
                  <a:pt x="1410" y="12"/>
                </a:lnTo>
                <a:lnTo>
                  <a:pt x="141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114800" y="1343160"/>
            <a:ext cx="142920" cy="590400"/>
          </a:xfrm>
          <a:custGeom>
            <a:avLst/>
            <a:gdLst/>
            <a:ahLst/>
            <a:rect l="l" t="t" r="r" b="b"/>
            <a:pathLst>
              <a:path w="90" h="372">
                <a:moveTo>
                  <a:pt x="0" y="372"/>
                </a:moveTo>
                <a:lnTo>
                  <a:pt x="0" y="360"/>
                </a:lnTo>
                <a:lnTo>
                  <a:pt x="6" y="354"/>
                </a:lnTo>
                <a:lnTo>
                  <a:pt x="6" y="330"/>
                </a:lnTo>
                <a:lnTo>
                  <a:pt x="12" y="324"/>
                </a:lnTo>
                <a:lnTo>
                  <a:pt x="12" y="306"/>
                </a:lnTo>
                <a:lnTo>
                  <a:pt x="18" y="300"/>
                </a:lnTo>
                <a:lnTo>
                  <a:pt x="18" y="288"/>
                </a:lnTo>
                <a:lnTo>
                  <a:pt x="24" y="282"/>
                </a:lnTo>
                <a:lnTo>
                  <a:pt x="24" y="264"/>
                </a:lnTo>
                <a:lnTo>
                  <a:pt x="30" y="258"/>
                </a:lnTo>
                <a:lnTo>
                  <a:pt x="30" y="240"/>
                </a:lnTo>
                <a:lnTo>
                  <a:pt x="36" y="234"/>
                </a:lnTo>
                <a:lnTo>
                  <a:pt x="36" y="216"/>
                </a:lnTo>
                <a:lnTo>
                  <a:pt x="42" y="210"/>
                </a:lnTo>
                <a:lnTo>
                  <a:pt x="42" y="192"/>
                </a:lnTo>
                <a:lnTo>
                  <a:pt x="48" y="186"/>
                </a:lnTo>
                <a:lnTo>
                  <a:pt x="48" y="162"/>
                </a:lnTo>
                <a:lnTo>
                  <a:pt x="54" y="156"/>
                </a:lnTo>
                <a:lnTo>
                  <a:pt x="54" y="144"/>
                </a:lnTo>
                <a:lnTo>
                  <a:pt x="60" y="138"/>
                </a:lnTo>
                <a:lnTo>
                  <a:pt x="60" y="114"/>
                </a:lnTo>
                <a:lnTo>
                  <a:pt x="66" y="108"/>
                </a:lnTo>
                <a:lnTo>
                  <a:pt x="66" y="90"/>
                </a:lnTo>
                <a:lnTo>
                  <a:pt x="72" y="78"/>
                </a:lnTo>
                <a:lnTo>
                  <a:pt x="72" y="60"/>
                </a:lnTo>
                <a:lnTo>
                  <a:pt x="78" y="54"/>
                </a:lnTo>
                <a:lnTo>
                  <a:pt x="78" y="36"/>
                </a:lnTo>
                <a:lnTo>
                  <a:pt x="84" y="30"/>
                </a:lnTo>
                <a:lnTo>
                  <a:pt x="84" y="6"/>
                </a:lnTo>
                <a:lnTo>
                  <a:pt x="9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16200000">
            <a:off x="927000" y="196308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448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48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5400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400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353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353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5286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286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5219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219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448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448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34312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4774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762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762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943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943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6076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076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6181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81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257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57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39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39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438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38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486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486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6486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486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81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515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6800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800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98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98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115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15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219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219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7296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296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7372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372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7429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429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7486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486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71600" y="2905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97160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143680" y="1324080"/>
            <a:ext cx="2286000" cy="1047600"/>
          </a:xfrm>
          <a:custGeom>
            <a:avLst/>
            <a:gdLst/>
            <a:ahLst/>
            <a:rect l="l" t="t" r="r" b="b"/>
            <a:pathLst>
              <a:path w="1440" h="660">
                <a:moveTo>
                  <a:pt x="0" y="660"/>
                </a:moveTo>
                <a:lnTo>
                  <a:pt x="192" y="486"/>
                </a:lnTo>
                <a:lnTo>
                  <a:pt x="312" y="318"/>
                </a:lnTo>
                <a:lnTo>
                  <a:pt x="390" y="228"/>
                </a:lnTo>
                <a:lnTo>
                  <a:pt x="456" y="174"/>
                </a:lnTo>
                <a:lnTo>
                  <a:pt x="504" y="138"/>
                </a:lnTo>
                <a:lnTo>
                  <a:pt x="552" y="108"/>
                </a:lnTo>
                <a:lnTo>
                  <a:pt x="588" y="90"/>
                </a:lnTo>
                <a:lnTo>
                  <a:pt x="624" y="72"/>
                </a:lnTo>
                <a:lnTo>
                  <a:pt x="654" y="60"/>
                </a:lnTo>
                <a:lnTo>
                  <a:pt x="678" y="48"/>
                </a:lnTo>
                <a:lnTo>
                  <a:pt x="702" y="42"/>
                </a:lnTo>
                <a:lnTo>
                  <a:pt x="726" y="36"/>
                </a:lnTo>
                <a:lnTo>
                  <a:pt x="750" y="30"/>
                </a:lnTo>
                <a:lnTo>
                  <a:pt x="768" y="24"/>
                </a:lnTo>
                <a:lnTo>
                  <a:pt x="786" y="18"/>
                </a:lnTo>
                <a:lnTo>
                  <a:pt x="804" y="18"/>
                </a:lnTo>
                <a:lnTo>
                  <a:pt x="816" y="12"/>
                </a:lnTo>
                <a:lnTo>
                  <a:pt x="834" y="12"/>
                </a:lnTo>
                <a:lnTo>
                  <a:pt x="846" y="6"/>
                </a:lnTo>
                <a:lnTo>
                  <a:pt x="864" y="6"/>
                </a:lnTo>
                <a:lnTo>
                  <a:pt x="876" y="6"/>
                </a:lnTo>
                <a:lnTo>
                  <a:pt x="888" y="6"/>
                </a:lnTo>
                <a:lnTo>
                  <a:pt x="900" y="6"/>
                </a:lnTo>
                <a:lnTo>
                  <a:pt x="912" y="6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54" y="0"/>
                </a:lnTo>
                <a:lnTo>
                  <a:pt x="966" y="0"/>
                </a:lnTo>
                <a:lnTo>
                  <a:pt x="972" y="0"/>
                </a:lnTo>
                <a:lnTo>
                  <a:pt x="984" y="6"/>
                </a:lnTo>
                <a:lnTo>
                  <a:pt x="990" y="6"/>
                </a:lnTo>
                <a:lnTo>
                  <a:pt x="1002" y="6"/>
                </a:lnTo>
                <a:lnTo>
                  <a:pt x="1008" y="6"/>
                </a:lnTo>
                <a:lnTo>
                  <a:pt x="1014" y="6"/>
                </a:lnTo>
                <a:lnTo>
                  <a:pt x="1026" y="6"/>
                </a:lnTo>
                <a:lnTo>
                  <a:pt x="1032" y="6"/>
                </a:lnTo>
                <a:lnTo>
                  <a:pt x="1038" y="6"/>
                </a:lnTo>
                <a:lnTo>
                  <a:pt x="1044" y="12"/>
                </a:lnTo>
                <a:lnTo>
                  <a:pt x="1050" y="12"/>
                </a:lnTo>
                <a:lnTo>
                  <a:pt x="1062" y="12"/>
                </a:lnTo>
                <a:lnTo>
                  <a:pt x="1068" y="12"/>
                </a:lnTo>
                <a:lnTo>
                  <a:pt x="1074" y="18"/>
                </a:lnTo>
                <a:lnTo>
                  <a:pt x="1080" y="18"/>
                </a:lnTo>
                <a:lnTo>
                  <a:pt x="1086" y="18"/>
                </a:lnTo>
                <a:lnTo>
                  <a:pt x="1092" y="18"/>
                </a:lnTo>
                <a:lnTo>
                  <a:pt x="1098" y="24"/>
                </a:lnTo>
                <a:lnTo>
                  <a:pt x="1104" y="24"/>
                </a:lnTo>
                <a:lnTo>
                  <a:pt x="1110" y="24"/>
                </a:lnTo>
                <a:lnTo>
                  <a:pt x="1116" y="24"/>
                </a:lnTo>
                <a:lnTo>
                  <a:pt x="1122" y="30"/>
                </a:lnTo>
                <a:lnTo>
                  <a:pt x="1128" y="36"/>
                </a:lnTo>
                <a:lnTo>
                  <a:pt x="1134" y="36"/>
                </a:lnTo>
                <a:lnTo>
                  <a:pt x="1140" y="36"/>
                </a:lnTo>
                <a:lnTo>
                  <a:pt x="1146" y="42"/>
                </a:lnTo>
                <a:lnTo>
                  <a:pt x="1152" y="42"/>
                </a:lnTo>
                <a:lnTo>
                  <a:pt x="1158" y="48"/>
                </a:lnTo>
                <a:lnTo>
                  <a:pt x="1164" y="48"/>
                </a:lnTo>
                <a:lnTo>
                  <a:pt x="1170" y="54"/>
                </a:lnTo>
                <a:lnTo>
                  <a:pt x="1176" y="54"/>
                </a:lnTo>
                <a:lnTo>
                  <a:pt x="1182" y="60"/>
                </a:lnTo>
                <a:lnTo>
                  <a:pt x="1188" y="66"/>
                </a:lnTo>
                <a:lnTo>
                  <a:pt x="1194" y="72"/>
                </a:lnTo>
                <a:lnTo>
                  <a:pt x="1200" y="72"/>
                </a:lnTo>
                <a:lnTo>
                  <a:pt x="1206" y="78"/>
                </a:lnTo>
                <a:lnTo>
                  <a:pt x="1212" y="84"/>
                </a:lnTo>
                <a:lnTo>
                  <a:pt x="1218" y="90"/>
                </a:lnTo>
                <a:lnTo>
                  <a:pt x="1224" y="90"/>
                </a:lnTo>
                <a:lnTo>
                  <a:pt x="1230" y="102"/>
                </a:lnTo>
                <a:lnTo>
                  <a:pt x="1236" y="108"/>
                </a:lnTo>
                <a:lnTo>
                  <a:pt x="1242" y="108"/>
                </a:lnTo>
                <a:lnTo>
                  <a:pt x="1248" y="120"/>
                </a:lnTo>
                <a:lnTo>
                  <a:pt x="1254" y="126"/>
                </a:lnTo>
                <a:lnTo>
                  <a:pt x="1260" y="132"/>
                </a:lnTo>
                <a:lnTo>
                  <a:pt x="1266" y="138"/>
                </a:lnTo>
                <a:lnTo>
                  <a:pt x="1278" y="150"/>
                </a:lnTo>
                <a:lnTo>
                  <a:pt x="1278" y="156"/>
                </a:lnTo>
                <a:lnTo>
                  <a:pt x="1290" y="168"/>
                </a:lnTo>
                <a:lnTo>
                  <a:pt x="1290" y="174"/>
                </a:lnTo>
                <a:lnTo>
                  <a:pt x="1296" y="180"/>
                </a:lnTo>
                <a:lnTo>
                  <a:pt x="1296" y="186"/>
                </a:lnTo>
                <a:lnTo>
                  <a:pt x="1302" y="192"/>
                </a:lnTo>
                <a:lnTo>
                  <a:pt x="1308" y="198"/>
                </a:lnTo>
                <a:lnTo>
                  <a:pt x="1308" y="204"/>
                </a:lnTo>
                <a:lnTo>
                  <a:pt x="1314" y="210"/>
                </a:lnTo>
                <a:lnTo>
                  <a:pt x="1314" y="216"/>
                </a:lnTo>
                <a:lnTo>
                  <a:pt x="1320" y="222"/>
                </a:lnTo>
                <a:lnTo>
                  <a:pt x="1320" y="228"/>
                </a:lnTo>
                <a:lnTo>
                  <a:pt x="1326" y="234"/>
                </a:lnTo>
                <a:lnTo>
                  <a:pt x="1326" y="240"/>
                </a:lnTo>
                <a:lnTo>
                  <a:pt x="1332" y="246"/>
                </a:lnTo>
                <a:lnTo>
                  <a:pt x="1332" y="252"/>
                </a:lnTo>
                <a:lnTo>
                  <a:pt x="1338" y="258"/>
                </a:lnTo>
                <a:lnTo>
                  <a:pt x="1338" y="264"/>
                </a:lnTo>
                <a:lnTo>
                  <a:pt x="1344" y="270"/>
                </a:lnTo>
                <a:lnTo>
                  <a:pt x="1344" y="276"/>
                </a:lnTo>
                <a:lnTo>
                  <a:pt x="1350" y="282"/>
                </a:lnTo>
                <a:lnTo>
                  <a:pt x="1350" y="288"/>
                </a:lnTo>
                <a:lnTo>
                  <a:pt x="1356" y="294"/>
                </a:lnTo>
                <a:lnTo>
                  <a:pt x="1356" y="300"/>
                </a:lnTo>
                <a:lnTo>
                  <a:pt x="1362" y="306"/>
                </a:lnTo>
                <a:lnTo>
                  <a:pt x="1362" y="318"/>
                </a:lnTo>
                <a:lnTo>
                  <a:pt x="1368" y="324"/>
                </a:lnTo>
                <a:lnTo>
                  <a:pt x="1368" y="330"/>
                </a:lnTo>
                <a:lnTo>
                  <a:pt x="1374" y="336"/>
                </a:lnTo>
                <a:lnTo>
                  <a:pt x="1374" y="342"/>
                </a:lnTo>
                <a:lnTo>
                  <a:pt x="1380" y="348"/>
                </a:lnTo>
                <a:lnTo>
                  <a:pt x="1380" y="360"/>
                </a:lnTo>
                <a:lnTo>
                  <a:pt x="1386" y="366"/>
                </a:lnTo>
                <a:lnTo>
                  <a:pt x="1386" y="372"/>
                </a:lnTo>
                <a:lnTo>
                  <a:pt x="1392" y="378"/>
                </a:lnTo>
                <a:lnTo>
                  <a:pt x="1392" y="384"/>
                </a:lnTo>
                <a:lnTo>
                  <a:pt x="1398" y="390"/>
                </a:lnTo>
                <a:lnTo>
                  <a:pt x="1398" y="402"/>
                </a:lnTo>
                <a:lnTo>
                  <a:pt x="1404" y="408"/>
                </a:lnTo>
                <a:lnTo>
                  <a:pt x="1404" y="414"/>
                </a:lnTo>
                <a:lnTo>
                  <a:pt x="1410" y="420"/>
                </a:lnTo>
                <a:lnTo>
                  <a:pt x="1410" y="432"/>
                </a:lnTo>
                <a:lnTo>
                  <a:pt x="1416" y="438"/>
                </a:lnTo>
                <a:lnTo>
                  <a:pt x="1416" y="444"/>
                </a:lnTo>
                <a:lnTo>
                  <a:pt x="1422" y="450"/>
                </a:lnTo>
                <a:lnTo>
                  <a:pt x="1422" y="462"/>
                </a:lnTo>
                <a:lnTo>
                  <a:pt x="1428" y="468"/>
                </a:lnTo>
                <a:lnTo>
                  <a:pt x="1428" y="474"/>
                </a:lnTo>
                <a:lnTo>
                  <a:pt x="1434" y="480"/>
                </a:lnTo>
                <a:lnTo>
                  <a:pt x="1434" y="486"/>
                </a:lnTo>
                <a:lnTo>
                  <a:pt x="1440" y="4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29680" y="2104920"/>
            <a:ext cx="104760" cy="238320"/>
          </a:xfrm>
          <a:custGeom>
            <a:avLst/>
            <a:gdLst/>
            <a:ahLst/>
            <a:rect l="l" t="t" r="r" b="b"/>
            <a:pathLst>
              <a:path w="66" h="150">
                <a:moveTo>
                  <a:pt x="0" y="0"/>
                </a:moveTo>
                <a:lnTo>
                  <a:pt x="0" y="6"/>
                </a:lnTo>
                <a:lnTo>
                  <a:pt x="6" y="12"/>
                </a:lnTo>
                <a:lnTo>
                  <a:pt x="6" y="24"/>
                </a:lnTo>
                <a:lnTo>
                  <a:pt x="12" y="30"/>
                </a:lnTo>
                <a:lnTo>
                  <a:pt x="12" y="36"/>
                </a:lnTo>
                <a:lnTo>
                  <a:pt x="18" y="42"/>
                </a:lnTo>
                <a:lnTo>
                  <a:pt x="18" y="54"/>
                </a:lnTo>
                <a:lnTo>
                  <a:pt x="24" y="60"/>
                </a:lnTo>
                <a:lnTo>
                  <a:pt x="24" y="66"/>
                </a:lnTo>
                <a:lnTo>
                  <a:pt x="30" y="72"/>
                </a:lnTo>
                <a:lnTo>
                  <a:pt x="30" y="78"/>
                </a:lnTo>
                <a:lnTo>
                  <a:pt x="36" y="84"/>
                </a:lnTo>
                <a:lnTo>
                  <a:pt x="36" y="90"/>
                </a:lnTo>
                <a:lnTo>
                  <a:pt x="42" y="96"/>
                </a:lnTo>
                <a:lnTo>
                  <a:pt x="42" y="108"/>
                </a:lnTo>
                <a:lnTo>
                  <a:pt x="54" y="120"/>
                </a:lnTo>
                <a:lnTo>
                  <a:pt x="54" y="132"/>
                </a:lnTo>
                <a:lnTo>
                  <a:pt x="60" y="138"/>
                </a:lnTo>
                <a:lnTo>
                  <a:pt x="60" y="144"/>
                </a:lnTo>
                <a:lnTo>
                  <a:pt x="66" y="15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143680" y="1314360"/>
            <a:ext cx="2219040" cy="1600200"/>
          </a:xfrm>
          <a:custGeom>
            <a:avLst/>
            <a:gdLst/>
            <a:ahLst/>
            <a:rect l="l" t="t" r="r" b="b"/>
            <a:pathLst>
              <a:path w="1398" h="1008">
                <a:moveTo>
                  <a:pt x="0" y="1008"/>
                </a:moveTo>
                <a:lnTo>
                  <a:pt x="192" y="504"/>
                </a:lnTo>
                <a:lnTo>
                  <a:pt x="312" y="312"/>
                </a:lnTo>
                <a:lnTo>
                  <a:pt x="390" y="216"/>
                </a:lnTo>
                <a:lnTo>
                  <a:pt x="456" y="156"/>
                </a:lnTo>
                <a:lnTo>
                  <a:pt x="504" y="114"/>
                </a:lnTo>
                <a:lnTo>
                  <a:pt x="552" y="90"/>
                </a:lnTo>
                <a:lnTo>
                  <a:pt x="588" y="66"/>
                </a:lnTo>
                <a:lnTo>
                  <a:pt x="624" y="54"/>
                </a:lnTo>
                <a:lnTo>
                  <a:pt x="654" y="42"/>
                </a:lnTo>
                <a:lnTo>
                  <a:pt x="678" y="30"/>
                </a:lnTo>
                <a:lnTo>
                  <a:pt x="702" y="24"/>
                </a:lnTo>
                <a:lnTo>
                  <a:pt x="726" y="18"/>
                </a:lnTo>
                <a:lnTo>
                  <a:pt x="750" y="12"/>
                </a:lnTo>
                <a:lnTo>
                  <a:pt x="768" y="12"/>
                </a:lnTo>
                <a:lnTo>
                  <a:pt x="786" y="6"/>
                </a:lnTo>
                <a:lnTo>
                  <a:pt x="804" y="6"/>
                </a:lnTo>
                <a:lnTo>
                  <a:pt x="816" y="6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6"/>
                </a:lnTo>
                <a:lnTo>
                  <a:pt x="942" y="6"/>
                </a:lnTo>
                <a:lnTo>
                  <a:pt x="954" y="6"/>
                </a:lnTo>
                <a:lnTo>
                  <a:pt x="966" y="6"/>
                </a:lnTo>
                <a:lnTo>
                  <a:pt x="972" y="6"/>
                </a:lnTo>
                <a:lnTo>
                  <a:pt x="984" y="12"/>
                </a:lnTo>
                <a:lnTo>
                  <a:pt x="990" y="12"/>
                </a:lnTo>
                <a:lnTo>
                  <a:pt x="1002" y="12"/>
                </a:lnTo>
                <a:lnTo>
                  <a:pt x="1008" y="18"/>
                </a:lnTo>
                <a:lnTo>
                  <a:pt x="1014" y="18"/>
                </a:lnTo>
                <a:lnTo>
                  <a:pt x="1026" y="18"/>
                </a:lnTo>
                <a:lnTo>
                  <a:pt x="1032" y="24"/>
                </a:lnTo>
                <a:lnTo>
                  <a:pt x="1038" y="24"/>
                </a:lnTo>
                <a:lnTo>
                  <a:pt x="1044" y="30"/>
                </a:lnTo>
                <a:lnTo>
                  <a:pt x="1050" y="30"/>
                </a:lnTo>
                <a:lnTo>
                  <a:pt x="1062" y="36"/>
                </a:lnTo>
                <a:lnTo>
                  <a:pt x="1068" y="36"/>
                </a:lnTo>
                <a:lnTo>
                  <a:pt x="1074" y="42"/>
                </a:lnTo>
                <a:lnTo>
                  <a:pt x="1080" y="48"/>
                </a:lnTo>
                <a:lnTo>
                  <a:pt x="1086" y="48"/>
                </a:lnTo>
                <a:lnTo>
                  <a:pt x="1092" y="54"/>
                </a:lnTo>
                <a:lnTo>
                  <a:pt x="1098" y="60"/>
                </a:lnTo>
                <a:lnTo>
                  <a:pt x="1104" y="60"/>
                </a:lnTo>
                <a:lnTo>
                  <a:pt x="1110" y="66"/>
                </a:lnTo>
                <a:lnTo>
                  <a:pt x="1116" y="72"/>
                </a:lnTo>
                <a:lnTo>
                  <a:pt x="1122" y="72"/>
                </a:lnTo>
                <a:lnTo>
                  <a:pt x="1128" y="84"/>
                </a:lnTo>
                <a:lnTo>
                  <a:pt x="1134" y="90"/>
                </a:lnTo>
                <a:lnTo>
                  <a:pt x="1140" y="96"/>
                </a:lnTo>
                <a:lnTo>
                  <a:pt x="1146" y="96"/>
                </a:lnTo>
                <a:lnTo>
                  <a:pt x="1152" y="102"/>
                </a:lnTo>
                <a:lnTo>
                  <a:pt x="1158" y="114"/>
                </a:lnTo>
                <a:lnTo>
                  <a:pt x="1164" y="120"/>
                </a:lnTo>
                <a:lnTo>
                  <a:pt x="1170" y="126"/>
                </a:lnTo>
                <a:lnTo>
                  <a:pt x="1176" y="132"/>
                </a:lnTo>
                <a:lnTo>
                  <a:pt x="1182" y="138"/>
                </a:lnTo>
                <a:lnTo>
                  <a:pt x="1182" y="144"/>
                </a:lnTo>
                <a:lnTo>
                  <a:pt x="1188" y="150"/>
                </a:lnTo>
                <a:lnTo>
                  <a:pt x="1194" y="156"/>
                </a:lnTo>
                <a:lnTo>
                  <a:pt x="1194" y="162"/>
                </a:lnTo>
                <a:lnTo>
                  <a:pt x="1200" y="168"/>
                </a:lnTo>
                <a:lnTo>
                  <a:pt x="1206" y="174"/>
                </a:lnTo>
                <a:lnTo>
                  <a:pt x="1206" y="186"/>
                </a:lnTo>
                <a:lnTo>
                  <a:pt x="1212" y="192"/>
                </a:lnTo>
                <a:lnTo>
                  <a:pt x="1218" y="198"/>
                </a:lnTo>
                <a:lnTo>
                  <a:pt x="1218" y="204"/>
                </a:lnTo>
                <a:lnTo>
                  <a:pt x="1224" y="216"/>
                </a:lnTo>
                <a:lnTo>
                  <a:pt x="1230" y="222"/>
                </a:lnTo>
                <a:lnTo>
                  <a:pt x="1230" y="228"/>
                </a:lnTo>
                <a:lnTo>
                  <a:pt x="1236" y="240"/>
                </a:lnTo>
                <a:lnTo>
                  <a:pt x="1236" y="246"/>
                </a:lnTo>
                <a:lnTo>
                  <a:pt x="1242" y="258"/>
                </a:lnTo>
                <a:lnTo>
                  <a:pt x="1248" y="264"/>
                </a:lnTo>
                <a:lnTo>
                  <a:pt x="1248" y="276"/>
                </a:lnTo>
                <a:lnTo>
                  <a:pt x="1254" y="282"/>
                </a:lnTo>
                <a:lnTo>
                  <a:pt x="1254" y="294"/>
                </a:lnTo>
                <a:lnTo>
                  <a:pt x="1260" y="306"/>
                </a:lnTo>
                <a:lnTo>
                  <a:pt x="1266" y="312"/>
                </a:lnTo>
                <a:lnTo>
                  <a:pt x="1266" y="324"/>
                </a:lnTo>
                <a:lnTo>
                  <a:pt x="1272" y="336"/>
                </a:lnTo>
                <a:lnTo>
                  <a:pt x="1272" y="348"/>
                </a:lnTo>
                <a:lnTo>
                  <a:pt x="1278" y="360"/>
                </a:lnTo>
                <a:lnTo>
                  <a:pt x="1278" y="372"/>
                </a:lnTo>
                <a:lnTo>
                  <a:pt x="1284" y="384"/>
                </a:lnTo>
                <a:lnTo>
                  <a:pt x="1284" y="390"/>
                </a:lnTo>
                <a:lnTo>
                  <a:pt x="1290" y="402"/>
                </a:lnTo>
                <a:lnTo>
                  <a:pt x="1290" y="414"/>
                </a:lnTo>
                <a:lnTo>
                  <a:pt x="1296" y="432"/>
                </a:lnTo>
                <a:lnTo>
                  <a:pt x="1296" y="444"/>
                </a:lnTo>
                <a:lnTo>
                  <a:pt x="1302" y="456"/>
                </a:lnTo>
                <a:lnTo>
                  <a:pt x="1302" y="462"/>
                </a:lnTo>
                <a:lnTo>
                  <a:pt x="1308" y="474"/>
                </a:lnTo>
                <a:lnTo>
                  <a:pt x="1308" y="486"/>
                </a:lnTo>
                <a:lnTo>
                  <a:pt x="1314" y="498"/>
                </a:lnTo>
                <a:lnTo>
                  <a:pt x="1314" y="510"/>
                </a:lnTo>
                <a:lnTo>
                  <a:pt x="1320" y="522"/>
                </a:lnTo>
                <a:lnTo>
                  <a:pt x="1320" y="546"/>
                </a:lnTo>
                <a:lnTo>
                  <a:pt x="1326" y="558"/>
                </a:lnTo>
                <a:lnTo>
                  <a:pt x="1326" y="570"/>
                </a:lnTo>
                <a:lnTo>
                  <a:pt x="1332" y="582"/>
                </a:lnTo>
                <a:lnTo>
                  <a:pt x="1332" y="588"/>
                </a:lnTo>
                <a:lnTo>
                  <a:pt x="1338" y="600"/>
                </a:lnTo>
                <a:lnTo>
                  <a:pt x="1338" y="618"/>
                </a:lnTo>
                <a:lnTo>
                  <a:pt x="1344" y="630"/>
                </a:lnTo>
                <a:lnTo>
                  <a:pt x="1344" y="636"/>
                </a:lnTo>
                <a:lnTo>
                  <a:pt x="1350" y="648"/>
                </a:lnTo>
                <a:lnTo>
                  <a:pt x="1350" y="654"/>
                </a:lnTo>
                <a:lnTo>
                  <a:pt x="1356" y="666"/>
                </a:lnTo>
                <a:lnTo>
                  <a:pt x="1356" y="684"/>
                </a:lnTo>
                <a:lnTo>
                  <a:pt x="1362" y="690"/>
                </a:lnTo>
                <a:lnTo>
                  <a:pt x="1362" y="702"/>
                </a:lnTo>
                <a:lnTo>
                  <a:pt x="1368" y="714"/>
                </a:lnTo>
                <a:lnTo>
                  <a:pt x="1368" y="720"/>
                </a:lnTo>
                <a:lnTo>
                  <a:pt x="1374" y="726"/>
                </a:lnTo>
                <a:lnTo>
                  <a:pt x="1374" y="738"/>
                </a:lnTo>
                <a:lnTo>
                  <a:pt x="1380" y="744"/>
                </a:lnTo>
                <a:lnTo>
                  <a:pt x="1380" y="756"/>
                </a:lnTo>
                <a:lnTo>
                  <a:pt x="1386" y="762"/>
                </a:lnTo>
                <a:lnTo>
                  <a:pt x="1386" y="768"/>
                </a:lnTo>
                <a:lnTo>
                  <a:pt x="1392" y="774"/>
                </a:lnTo>
                <a:lnTo>
                  <a:pt x="1392" y="786"/>
                </a:lnTo>
                <a:lnTo>
                  <a:pt x="1398" y="79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362720" y="2571840"/>
            <a:ext cx="171720" cy="285840"/>
          </a:xfrm>
          <a:custGeom>
            <a:avLst/>
            <a:gdLst/>
            <a:ahLst/>
            <a:rect l="l" t="t" r="r" b="b"/>
            <a:pathLst>
              <a:path w="108" h="180">
                <a:moveTo>
                  <a:pt x="0" y="0"/>
                </a:moveTo>
                <a:lnTo>
                  <a:pt x="0" y="6"/>
                </a:lnTo>
                <a:lnTo>
                  <a:pt x="6" y="12"/>
                </a:lnTo>
                <a:lnTo>
                  <a:pt x="6" y="24"/>
                </a:lnTo>
                <a:lnTo>
                  <a:pt x="12" y="30"/>
                </a:lnTo>
                <a:lnTo>
                  <a:pt x="12" y="36"/>
                </a:lnTo>
                <a:lnTo>
                  <a:pt x="18" y="42"/>
                </a:lnTo>
                <a:lnTo>
                  <a:pt x="18" y="48"/>
                </a:lnTo>
                <a:lnTo>
                  <a:pt x="24" y="54"/>
                </a:lnTo>
                <a:lnTo>
                  <a:pt x="24" y="66"/>
                </a:lnTo>
                <a:lnTo>
                  <a:pt x="30" y="72"/>
                </a:lnTo>
                <a:lnTo>
                  <a:pt x="36" y="78"/>
                </a:lnTo>
                <a:lnTo>
                  <a:pt x="36" y="84"/>
                </a:lnTo>
                <a:lnTo>
                  <a:pt x="48" y="96"/>
                </a:lnTo>
                <a:lnTo>
                  <a:pt x="48" y="108"/>
                </a:lnTo>
                <a:lnTo>
                  <a:pt x="54" y="114"/>
                </a:lnTo>
                <a:lnTo>
                  <a:pt x="66" y="126"/>
                </a:lnTo>
                <a:lnTo>
                  <a:pt x="66" y="132"/>
                </a:lnTo>
                <a:lnTo>
                  <a:pt x="72" y="138"/>
                </a:lnTo>
                <a:lnTo>
                  <a:pt x="84" y="150"/>
                </a:lnTo>
                <a:lnTo>
                  <a:pt x="84" y="156"/>
                </a:lnTo>
                <a:lnTo>
                  <a:pt x="96" y="168"/>
                </a:lnTo>
                <a:lnTo>
                  <a:pt x="96" y="174"/>
                </a:lnTo>
                <a:lnTo>
                  <a:pt x="102" y="180"/>
                </a:lnTo>
                <a:lnTo>
                  <a:pt x="108" y="18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16200000">
            <a:off x="3927600" y="1952640"/>
            <a:ext cx="172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cumul N-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171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171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2124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124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20764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0764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9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009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943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943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1718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1718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0664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2006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486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486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666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666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2800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800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2905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905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9811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9811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3114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114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3162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162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3209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209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32097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2097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1046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38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524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524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7051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7051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838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38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3943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943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4019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019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4095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095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4152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152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210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210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56132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56132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66960" y="4381560"/>
            <a:ext cx="2219400" cy="1114200"/>
          </a:xfrm>
          <a:custGeom>
            <a:avLst/>
            <a:gdLst/>
            <a:ahLst/>
            <a:rect l="l" t="t" r="r" b="b"/>
            <a:pathLst>
              <a:path w="1398" h="702">
                <a:moveTo>
                  <a:pt x="0" y="702"/>
                </a:moveTo>
                <a:lnTo>
                  <a:pt x="192" y="684"/>
                </a:lnTo>
                <a:lnTo>
                  <a:pt x="312" y="684"/>
                </a:lnTo>
                <a:lnTo>
                  <a:pt x="390" y="684"/>
                </a:lnTo>
                <a:lnTo>
                  <a:pt x="456" y="678"/>
                </a:lnTo>
                <a:lnTo>
                  <a:pt x="504" y="678"/>
                </a:lnTo>
                <a:lnTo>
                  <a:pt x="552" y="678"/>
                </a:lnTo>
                <a:lnTo>
                  <a:pt x="588" y="672"/>
                </a:lnTo>
                <a:lnTo>
                  <a:pt x="624" y="672"/>
                </a:lnTo>
                <a:lnTo>
                  <a:pt x="654" y="672"/>
                </a:lnTo>
                <a:lnTo>
                  <a:pt x="678" y="672"/>
                </a:lnTo>
                <a:lnTo>
                  <a:pt x="702" y="666"/>
                </a:lnTo>
                <a:lnTo>
                  <a:pt x="726" y="666"/>
                </a:lnTo>
                <a:lnTo>
                  <a:pt x="750" y="666"/>
                </a:lnTo>
                <a:lnTo>
                  <a:pt x="768" y="660"/>
                </a:lnTo>
                <a:lnTo>
                  <a:pt x="786" y="660"/>
                </a:lnTo>
                <a:lnTo>
                  <a:pt x="804" y="660"/>
                </a:lnTo>
                <a:lnTo>
                  <a:pt x="816" y="654"/>
                </a:lnTo>
                <a:lnTo>
                  <a:pt x="834" y="654"/>
                </a:lnTo>
                <a:lnTo>
                  <a:pt x="846" y="648"/>
                </a:lnTo>
                <a:lnTo>
                  <a:pt x="864" y="648"/>
                </a:lnTo>
                <a:lnTo>
                  <a:pt x="876" y="648"/>
                </a:lnTo>
                <a:lnTo>
                  <a:pt x="888" y="642"/>
                </a:lnTo>
                <a:lnTo>
                  <a:pt x="900" y="642"/>
                </a:lnTo>
                <a:lnTo>
                  <a:pt x="912" y="636"/>
                </a:lnTo>
                <a:lnTo>
                  <a:pt x="924" y="636"/>
                </a:lnTo>
                <a:lnTo>
                  <a:pt x="936" y="636"/>
                </a:lnTo>
                <a:lnTo>
                  <a:pt x="942" y="630"/>
                </a:lnTo>
                <a:lnTo>
                  <a:pt x="954" y="630"/>
                </a:lnTo>
                <a:lnTo>
                  <a:pt x="966" y="624"/>
                </a:lnTo>
                <a:lnTo>
                  <a:pt x="972" y="624"/>
                </a:lnTo>
                <a:lnTo>
                  <a:pt x="984" y="618"/>
                </a:lnTo>
                <a:lnTo>
                  <a:pt x="990" y="618"/>
                </a:lnTo>
                <a:lnTo>
                  <a:pt x="1002" y="612"/>
                </a:lnTo>
                <a:lnTo>
                  <a:pt x="1008" y="612"/>
                </a:lnTo>
                <a:lnTo>
                  <a:pt x="1014" y="606"/>
                </a:lnTo>
                <a:lnTo>
                  <a:pt x="1026" y="606"/>
                </a:lnTo>
                <a:lnTo>
                  <a:pt x="1032" y="600"/>
                </a:lnTo>
                <a:lnTo>
                  <a:pt x="1038" y="594"/>
                </a:lnTo>
                <a:lnTo>
                  <a:pt x="1044" y="594"/>
                </a:lnTo>
                <a:lnTo>
                  <a:pt x="1050" y="588"/>
                </a:lnTo>
                <a:lnTo>
                  <a:pt x="1062" y="588"/>
                </a:lnTo>
                <a:lnTo>
                  <a:pt x="1068" y="582"/>
                </a:lnTo>
                <a:lnTo>
                  <a:pt x="1074" y="576"/>
                </a:lnTo>
                <a:lnTo>
                  <a:pt x="1080" y="576"/>
                </a:lnTo>
                <a:lnTo>
                  <a:pt x="1086" y="570"/>
                </a:lnTo>
                <a:lnTo>
                  <a:pt x="1092" y="564"/>
                </a:lnTo>
                <a:lnTo>
                  <a:pt x="1098" y="564"/>
                </a:lnTo>
                <a:lnTo>
                  <a:pt x="1104" y="558"/>
                </a:lnTo>
                <a:lnTo>
                  <a:pt x="1110" y="552"/>
                </a:lnTo>
                <a:lnTo>
                  <a:pt x="1116" y="552"/>
                </a:lnTo>
                <a:lnTo>
                  <a:pt x="1122" y="546"/>
                </a:lnTo>
                <a:lnTo>
                  <a:pt x="1128" y="534"/>
                </a:lnTo>
                <a:lnTo>
                  <a:pt x="1134" y="534"/>
                </a:lnTo>
                <a:lnTo>
                  <a:pt x="1140" y="528"/>
                </a:lnTo>
                <a:lnTo>
                  <a:pt x="1146" y="522"/>
                </a:lnTo>
                <a:lnTo>
                  <a:pt x="1152" y="516"/>
                </a:lnTo>
                <a:lnTo>
                  <a:pt x="1158" y="504"/>
                </a:lnTo>
                <a:lnTo>
                  <a:pt x="1164" y="504"/>
                </a:lnTo>
                <a:lnTo>
                  <a:pt x="1170" y="498"/>
                </a:lnTo>
                <a:lnTo>
                  <a:pt x="1176" y="492"/>
                </a:lnTo>
                <a:lnTo>
                  <a:pt x="1182" y="480"/>
                </a:lnTo>
                <a:lnTo>
                  <a:pt x="1188" y="474"/>
                </a:lnTo>
                <a:lnTo>
                  <a:pt x="1194" y="468"/>
                </a:lnTo>
                <a:lnTo>
                  <a:pt x="1194" y="462"/>
                </a:lnTo>
                <a:lnTo>
                  <a:pt x="1200" y="456"/>
                </a:lnTo>
                <a:lnTo>
                  <a:pt x="1206" y="450"/>
                </a:lnTo>
                <a:lnTo>
                  <a:pt x="1206" y="444"/>
                </a:lnTo>
                <a:lnTo>
                  <a:pt x="1212" y="438"/>
                </a:lnTo>
                <a:lnTo>
                  <a:pt x="1218" y="432"/>
                </a:lnTo>
                <a:lnTo>
                  <a:pt x="1218" y="426"/>
                </a:lnTo>
                <a:lnTo>
                  <a:pt x="1224" y="420"/>
                </a:lnTo>
                <a:lnTo>
                  <a:pt x="1230" y="414"/>
                </a:lnTo>
                <a:lnTo>
                  <a:pt x="1230" y="408"/>
                </a:lnTo>
                <a:lnTo>
                  <a:pt x="1236" y="396"/>
                </a:lnTo>
                <a:lnTo>
                  <a:pt x="1236" y="390"/>
                </a:lnTo>
                <a:lnTo>
                  <a:pt x="1242" y="384"/>
                </a:lnTo>
                <a:lnTo>
                  <a:pt x="1248" y="378"/>
                </a:lnTo>
                <a:lnTo>
                  <a:pt x="1248" y="372"/>
                </a:lnTo>
                <a:lnTo>
                  <a:pt x="1254" y="366"/>
                </a:lnTo>
                <a:lnTo>
                  <a:pt x="1254" y="354"/>
                </a:lnTo>
                <a:lnTo>
                  <a:pt x="1260" y="348"/>
                </a:lnTo>
                <a:lnTo>
                  <a:pt x="1266" y="342"/>
                </a:lnTo>
                <a:lnTo>
                  <a:pt x="1266" y="336"/>
                </a:lnTo>
                <a:lnTo>
                  <a:pt x="1272" y="330"/>
                </a:lnTo>
                <a:lnTo>
                  <a:pt x="1272" y="318"/>
                </a:lnTo>
                <a:lnTo>
                  <a:pt x="1278" y="312"/>
                </a:lnTo>
                <a:lnTo>
                  <a:pt x="1278" y="306"/>
                </a:lnTo>
                <a:lnTo>
                  <a:pt x="1284" y="294"/>
                </a:lnTo>
                <a:lnTo>
                  <a:pt x="1284" y="288"/>
                </a:lnTo>
                <a:lnTo>
                  <a:pt x="1290" y="282"/>
                </a:lnTo>
                <a:lnTo>
                  <a:pt x="1290" y="276"/>
                </a:lnTo>
                <a:lnTo>
                  <a:pt x="1296" y="264"/>
                </a:lnTo>
                <a:lnTo>
                  <a:pt x="1296" y="258"/>
                </a:lnTo>
                <a:lnTo>
                  <a:pt x="1302" y="252"/>
                </a:lnTo>
                <a:lnTo>
                  <a:pt x="1302" y="246"/>
                </a:lnTo>
                <a:lnTo>
                  <a:pt x="1308" y="234"/>
                </a:lnTo>
                <a:lnTo>
                  <a:pt x="1308" y="228"/>
                </a:lnTo>
                <a:lnTo>
                  <a:pt x="1314" y="222"/>
                </a:lnTo>
                <a:lnTo>
                  <a:pt x="1314" y="216"/>
                </a:lnTo>
                <a:lnTo>
                  <a:pt x="1320" y="204"/>
                </a:lnTo>
                <a:lnTo>
                  <a:pt x="1320" y="192"/>
                </a:lnTo>
                <a:lnTo>
                  <a:pt x="1326" y="186"/>
                </a:lnTo>
                <a:lnTo>
                  <a:pt x="1326" y="180"/>
                </a:lnTo>
                <a:lnTo>
                  <a:pt x="1332" y="168"/>
                </a:lnTo>
                <a:lnTo>
                  <a:pt x="1332" y="162"/>
                </a:lnTo>
                <a:lnTo>
                  <a:pt x="1338" y="156"/>
                </a:lnTo>
                <a:lnTo>
                  <a:pt x="1338" y="144"/>
                </a:lnTo>
                <a:lnTo>
                  <a:pt x="1344" y="138"/>
                </a:lnTo>
                <a:lnTo>
                  <a:pt x="1344" y="132"/>
                </a:lnTo>
                <a:lnTo>
                  <a:pt x="1350" y="126"/>
                </a:lnTo>
                <a:lnTo>
                  <a:pt x="1350" y="120"/>
                </a:lnTo>
                <a:lnTo>
                  <a:pt x="1356" y="114"/>
                </a:lnTo>
                <a:lnTo>
                  <a:pt x="1356" y="102"/>
                </a:lnTo>
                <a:lnTo>
                  <a:pt x="1362" y="96"/>
                </a:lnTo>
                <a:lnTo>
                  <a:pt x="1362" y="84"/>
                </a:lnTo>
                <a:lnTo>
                  <a:pt x="1368" y="78"/>
                </a:lnTo>
                <a:lnTo>
                  <a:pt x="1368" y="72"/>
                </a:lnTo>
                <a:lnTo>
                  <a:pt x="1374" y="66"/>
                </a:lnTo>
                <a:lnTo>
                  <a:pt x="1374" y="54"/>
                </a:lnTo>
                <a:lnTo>
                  <a:pt x="1380" y="48"/>
                </a:lnTo>
                <a:lnTo>
                  <a:pt x="1380" y="42"/>
                </a:lnTo>
                <a:lnTo>
                  <a:pt x="1386" y="36"/>
                </a:lnTo>
                <a:lnTo>
                  <a:pt x="1386" y="30"/>
                </a:lnTo>
                <a:lnTo>
                  <a:pt x="1392" y="24"/>
                </a:lnTo>
                <a:lnTo>
                  <a:pt x="1392" y="18"/>
                </a:lnTo>
                <a:lnTo>
                  <a:pt x="1398" y="12"/>
                </a:lnTo>
                <a:lnTo>
                  <a:pt x="139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086360" y="4133880"/>
            <a:ext cx="171360" cy="247680"/>
          </a:xfrm>
          <a:custGeom>
            <a:avLst/>
            <a:gdLst/>
            <a:ahLst/>
            <a:rect l="l" t="t" r="r" b="b"/>
            <a:pathLst>
              <a:path w="108" h="156">
                <a:moveTo>
                  <a:pt x="0" y="156"/>
                </a:moveTo>
                <a:lnTo>
                  <a:pt x="12" y="144"/>
                </a:lnTo>
                <a:lnTo>
                  <a:pt x="12" y="132"/>
                </a:lnTo>
                <a:lnTo>
                  <a:pt x="18" y="126"/>
                </a:lnTo>
                <a:lnTo>
                  <a:pt x="24" y="120"/>
                </a:lnTo>
                <a:lnTo>
                  <a:pt x="24" y="108"/>
                </a:lnTo>
                <a:lnTo>
                  <a:pt x="30" y="102"/>
                </a:lnTo>
                <a:lnTo>
                  <a:pt x="36" y="96"/>
                </a:lnTo>
                <a:lnTo>
                  <a:pt x="36" y="90"/>
                </a:lnTo>
                <a:lnTo>
                  <a:pt x="42" y="84"/>
                </a:lnTo>
                <a:lnTo>
                  <a:pt x="48" y="78"/>
                </a:lnTo>
                <a:lnTo>
                  <a:pt x="48" y="72"/>
                </a:lnTo>
                <a:lnTo>
                  <a:pt x="60" y="60"/>
                </a:lnTo>
                <a:lnTo>
                  <a:pt x="60" y="54"/>
                </a:lnTo>
                <a:lnTo>
                  <a:pt x="72" y="42"/>
                </a:lnTo>
                <a:lnTo>
                  <a:pt x="72" y="36"/>
                </a:lnTo>
                <a:lnTo>
                  <a:pt x="78" y="30"/>
                </a:lnTo>
                <a:lnTo>
                  <a:pt x="84" y="24"/>
                </a:lnTo>
                <a:lnTo>
                  <a:pt x="96" y="12"/>
                </a:lnTo>
                <a:lnTo>
                  <a:pt x="96" y="12"/>
                </a:lnTo>
                <a:lnTo>
                  <a:pt x="102" y="6"/>
                </a:lnTo>
                <a:lnTo>
                  <a:pt x="1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866960" y="4819680"/>
            <a:ext cx="2314440" cy="647640"/>
          </a:xfrm>
          <a:custGeom>
            <a:avLst/>
            <a:gdLst/>
            <a:ahLst/>
            <a:rect l="l" t="t" r="r" b="b"/>
            <a:pathLst>
              <a:path w="1458" h="408">
                <a:moveTo>
                  <a:pt x="0" y="408"/>
                </a:moveTo>
                <a:lnTo>
                  <a:pt x="192" y="408"/>
                </a:lnTo>
                <a:lnTo>
                  <a:pt x="312" y="408"/>
                </a:lnTo>
                <a:lnTo>
                  <a:pt x="390" y="402"/>
                </a:lnTo>
                <a:lnTo>
                  <a:pt x="456" y="402"/>
                </a:lnTo>
                <a:lnTo>
                  <a:pt x="504" y="402"/>
                </a:lnTo>
                <a:lnTo>
                  <a:pt x="552" y="402"/>
                </a:lnTo>
                <a:lnTo>
                  <a:pt x="588" y="396"/>
                </a:lnTo>
                <a:lnTo>
                  <a:pt x="624" y="396"/>
                </a:lnTo>
                <a:lnTo>
                  <a:pt x="654" y="396"/>
                </a:lnTo>
                <a:lnTo>
                  <a:pt x="678" y="390"/>
                </a:lnTo>
                <a:lnTo>
                  <a:pt x="702" y="390"/>
                </a:lnTo>
                <a:lnTo>
                  <a:pt x="726" y="390"/>
                </a:lnTo>
                <a:lnTo>
                  <a:pt x="750" y="384"/>
                </a:lnTo>
                <a:lnTo>
                  <a:pt x="768" y="384"/>
                </a:lnTo>
                <a:lnTo>
                  <a:pt x="786" y="384"/>
                </a:lnTo>
                <a:lnTo>
                  <a:pt x="804" y="378"/>
                </a:lnTo>
                <a:lnTo>
                  <a:pt x="816" y="378"/>
                </a:lnTo>
                <a:lnTo>
                  <a:pt x="834" y="378"/>
                </a:lnTo>
                <a:lnTo>
                  <a:pt x="846" y="372"/>
                </a:lnTo>
                <a:lnTo>
                  <a:pt x="864" y="372"/>
                </a:lnTo>
                <a:lnTo>
                  <a:pt x="876" y="366"/>
                </a:lnTo>
                <a:lnTo>
                  <a:pt x="888" y="366"/>
                </a:lnTo>
                <a:lnTo>
                  <a:pt x="900" y="360"/>
                </a:lnTo>
                <a:lnTo>
                  <a:pt x="912" y="360"/>
                </a:lnTo>
                <a:lnTo>
                  <a:pt x="924" y="360"/>
                </a:lnTo>
                <a:lnTo>
                  <a:pt x="936" y="354"/>
                </a:lnTo>
                <a:lnTo>
                  <a:pt x="942" y="354"/>
                </a:lnTo>
                <a:lnTo>
                  <a:pt x="954" y="348"/>
                </a:lnTo>
                <a:lnTo>
                  <a:pt x="966" y="348"/>
                </a:lnTo>
                <a:lnTo>
                  <a:pt x="972" y="342"/>
                </a:lnTo>
                <a:lnTo>
                  <a:pt x="984" y="342"/>
                </a:lnTo>
                <a:lnTo>
                  <a:pt x="990" y="336"/>
                </a:lnTo>
                <a:lnTo>
                  <a:pt x="1002" y="336"/>
                </a:lnTo>
                <a:lnTo>
                  <a:pt x="1008" y="330"/>
                </a:lnTo>
                <a:lnTo>
                  <a:pt x="1014" y="324"/>
                </a:lnTo>
                <a:lnTo>
                  <a:pt x="1026" y="324"/>
                </a:lnTo>
                <a:lnTo>
                  <a:pt x="1032" y="318"/>
                </a:lnTo>
                <a:lnTo>
                  <a:pt x="1038" y="318"/>
                </a:lnTo>
                <a:lnTo>
                  <a:pt x="1044" y="312"/>
                </a:lnTo>
                <a:lnTo>
                  <a:pt x="1050" y="306"/>
                </a:lnTo>
                <a:lnTo>
                  <a:pt x="1062" y="306"/>
                </a:lnTo>
                <a:lnTo>
                  <a:pt x="1068" y="300"/>
                </a:lnTo>
                <a:lnTo>
                  <a:pt x="1074" y="294"/>
                </a:lnTo>
                <a:lnTo>
                  <a:pt x="1080" y="294"/>
                </a:lnTo>
                <a:lnTo>
                  <a:pt x="1086" y="288"/>
                </a:lnTo>
                <a:lnTo>
                  <a:pt x="1092" y="282"/>
                </a:lnTo>
                <a:lnTo>
                  <a:pt x="1098" y="282"/>
                </a:lnTo>
                <a:lnTo>
                  <a:pt x="1104" y="276"/>
                </a:lnTo>
                <a:lnTo>
                  <a:pt x="1110" y="270"/>
                </a:lnTo>
                <a:lnTo>
                  <a:pt x="1116" y="264"/>
                </a:lnTo>
                <a:lnTo>
                  <a:pt x="1122" y="258"/>
                </a:lnTo>
                <a:lnTo>
                  <a:pt x="1128" y="252"/>
                </a:lnTo>
                <a:lnTo>
                  <a:pt x="1134" y="246"/>
                </a:lnTo>
                <a:lnTo>
                  <a:pt x="1140" y="240"/>
                </a:lnTo>
                <a:lnTo>
                  <a:pt x="1146" y="234"/>
                </a:lnTo>
                <a:lnTo>
                  <a:pt x="1152" y="228"/>
                </a:lnTo>
                <a:lnTo>
                  <a:pt x="1158" y="222"/>
                </a:lnTo>
                <a:lnTo>
                  <a:pt x="1158" y="216"/>
                </a:lnTo>
                <a:lnTo>
                  <a:pt x="1164" y="210"/>
                </a:lnTo>
                <a:lnTo>
                  <a:pt x="1170" y="204"/>
                </a:lnTo>
                <a:lnTo>
                  <a:pt x="1176" y="198"/>
                </a:lnTo>
                <a:lnTo>
                  <a:pt x="1182" y="192"/>
                </a:lnTo>
                <a:lnTo>
                  <a:pt x="1182" y="186"/>
                </a:lnTo>
                <a:lnTo>
                  <a:pt x="1188" y="180"/>
                </a:lnTo>
                <a:lnTo>
                  <a:pt x="1194" y="174"/>
                </a:lnTo>
                <a:lnTo>
                  <a:pt x="1194" y="168"/>
                </a:lnTo>
                <a:lnTo>
                  <a:pt x="1200" y="162"/>
                </a:lnTo>
                <a:lnTo>
                  <a:pt x="1206" y="156"/>
                </a:lnTo>
                <a:lnTo>
                  <a:pt x="1206" y="150"/>
                </a:lnTo>
                <a:lnTo>
                  <a:pt x="1212" y="138"/>
                </a:lnTo>
                <a:lnTo>
                  <a:pt x="1218" y="132"/>
                </a:lnTo>
                <a:lnTo>
                  <a:pt x="1218" y="126"/>
                </a:lnTo>
                <a:lnTo>
                  <a:pt x="1224" y="120"/>
                </a:lnTo>
                <a:lnTo>
                  <a:pt x="1230" y="108"/>
                </a:lnTo>
                <a:lnTo>
                  <a:pt x="1230" y="102"/>
                </a:lnTo>
                <a:lnTo>
                  <a:pt x="1236" y="96"/>
                </a:lnTo>
                <a:lnTo>
                  <a:pt x="1236" y="90"/>
                </a:lnTo>
                <a:lnTo>
                  <a:pt x="1242" y="78"/>
                </a:lnTo>
                <a:lnTo>
                  <a:pt x="1248" y="72"/>
                </a:lnTo>
                <a:lnTo>
                  <a:pt x="1248" y="66"/>
                </a:lnTo>
                <a:lnTo>
                  <a:pt x="1254" y="54"/>
                </a:lnTo>
                <a:lnTo>
                  <a:pt x="1254" y="48"/>
                </a:lnTo>
                <a:lnTo>
                  <a:pt x="1260" y="42"/>
                </a:lnTo>
                <a:lnTo>
                  <a:pt x="1266" y="30"/>
                </a:lnTo>
                <a:lnTo>
                  <a:pt x="1266" y="24"/>
                </a:lnTo>
                <a:lnTo>
                  <a:pt x="1272" y="18"/>
                </a:lnTo>
                <a:lnTo>
                  <a:pt x="1272" y="12"/>
                </a:lnTo>
                <a:lnTo>
                  <a:pt x="1278" y="6"/>
                </a:lnTo>
                <a:lnTo>
                  <a:pt x="1284" y="0"/>
                </a:lnTo>
                <a:lnTo>
                  <a:pt x="1302" y="0"/>
                </a:lnTo>
                <a:lnTo>
                  <a:pt x="1302" y="6"/>
                </a:lnTo>
                <a:lnTo>
                  <a:pt x="1308" y="12"/>
                </a:lnTo>
                <a:lnTo>
                  <a:pt x="1308" y="18"/>
                </a:lnTo>
                <a:lnTo>
                  <a:pt x="1314" y="24"/>
                </a:lnTo>
                <a:lnTo>
                  <a:pt x="1314" y="30"/>
                </a:lnTo>
                <a:lnTo>
                  <a:pt x="1320" y="36"/>
                </a:lnTo>
                <a:lnTo>
                  <a:pt x="1320" y="48"/>
                </a:lnTo>
                <a:lnTo>
                  <a:pt x="1326" y="54"/>
                </a:lnTo>
                <a:lnTo>
                  <a:pt x="1326" y="66"/>
                </a:lnTo>
                <a:lnTo>
                  <a:pt x="1332" y="72"/>
                </a:lnTo>
                <a:lnTo>
                  <a:pt x="1332" y="78"/>
                </a:lnTo>
                <a:lnTo>
                  <a:pt x="1338" y="84"/>
                </a:lnTo>
                <a:lnTo>
                  <a:pt x="1338" y="102"/>
                </a:lnTo>
                <a:lnTo>
                  <a:pt x="1344" y="108"/>
                </a:lnTo>
                <a:lnTo>
                  <a:pt x="1344" y="114"/>
                </a:lnTo>
                <a:lnTo>
                  <a:pt x="1350" y="120"/>
                </a:lnTo>
                <a:lnTo>
                  <a:pt x="1350" y="126"/>
                </a:lnTo>
                <a:lnTo>
                  <a:pt x="1356" y="132"/>
                </a:lnTo>
                <a:lnTo>
                  <a:pt x="1356" y="138"/>
                </a:lnTo>
                <a:lnTo>
                  <a:pt x="1362" y="144"/>
                </a:lnTo>
                <a:lnTo>
                  <a:pt x="1362" y="156"/>
                </a:lnTo>
                <a:lnTo>
                  <a:pt x="1368" y="162"/>
                </a:lnTo>
                <a:lnTo>
                  <a:pt x="1380" y="174"/>
                </a:lnTo>
                <a:lnTo>
                  <a:pt x="1380" y="180"/>
                </a:lnTo>
                <a:lnTo>
                  <a:pt x="1386" y="186"/>
                </a:lnTo>
                <a:lnTo>
                  <a:pt x="1392" y="192"/>
                </a:lnTo>
                <a:lnTo>
                  <a:pt x="1404" y="204"/>
                </a:lnTo>
                <a:lnTo>
                  <a:pt x="1404" y="210"/>
                </a:lnTo>
                <a:lnTo>
                  <a:pt x="1410" y="210"/>
                </a:lnTo>
                <a:lnTo>
                  <a:pt x="1416" y="216"/>
                </a:lnTo>
                <a:lnTo>
                  <a:pt x="1422" y="222"/>
                </a:lnTo>
                <a:lnTo>
                  <a:pt x="1428" y="222"/>
                </a:lnTo>
                <a:lnTo>
                  <a:pt x="1434" y="228"/>
                </a:lnTo>
                <a:lnTo>
                  <a:pt x="1440" y="228"/>
                </a:lnTo>
                <a:lnTo>
                  <a:pt x="1446" y="234"/>
                </a:lnTo>
                <a:lnTo>
                  <a:pt x="1452" y="234"/>
                </a:lnTo>
                <a:lnTo>
                  <a:pt x="1458" y="23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181400" y="5191200"/>
            <a:ext cx="76320" cy="19080"/>
          </a:xfrm>
          <a:custGeom>
            <a:avLst/>
            <a:gdLst/>
            <a:ahLst/>
            <a:rect l="l" t="t" r="r" b="b"/>
            <a:pathLst>
              <a:path w="48" h="12">
                <a:moveTo>
                  <a:pt x="0" y="0"/>
                </a:moveTo>
                <a:lnTo>
                  <a:pt x="6" y="6"/>
                </a:lnTo>
                <a:lnTo>
                  <a:pt x="12" y="6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12"/>
                </a:lnTo>
                <a:lnTo>
                  <a:pt x="48" y="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648720" y="4558680"/>
            <a:ext cx="1591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ing stock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5448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448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400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00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353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53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286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286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219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219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5448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448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4312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4774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5762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62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5943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943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6076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076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6181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181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6257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257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639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39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6438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438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486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486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486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486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381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515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6800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00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698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98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7115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115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7219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219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7296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296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7372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372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7429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429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7486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486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02236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02236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95252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95252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95252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143680" y="4352760"/>
            <a:ext cx="2219040" cy="1143000"/>
          </a:xfrm>
          <a:custGeom>
            <a:avLst/>
            <a:gdLst/>
            <a:ahLst/>
            <a:rect l="l" t="t" r="r" b="b"/>
            <a:pathLst>
              <a:path w="1398" h="720">
                <a:moveTo>
                  <a:pt x="0" y="720"/>
                </a:moveTo>
                <a:lnTo>
                  <a:pt x="192" y="696"/>
                </a:lnTo>
                <a:lnTo>
                  <a:pt x="312" y="690"/>
                </a:lnTo>
                <a:lnTo>
                  <a:pt x="390" y="684"/>
                </a:lnTo>
                <a:lnTo>
                  <a:pt x="456" y="684"/>
                </a:lnTo>
                <a:lnTo>
                  <a:pt x="504" y="678"/>
                </a:lnTo>
                <a:lnTo>
                  <a:pt x="552" y="678"/>
                </a:lnTo>
                <a:lnTo>
                  <a:pt x="588" y="678"/>
                </a:lnTo>
                <a:lnTo>
                  <a:pt x="624" y="672"/>
                </a:lnTo>
                <a:lnTo>
                  <a:pt x="654" y="672"/>
                </a:lnTo>
                <a:lnTo>
                  <a:pt x="678" y="666"/>
                </a:lnTo>
                <a:lnTo>
                  <a:pt x="702" y="666"/>
                </a:lnTo>
                <a:lnTo>
                  <a:pt x="726" y="660"/>
                </a:lnTo>
                <a:lnTo>
                  <a:pt x="750" y="660"/>
                </a:lnTo>
                <a:lnTo>
                  <a:pt x="768" y="660"/>
                </a:lnTo>
                <a:lnTo>
                  <a:pt x="786" y="654"/>
                </a:lnTo>
                <a:lnTo>
                  <a:pt x="804" y="654"/>
                </a:lnTo>
                <a:lnTo>
                  <a:pt x="816" y="648"/>
                </a:lnTo>
                <a:lnTo>
                  <a:pt x="834" y="648"/>
                </a:lnTo>
                <a:lnTo>
                  <a:pt x="846" y="642"/>
                </a:lnTo>
                <a:lnTo>
                  <a:pt x="864" y="642"/>
                </a:lnTo>
                <a:lnTo>
                  <a:pt x="876" y="636"/>
                </a:lnTo>
                <a:lnTo>
                  <a:pt x="888" y="636"/>
                </a:lnTo>
                <a:lnTo>
                  <a:pt x="900" y="630"/>
                </a:lnTo>
                <a:lnTo>
                  <a:pt x="912" y="630"/>
                </a:lnTo>
                <a:lnTo>
                  <a:pt x="924" y="624"/>
                </a:lnTo>
                <a:lnTo>
                  <a:pt x="936" y="624"/>
                </a:lnTo>
                <a:lnTo>
                  <a:pt x="942" y="618"/>
                </a:lnTo>
                <a:lnTo>
                  <a:pt x="954" y="618"/>
                </a:lnTo>
                <a:lnTo>
                  <a:pt x="966" y="612"/>
                </a:lnTo>
                <a:lnTo>
                  <a:pt x="972" y="612"/>
                </a:lnTo>
                <a:lnTo>
                  <a:pt x="984" y="606"/>
                </a:lnTo>
                <a:lnTo>
                  <a:pt x="990" y="600"/>
                </a:lnTo>
                <a:lnTo>
                  <a:pt x="1002" y="600"/>
                </a:lnTo>
                <a:lnTo>
                  <a:pt x="1008" y="594"/>
                </a:lnTo>
                <a:lnTo>
                  <a:pt x="1014" y="588"/>
                </a:lnTo>
                <a:lnTo>
                  <a:pt x="1026" y="588"/>
                </a:lnTo>
                <a:lnTo>
                  <a:pt x="1032" y="582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62" y="564"/>
                </a:lnTo>
                <a:lnTo>
                  <a:pt x="1068" y="564"/>
                </a:lnTo>
                <a:lnTo>
                  <a:pt x="1074" y="558"/>
                </a:lnTo>
                <a:lnTo>
                  <a:pt x="1080" y="552"/>
                </a:lnTo>
                <a:lnTo>
                  <a:pt x="1086" y="546"/>
                </a:lnTo>
                <a:lnTo>
                  <a:pt x="1092" y="546"/>
                </a:lnTo>
                <a:lnTo>
                  <a:pt x="1098" y="540"/>
                </a:lnTo>
                <a:lnTo>
                  <a:pt x="1104" y="534"/>
                </a:lnTo>
                <a:lnTo>
                  <a:pt x="1110" y="528"/>
                </a:lnTo>
                <a:lnTo>
                  <a:pt x="1116" y="522"/>
                </a:lnTo>
                <a:lnTo>
                  <a:pt x="1122" y="522"/>
                </a:lnTo>
                <a:lnTo>
                  <a:pt x="1128" y="510"/>
                </a:lnTo>
                <a:lnTo>
                  <a:pt x="1134" y="504"/>
                </a:lnTo>
                <a:lnTo>
                  <a:pt x="1140" y="498"/>
                </a:lnTo>
                <a:lnTo>
                  <a:pt x="1146" y="492"/>
                </a:lnTo>
                <a:lnTo>
                  <a:pt x="1152" y="486"/>
                </a:lnTo>
                <a:lnTo>
                  <a:pt x="1158" y="480"/>
                </a:lnTo>
                <a:lnTo>
                  <a:pt x="1158" y="474"/>
                </a:lnTo>
                <a:lnTo>
                  <a:pt x="1164" y="468"/>
                </a:lnTo>
                <a:lnTo>
                  <a:pt x="1170" y="462"/>
                </a:lnTo>
                <a:lnTo>
                  <a:pt x="1176" y="456"/>
                </a:lnTo>
                <a:lnTo>
                  <a:pt x="1182" y="450"/>
                </a:lnTo>
                <a:lnTo>
                  <a:pt x="1182" y="444"/>
                </a:lnTo>
                <a:lnTo>
                  <a:pt x="1188" y="438"/>
                </a:lnTo>
                <a:lnTo>
                  <a:pt x="1194" y="432"/>
                </a:lnTo>
                <a:lnTo>
                  <a:pt x="1194" y="426"/>
                </a:lnTo>
                <a:lnTo>
                  <a:pt x="1200" y="420"/>
                </a:lnTo>
                <a:lnTo>
                  <a:pt x="1206" y="414"/>
                </a:lnTo>
                <a:lnTo>
                  <a:pt x="1206" y="408"/>
                </a:lnTo>
                <a:lnTo>
                  <a:pt x="1212" y="402"/>
                </a:lnTo>
                <a:lnTo>
                  <a:pt x="1218" y="396"/>
                </a:lnTo>
                <a:lnTo>
                  <a:pt x="1218" y="390"/>
                </a:lnTo>
                <a:lnTo>
                  <a:pt x="1224" y="378"/>
                </a:lnTo>
                <a:lnTo>
                  <a:pt x="1230" y="372"/>
                </a:lnTo>
                <a:lnTo>
                  <a:pt x="1230" y="366"/>
                </a:lnTo>
                <a:lnTo>
                  <a:pt x="1236" y="360"/>
                </a:lnTo>
                <a:lnTo>
                  <a:pt x="1236" y="354"/>
                </a:lnTo>
                <a:lnTo>
                  <a:pt x="1242" y="348"/>
                </a:lnTo>
                <a:lnTo>
                  <a:pt x="1248" y="336"/>
                </a:lnTo>
                <a:lnTo>
                  <a:pt x="1248" y="330"/>
                </a:lnTo>
                <a:lnTo>
                  <a:pt x="1254" y="324"/>
                </a:lnTo>
                <a:lnTo>
                  <a:pt x="1254" y="318"/>
                </a:lnTo>
                <a:lnTo>
                  <a:pt x="1260" y="312"/>
                </a:lnTo>
                <a:lnTo>
                  <a:pt x="1266" y="300"/>
                </a:lnTo>
                <a:lnTo>
                  <a:pt x="1266" y="294"/>
                </a:lnTo>
                <a:lnTo>
                  <a:pt x="1272" y="288"/>
                </a:lnTo>
                <a:lnTo>
                  <a:pt x="1272" y="282"/>
                </a:lnTo>
                <a:lnTo>
                  <a:pt x="1278" y="276"/>
                </a:lnTo>
                <a:lnTo>
                  <a:pt x="1278" y="264"/>
                </a:lnTo>
                <a:lnTo>
                  <a:pt x="1284" y="258"/>
                </a:lnTo>
                <a:lnTo>
                  <a:pt x="1284" y="252"/>
                </a:lnTo>
                <a:lnTo>
                  <a:pt x="1290" y="246"/>
                </a:lnTo>
                <a:lnTo>
                  <a:pt x="1290" y="240"/>
                </a:lnTo>
                <a:lnTo>
                  <a:pt x="1296" y="234"/>
                </a:lnTo>
                <a:lnTo>
                  <a:pt x="1296" y="222"/>
                </a:lnTo>
                <a:lnTo>
                  <a:pt x="1302" y="216"/>
                </a:lnTo>
                <a:lnTo>
                  <a:pt x="1302" y="210"/>
                </a:lnTo>
                <a:lnTo>
                  <a:pt x="1308" y="204"/>
                </a:lnTo>
                <a:lnTo>
                  <a:pt x="1308" y="198"/>
                </a:lnTo>
                <a:lnTo>
                  <a:pt x="1314" y="192"/>
                </a:lnTo>
                <a:lnTo>
                  <a:pt x="1314" y="186"/>
                </a:lnTo>
                <a:lnTo>
                  <a:pt x="1320" y="174"/>
                </a:lnTo>
                <a:lnTo>
                  <a:pt x="1320" y="168"/>
                </a:lnTo>
                <a:lnTo>
                  <a:pt x="1326" y="162"/>
                </a:lnTo>
                <a:lnTo>
                  <a:pt x="1326" y="156"/>
                </a:lnTo>
                <a:lnTo>
                  <a:pt x="1332" y="150"/>
                </a:lnTo>
                <a:lnTo>
                  <a:pt x="1332" y="144"/>
                </a:lnTo>
                <a:lnTo>
                  <a:pt x="1338" y="138"/>
                </a:lnTo>
                <a:lnTo>
                  <a:pt x="1338" y="126"/>
                </a:lnTo>
                <a:lnTo>
                  <a:pt x="1344" y="120"/>
                </a:lnTo>
                <a:lnTo>
                  <a:pt x="1344" y="114"/>
                </a:lnTo>
                <a:lnTo>
                  <a:pt x="1350" y="108"/>
                </a:lnTo>
                <a:lnTo>
                  <a:pt x="1350" y="102"/>
                </a:lnTo>
                <a:lnTo>
                  <a:pt x="1356" y="96"/>
                </a:lnTo>
                <a:lnTo>
                  <a:pt x="1356" y="84"/>
                </a:lnTo>
                <a:lnTo>
                  <a:pt x="1362" y="78"/>
                </a:lnTo>
                <a:lnTo>
                  <a:pt x="1362" y="66"/>
                </a:lnTo>
                <a:lnTo>
                  <a:pt x="1368" y="60"/>
                </a:lnTo>
                <a:lnTo>
                  <a:pt x="1374" y="54"/>
                </a:lnTo>
                <a:lnTo>
                  <a:pt x="1374" y="42"/>
                </a:lnTo>
                <a:lnTo>
                  <a:pt x="1380" y="36"/>
                </a:lnTo>
                <a:lnTo>
                  <a:pt x="1380" y="30"/>
                </a:lnTo>
                <a:lnTo>
                  <a:pt x="1386" y="24"/>
                </a:lnTo>
                <a:lnTo>
                  <a:pt x="1392" y="18"/>
                </a:lnTo>
                <a:lnTo>
                  <a:pt x="1392" y="12"/>
                </a:lnTo>
                <a:lnTo>
                  <a:pt x="1398" y="6"/>
                </a:lnTo>
                <a:lnTo>
                  <a:pt x="139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362720" y="4133880"/>
            <a:ext cx="171720" cy="218880"/>
          </a:xfrm>
          <a:custGeom>
            <a:avLst/>
            <a:gdLst/>
            <a:ahLst/>
            <a:rect l="l" t="t" r="r" b="b"/>
            <a:pathLst>
              <a:path w="108" h="138">
                <a:moveTo>
                  <a:pt x="0" y="138"/>
                </a:moveTo>
                <a:lnTo>
                  <a:pt x="6" y="132"/>
                </a:lnTo>
                <a:lnTo>
                  <a:pt x="6" y="126"/>
                </a:lnTo>
                <a:lnTo>
                  <a:pt x="18" y="114"/>
                </a:lnTo>
                <a:lnTo>
                  <a:pt x="18" y="108"/>
                </a:lnTo>
                <a:lnTo>
                  <a:pt x="24" y="102"/>
                </a:lnTo>
                <a:lnTo>
                  <a:pt x="24" y="96"/>
                </a:lnTo>
                <a:lnTo>
                  <a:pt x="36" y="84"/>
                </a:lnTo>
                <a:lnTo>
                  <a:pt x="36" y="78"/>
                </a:lnTo>
                <a:lnTo>
                  <a:pt x="42" y="72"/>
                </a:lnTo>
                <a:lnTo>
                  <a:pt x="54" y="60"/>
                </a:lnTo>
                <a:lnTo>
                  <a:pt x="54" y="54"/>
                </a:lnTo>
                <a:lnTo>
                  <a:pt x="66" y="42"/>
                </a:lnTo>
                <a:lnTo>
                  <a:pt x="66" y="36"/>
                </a:lnTo>
                <a:lnTo>
                  <a:pt x="72" y="30"/>
                </a:lnTo>
                <a:lnTo>
                  <a:pt x="78" y="24"/>
                </a:lnTo>
                <a:lnTo>
                  <a:pt x="84" y="18"/>
                </a:lnTo>
                <a:lnTo>
                  <a:pt x="90" y="12"/>
                </a:lnTo>
                <a:lnTo>
                  <a:pt x="96" y="6"/>
                </a:lnTo>
                <a:lnTo>
                  <a:pt x="102" y="0"/>
                </a:lnTo>
                <a:lnTo>
                  <a:pt x="1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143680" y="4105440"/>
            <a:ext cx="2286000" cy="1400040"/>
          </a:xfrm>
          <a:custGeom>
            <a:avLst/>
            <a:gdLst/>
            <a:ahLst/>
            <a:rect l="l" t="t" r="r" b="b"/>
            <a:pathLst>
              <a:path w="1440" h="882">
                <a:moveTo>
                  <a:pt x="0" y="882"/>
                </a:moveTo>
                <a:lnTo>
                  <a:pt x="192" y="876"/>
                </a:lnTo>
                <a:lnTo>
                  <a:pt x="312" y="876"/>
                </a:lnTo>
                <a:lnTo>
                  <a:pt x="390" y="870"/>
                </a:lnTo>
                <a:lnTo>
                  <a:pt x="456" y="870"/>
                </a:lnTo>
                <a:lnTo>
                  <a:pt x="504" y="870"/>
                </a:lnTo>
                <a:lnTo>
                  <a:pt x="552" y="864"/>
                </a:lnTo>
                <a:lnTo>
                  <a:pt x="588" y="864"/>
                </a:lnTo>
                <a:lnTo>
                  <a:pt x="624" y="864"/>
                </a:lnTo>
                <a:lnTo>
                  <a:pt x="654" y="858"/>
                </a:lnTo>
                <a:lnTo>
                  <a:pt x="678" y="858"/>
                </a:lnTo>
                <a:lnTo>
                  <a:pt x="702" y="858"/>
                </a:lnTo>
                <a:lnTo>
                  <a:pt x="726" y="852"/>
                </a:lnTo>
                <a:lnTo>
                  <a:pt x="750" y="852"/>
                </a:lnTo>
                <a:lnTo>
                  <a:pt x="768" y="846"/>
                </a:lnTo>
                <a:lnTo>
                  <a:pt x="786" y="846"/>
                </a:lnTo>
                <a:lnTo>
                  <a:pt x="804" y="846"/>
                </a:lnTo>
                <a:lnTo>
                  <a:pt x="816" y="840"/>
                </a:lnTo>
                <a:lnTo>
                  <a:pt x="834" y="840"/>
                </a:lnTo>
                <a:lnTo>
                  <a:pt x="846" y="834"/>
                </a:lnTo>
                <a:lnTo>
                  <a:pt x="864" y="834"/>
                </a:lnTo>
                <a:lnTo>
                  <a:pt x="876" y="828"/>
                </a:lnTo>
                <a:lnTo>
                  <a:pt x="888" y="828"/>
                </a:lnTo>
                <a:lnTo>
                  <a:pt x="900" y="822"/>
                </a:lnTo>
                <a:lnTo>
                  <a:pt x="912" y="822"/>
                </a:lnTo>
                <a:lnTo>
                  <a:pt x="924" y="816"/>
                </a:lnTo>
                <a:lnTo>
                  <a:pt x="936" y="816"/>
                </a:lnTo>
                <a:lnTo>
                  <a:pt x="942" y="810"/>
                </a:lnTo>
                <a:lnTo>
                  <a:pt x="954" y="804"/>
                </a:lnTo>
                <a:lnTo>
                  <a:pt x="966" y="804"/>
                </a:lnTo>
                <a:lnTo>
                  <a:pt x="972" y="798"/>
                </a:lnTo>
                <a:lnTo>
                  <a:pt x="984" y="798"/>
                </a:lnTo>
                <a:lnTo>
                  <a:pt x="990" y="792"/>
                </a:lnTo>
                <a:lnTo>
                  <a:pt x="1002" y="786"/>
                </a:lnTo>
                <a:lnTo>
                  <a:pt x="1008" y="786"/>
                </a:lnTo>
                <a:lnTo>
                  <a:pt x="1014" y="780"/>
                </a:lnTo>
                <a:lnTo>
                  <a:pt x="1026" y="774"/>
                </a:lnTo>
                <a:lnTo>
                  <a:pt x="1032" y="768"/>
                </a:lnTo>
                <a:lnTo>
                  <a:pt x="1038" y="768"/>
                </a:lnTo>
                <a:lnTo>
                  <a:pt x="1044" y="762"/>
                </a:lnTo>
                <a:lnTo>
                  <a:pt x="1050" y="756"/>
                </a:lnTo>
                <a:lnTo>
                  <a:pt x="1062" y="750"/>
                </a:lnTo>
                <a:lnTo>
                  <a:pt x="1068" y="744"/>
                </a:lnTo>
                <a:lnTo>
                  <a:pt x="1074" y="738"/>
                </a:lnTo>
                <a:lnTo>
                  <a:pt x="1080" y="738"/>
                </a:lnTo>
                <a:lnTo>
                  <a:pt x="1086" y="732"/>
                </a:lnTo>
                <a:lnTo>
                  <a:pt x="1092" y="726"/>
                </a:lnTo>
                <a:lnTo>
                  <a:pt x="1098" y="720"/>
                </a:lnTo>
                <a:lnTo>
                  <a:pt x="1104" y="714"/>
                </a:lnTo>
                <a:lnTo>
                  <a:pt x="1110" y="708"/>
                </a:lnTo>
                <a:lnTo>
                  <a:pt x="1116" y="702"/>
                </a:lnTo>
                <a:lnTo>
                  <a:pt x="1122" y="696"/>
                </a:lnTo>
                <a:lnTo>
                  <a:pt x="1128" y="678"/>
                </a:lnTo>
                <a:lnTo>
                  <a:pt x="1134" y="672"/>
                </a:lnTo>
                <a:lnTo>
                  <a:pt x="1140" y="666"/>
                </a:lnTo>
                <a:lnTo>
                  <a:pt x="1146" y="660"/>
                </a:lnTo>
                <a:lnTo>
                  <a:pt x="1152" y="654"/>
                </a:lnTo>
                <a:lnTo>
                  <a:pt x="1158" y="642"/>
                </a:lnTo>
                <a:lnTo>
                  <a:pt x="1158" y="636"/>
                </a:lnTo>
                <a:lnTo>
                  <a:pt x="1164" y="630"/>
                </a:lnTo>
                <a:lnTo>
                  <a:pt x="1170" y="618"/>
                </a:lnTo>
                <a:lnTo>
                  <a:pt x="1176" y="612"/>
                </a:lnTo>
                <a:lnTo>
                  <a:pt x="1182" y="606"/>
                </a:lnTo>
                <a:lnTo>
                  <a:pt x="1182" y="594"/>
                </a:lnTo>
                <a:lnTo>
                  <a:pt x="1188" y="588"/>
                </a:lnTo>
                <a:lnTo>
                  <a:pt x="1194" y="576"/>
                </a:lnTo>
                <a:lnTo>
                  <a:pt x="1194" y="570"/>
                </a:lnTo>
                <a:lnTo>
                  <a:pt x="1200" y="558"/>
                </a:lnTo>
                <a:lnTo>
                  <a:pt x="1206" y="546"/>
                </a:lnTo>
                <a:lnTo>
                  <a:pt x="1206" y="540"/>
                </a:lnTo>
                <a:lnTo>
                  <a:pt x="1212" y="528"/>
                </a:lnTo>
                <a:lnTo>
                  <a:pt x="1218" y="516"/>
                </a:lnTo>
                <a:lnTo>
                  <a:pt x="1218" y="510"/>
                </a:lnTo>
                <a:lnTo>
                  <a:pt x="1224" y="498"/>
                </a:lnTo>
                <a:lnTo>
                  <a:pt x="1230" y="486"/>
                </a:lnTo>
                <a:lnTo>
                  <a:pt x="1230" y="474"/>
                </a:lnTo>
                <a:lnTo>
                  <a:pt x="1236" y="462"/>
                </a:lnTo>
                <a:lnTo>
                  <a:pt x="1236" y="450"/>
                </a:lnTo>
                <a:lnTo>
                  <a:pt x="1242" y="438"/>
                </a:lnTo>
                <a:lnTo>
                  <a:pt x="1248" y="426"/>
                </a:lnTo>
                <a:lnTo>
                  <a:pt x="1248" y="414"/>
                </a:lnTo>
                <a:lnTo>
                  <a:pt x="1254" y="402"/>
                </a:lnTo>
                <a:lnTo>
                  <a:pt x="1254" y="390"/>
                </a:lnTo>
                <a:lnTo>
                  <a:pt x="1260" y="378"/>
                </a:lnTo>
                <a:lnTo>
                  <a:pt x="1266" y="366"/>
                </a:lnTo>
                <a:lnTo>
                  <a:pt x="1266" y="354"/>
                </a:lnTo>
                <a:lnTo>
                  <a:pt x="1272" y="342"/>
                </a:lnTo>
                <a:lnTo>
                  <a:pt x="1272" y="330"/>
                </a:lnTo>
                <a:lnTo>
                  <a:pt x="1278" y="318"/>
                </a:lnTo>
                <a:lnTo>
                  <a:pt x="1278" y="306"/>
                </a:lnTo>
                <a:lnTo>
                  <a:pt x="1284" y="294"/>
                </a:lnTo>
                <a:lnTo>
                  <a:pt x="1284" y="282"/>
                </a:lnTo>
                <a:lnTo>
                  <a:pt x="1290" y="264"/>
                </a:lnTo>
                <a:lnTo>
                  <a:pt x="1290" y="252"/>
                </a:lnTo>
                <a:lnTo>
                  <a:pt x="1296" y="246"/>
                </a:lnTo>
                <a:lnTo>
                  <a:pt x="1296" y="234"/>
                </a:lnTo>
                <a:lnTo>
                  <a:pt x="1302" y="222"/>
                </a:lnTo>
                <a:lnTo>
                  <a:pt x="1302" y="210"/>
                </a:lnTo>
                <a:lnTo>
                  <a:pt x="1308" y="204"/>
                </a:lnTo>
                <a:lnTo>
                  <a:pt x="1308" y="192"/>
                </a:lnTo>
                <a:lnTo>
                  <a:pt x="1314" y="186"/>
                </a:lnTo>
                <a:lnTo>
                  <a:pt x="1314" y="174"/>
                </a:lnTo>
                <a:lnTo>
                  <a:pt x="1320" y="168"/>
                </a:lnTo>
                <a:lnTo>
                  <a:pt x="1320" y="150"/>
                </a:lnTo>
                <a:lnTo>
                  <a:pt x="1326" y="144"/>
                </a:lnTo>
                <a:lnTo>
                  <a:pt x="1326" y="138"/>
                </a:lnTo>
                <a:lnTo>
                  <a:pt x="1332" y="132"/>
                </a:lnTo>
                <a:lnTo>
                  <a:pt x="1332" y="126"/>
                </a:lnTo>
                <a:lnTo>
                  <a:pt x="1338" y="120"/>
                </a:lnTo>
                <a:lnTo>
                  <a:pt x="1338" y="108"/>
                </a:lnTo>
                <a:lnTo>
                  <a:pt x="1344" y="102"/>
                </a:lnTo>
                <a:lnTo>
                  <a:pt x="1356" y="90"/>
                </a:lnTo>
                <a:lnTo>
                  <a:pt x="1356" y="84"/>
                </a:lnTo>
                <a:lnTo>
                  <a:pt x="1362" y="78"/>
                </a:lnTo>
                <a:lnTo>
                  <a:pt x="1362" y="72"/>
                </a:lnTo>
                <a:lnTo>
                  <a:pt x="1368" y="66"/>
                </a:lnTo>
                <a:lnTo>
                  <a:pt x="1380" y="54"/>
                </a:lnTo>
                <a:lnTo>
                  <a:pt x="1380" y="48"/>
                </a:lnTo>
                <a:lnTo>
                  <a:pt x="1386" y="42"/>
                </a:lnTo>
                <a:lnTo>
                  <a:pt x="1392" y="36"/>
                </a:lnTo>
                <a:lnTo>
                  <a:pt x="1398" y="30"/>
                </a:lnTo>
                <a:lnTo>
                  <a:pt x="1404" y="24"/>
                </a:lnTo>
                <a:lnTo>
                  <a:pt x="1410" y="18"/>
                </a:lnTo>
                <a:lnTo>
                  <a:pt x="1416" y="18"/>
                </a:lnTo>
                <a:lnTo>
                  <a:pt x="1422" y="12"/>
                </a:lnTo>
                <a:lnTo>
                  <a:pt x="1428" y="6"/>
                </a:lnTo>
                <a:lnTo>
                  <a:pt x="1434" y="0"/>
                </a:lnTo>
                <a:lnTo>
                  <a:pt x="144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429680" y="4048200"/>
            <a:ext cx="104760" cy="57240"/>
          </a:xfrm>
          <a:custGeom>
            <a:avLst/>
            <a:gdLst/>
            <a:ahLst/>
            <a:rect l="l" t="t" r="r" b="b"/>
            <a:pathLst>
              <a:path w="66" h="36">
                <a:moveTo>
                  <a:pt x="0" y="36"/>
                </a:moveTo>
                <a:lnTo>
                  <a:pt x="6" y="30"/>
                </a:lnTo>
                <a:lnTo>
                  <a:pt x="12" y="24"/>
                </a:lnTo>
                <a:lnTo>
                  <a:pt x="18" y="24"/>
                </a:lnTo>
                <a:lnTo>
                  <a:pt x="24" y="18"/>
                </a:lnTo>
                <a:lnTo>
                  <a:pt x="30" y="18"/>
                </a:lnTo>
                <a:lnTo>
                  <a:pt x="36" y="12"/>
                </a:lnTo>
                <a:lnTo>
                  <a:pt x="42" y="6"/>
                </a:lnTo>
                <a:lnTo>
                  <a:pt x="48" y="6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rot="16200000">
            <a:off x="4120560" y="4555080"/>
            <a:ext cx="139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yr old plant size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992320" y="22860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2171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171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2124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124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20764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0764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2009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009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1943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43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1718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1718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664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2006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486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486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666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666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2800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800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905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05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9811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9811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3114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114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3162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162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209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209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2097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097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1046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238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3524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524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37051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7051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3838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838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3943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43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4019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019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4095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095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4152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52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4210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210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69524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69524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866960" y="2095560"/>
            <a:ext cx="2390760" cy="885600"/>
          </a:xfrm>
          <a:custGeom>
            <a:avLst/>
            <a:gdLst/>
            <a:ahLst/>
            <a:rect l="l" t="t" r="r" b="b"/>
            <a:pathLst>
              <a:path w="1506" h="558">
                <a:moveTo>
                  <a:pt x="0" y="558"/>
                </a:moveTo>
                <a:lnTo>
                  <a:pt x="192" y="534"/>
                </a:lnTo>
                <a:lnTo>
                  <a:pt x="312" y="498"/>
                </a:lnTo>
                <a:lnTo>
                  <a:pt x="390" y="468"/>
                </a:lnTo>
                <a:lnTo>
                  <a:pt x="456" y="438"/>
                </a:lnTo>
                <a:lnTo>
                  <a:pt x="504" y="408"/>
                </a:lnTo>
                <a:lnTo>
                  <a:pt x="552" y="378"/>
                </a:lnTo>
                <a:lnTo>
                  <a:pt x="588" y="354"/>
                </a:lnTo>
                <a:lnTo>
                  <a:pt x="624" y="330"/>
                </a:lnTo>
                <a:lnTo>
                  <a:pt x="654" y="306"/>
                </a:lnTo>
                <a:lnTo>
                  <a:pt x="678" y="282"/>
                </a:lnTo>
                <a:lnTo>
                  <a:pt x="702" y="258"/>
                </a:lnTo>
                <a:lnTo>
                  <a:pt x="726" y="240"/>
                </a:lnTo>
                <a:lnTo>
                  <a:pt x="750" y="222"/>
                </a:lnTo>
                <a:lnTo>
                  <a:pt x="768" y="204"/>
                </a:lnTo>
                <a:lnTo>
                  <a:pt x="786" y="186"/>
                </a:lnTo>
                <a:lnTo>
                  <a:pt x="804" y="168"/>
                </a:lnTo>
                <a:lnTo>
                  <a:pt x="816" y="156"/>
                </a:lnTo>
                <a:lnTo>
                  <a:pt x="834" y="138"/>
                </a:lnTo>
                <a:lnTo>
                  <a:pt x="846" y="126"/>
                </a:lnTo>
                <a:lnTo>
                  <a:pt x="864" y="114"/>
                </a:lnTo>
                <a:lnTo>
                  <a:pt x="876" y="102"/>
                </a:lnTo>
                <a:lnTo>
                  <a:pt x="888" y="90"/>
                </a:lnTo>
                <a:lnTo>
                  <a:pt x="900" y="84"/>
                </a:lnTo>
                <a:lnTo>
                  <a:pt x="912" y="72"/>
                </a:lnTo>
                <a:lnTo>
                  <a:pt x="924" y="66"/>
                </a:lnTo>
                <a:lnTo>
                  <a:pt x="936" y="60"/>
                </a:lnTo>
                <a:lnTo>
                  <a:pt x="942" y="54"/>
                </a:lnTo>
                <a:lnTo>
                  <a:pt x="954" y="42"/>
                </a:lnTo>
                <a:lnTo>
                  <a:pt x="966" y="36"/>
                </a:lnTo>
                <a:lnTo>
                  <a:pt x="972" y="36"/>
                </a:lnTo>
                <a:lnTo>
                  <a:pt x="984" y="30"/>
                </a:lnTo>
                <a:lnTo>
                  <a:pt x="990" y="24"/>
                </a:lnTo>
                <a:lnTo>
                  <a:pt x="1002" y="18"/>
                </a:lnTo>
                <a:lnTo>
                  <a:pt x="1008" y="18"/>
                </a:lnTo>
                <a:lnTo>
                  <a:pt x="1014" y="12"/>
                </a:lnTo>
                <a:lnTo>
                  <a:pt x="1026" y="12"/>
                </a:lnTo>
                <a:lnTo>
                  <a:pt x="1032" y="6"/>
                </a:lnTo>
                <a:lnTo>
                  <a:pt x="1038" y="6"/>
                </a:lnTo>
                <a:lnTo>
                  <a:pt x="1044" y="6"/>
                </a:lnTo>
                <a:lnTo>
                  <a:pt x="1050" y="6"/>
                </a:lnTo>
                <a:lnTo>
                  <a:pt x="1062" y="6"/>
                </a:lnTo>
                <a:lnTo>
                  <a:pt x="1068" y="6"/>
                </a:lnTo>
                <a:lnTo>
                  <a:pt x="1074" y="0"/>
                </a:lnTo>
                <a:lnTo>
                  <a:pt x="1080" y="6"/>
                </a:lnTo>
                <a:lnTo>
                  <a:pt x="1086" y="6"/>
                </a:lnTo>
                <a:lnTo>
                  <a:pt x="1092" y="6"/>
                </a:lnTo>
                <a:lnTo>
                  <a:pt x="1098" y="6"/>
                </a:lnTo>
                <a:lnTo>
                  <a:pt x="1104" y="12"/>
                </a:lnTo>
                <a:lnTo>
                  <a:pt x="1110" y="12"/>
                </a:lnTo>
                <a:lnTo>
                  <a:pt x="1116" y="12"/>
                </a:lnTo>
                <a:lnTo>
                  <a:pt x="1122" y="12"/>
                </a:lnTo>
                <a:lnTo>
                  <a:pt x="1128" y="18"/>
                </a:lnTo>
                <a:lnTo>
                  <a:pt x="1134" y="18"/>
                </a:lnTo>
                <a:lnTo>
                  <a:pt x="1140" y="24"/>
                </a:lnTo>
                <a:lnTo>
                  <a:pt x="1146" y="24"/>
                </a:lnTo>
                <a:lnTo>
                  <a:pt x="1152" y="24"/>
                </a:lnTo>
                <a:lnTo>
                  <a:pt x="1158" y="30"/>
                </a:lnTo>
                <a:lnTo>
                  <a:pt x="1164" y="36"/>
                </a:lnTo>
                <a:lnTo>
                  <a:pt x="1170" y="36"/>
                </a:lnTo>
                <a:lnTo>
                  <a:pt x="1176" y="42"/>
                </a:lnTo>
                <a:lnTo>
                  <a:pt x="1182" y="48"/>
                </a:lnTo>
                <a:lnTo>
                  <a:pt x="1188" y="48"/>
                </a:lnTo>
                <a:lnTo>
                  <a:pt x="1194" y="60"/>
                </a:lnTo>
                <a:lnTo>
                  <a:pt x="1200" y="66"/>
                </a:lnTo>
                <a:lnTo>
                  <a:pt x="1206" y="72"/>
                </a:lnTo>
                <a:lnTo>
                  <a:pt x="1212" y="72"/>
                </a:lnTo>
                <a:lnTo>
                  <a:pt x="1218" y="78"/>
                </a:lnTo>
                <a:lnTo>
                  <a:pt x="1224" y="84"/>
                </a:lnTo>
                <a:lnTo>
                  <a:pt x="1230" y="90"/>
                </a:lnTo>
                <a:lnTo>
                  <a:pt x="1236" y="96"/>
                </a:lnTo>
                <a:lnTo>
                  <a:pt x="1242" y="102"/>
                </a:lnTo>
                <a:lnTo>
                  <a:pt x="1248" y="102"/>
                </a:lnTo>
                <a:lnTo>
                  <a:pt x="1248" y="114"/>
                </a:lnTo>
                <a:lnTo>
                  <a:pt x="1254" y="114"/>
                </a:lnTo>
                <a:lnTo>
                  <a:pt x="1260" y="120"/>
                </a:lnTo>
                <a:lnTo>
                  <a:pt x="1266" y="126"/>
                </a:lnTo>
                <a:lnTo>
                  <a:pt x="1272" y="132"/>
                </a:lnTo>
                <a:lnTo>
                  <a:pt x="1278" y="138"/>
                </a:lnTo>
                <a:lnTo>
                  <a:pt x="1284" y="144"/>
                </a:lnTo>
                <a:lnTo>
                  <a:pt x="1290" y="150"/>
                </a:lnTo>
                <a:lnTo>
                  <a:pt x="1302" y="162"/>
                </a:lnTo>
                <a:lnTo>
                  <a:pt x="1296" y="162"/>
                </a:lnTo>
                <a:lnTo>
                  <a:pt x="1302" y="162"/>
                </a:lnTo>
                <a:lnTo>
                  <a:pt x="1308" y="168"/>
                </a:lnTo>
                <a:lnTo>
                  <a:pt x="1314" y="174"/>
                </a:lnTo>
                <a:lnTo>
                  <a:pt x="1326" y="186"/>
                </a:lnTo>
                <a:lnTo>
                  <a:pt x="1320" y="186"/>
                </a:lnTo>
                <a:lnTo>
                  <a:pt x="1326" y="186"/>
                </a:lnTo>
                <a:lnTo>
                  <a:pt x="1332" y="192"/>
                </a:lnTo>
                <a:lnTo>
                  <a:pt x="1338" y="198"/>
                </a:lnTo>
                <a:lnTo>
                  <a:pt x="1344" y="204"/>
                </a:lnTo>
                <a:lnTo>
                  <a:pt x="1350" y="204"/>
                </a:lnTo>
                <a:lnTo>
                  <a:pt x="1356" y="210"/>
                </a:lnTo>
                <a:lnTo>
                  <a:pt x="1362" y="216"/>
                </a:lnTo>
                <a:lnTo>
                  <a:pt x="1368" y="216"/>
                </a:lnTo>
                <a:lnTo>
                  <a:pt x="1374" y="222"/>
                </a:lnTo>
                <a:lnTo>
                  <a:pt x="1380" y="228"/>
                </a:lnTo>
                <a:lnTo>
                  <a:pt x="1386" y="228"/>
                </a:lnTo>
                <a:lnTo>
                  <a:pt x="1392" y="234"/>
                </a:lnTo>
                <a:lnTo>
                  <a:pt x="1398" y="234"/>
                </a:lnTo>
                <a:lnTo>
                  <a:pt x="1404" y="240"/>
                </a:lnTo>
                <a:lnTo>
                  <a:pt x="1410" y="240"/>
                </a:lnTo>
                <a:lnTo>
                  <a:pt x="1416" y="240"/>
                </a:lnTo>
                <a:lnTo>
                  <a:pt x="1422" y="246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2"/>
                </a:lnTo>
                <a:lnTo>
                  <a:pt x="1446" y="252"/>
                </a:lnTo>
                <a:lnTo>
                  <a:pt x="1452" y="258"/>
                </a:lnTo>
                <a:lnTo>
                  <a:pt x="1458" y="258"/>
                </a:lnTo>
                <a:lnTo>
                  <a:pt x="1464" y="258"/>
                </a:lnTo>
                <a:lnTo>
                  <a:pt x="1470" y="258"/>
                </a:lnTo>
                <a:lnTo>
                  <a:pt x="1482" y="264"/>
                </a:lnTo>
                <a:lnTo>
                  <a:pt x="1476" y="264"/>
                </a:lnTo>
                <a:lnTo>
                  <a:pt x="1482" y="264"/>
                </a:lnTo>
                <a:lnTo>
                  <a:pt x="1488" y="264"/>
                </a:lnTo>
                <a:lnTo>
                  <a:pt x="1494" y="264"/>
                </a:lnTo>
                <a:lnTo>
                  <a:pt x="1500" y="264"/>
                </a:lnTo>
                <a:lnTo>
                  <a:pt x="1506" y="26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866960" y="1266840"/>
            <a:ext cx="2371680" cy="1619280"/>
          </a:xfrm>
          <a:custGeom>
            <a:avLst/>
            <a:gdLst/>
            <a:ahLst/>
            <a:rect l="l" t="t" r="r" b="b"/>
            <a:pathLst>
              <a:path w="1494" h="1020">
                <a:moveTo>
                  <a:pt x="0" y="960"/>
                </a:moveTo>
                <a:lnTo>
                  <a:pt x="192" y="642"/>
                </a:lnTo>
                <a:lnTo>
                  <a:pt x="312" y="456"/>
                </a:lnTo>
                <a:lnTo>
                  <a:pt x="390" y="336"/>
                </a:lnTo>
                <a:lnTo>
                  <a:pt x="456" y="246"/>
                </a:lnTo>
                <a:lnTo>
                  <a:pt x="504" y="180"/>
                </a:lnTo>
                <a:lnTo>
                  <a:pt x="552" y="132"/>
                </a:lnTo>
                <a:lnTo>
                  <a:pt x="588" y="96"/>
                </a:lnTo>
                <a:lnTo>
                  <a:pt x="624" y="66"/>
                </a:lnTo>
                <a:lnTo>
                  <a:pt x="654" y="48"/>
                </a:lnTo>
                <a:lnTo>
                  <a:pt x="678" y="30"/>
                </a:lnTo>
                <a:lnTo>
                  <a:pt x="702" y="24"/>
                </a:lnTo>
                <a:lnTo>
                  <a:pt x="726" y="12"/>
                </a:lnTo>
                <a:lnTo>
                  <a:pt x="750" y="6"/>
                </a:lnTo>
                <a:lnTo>
                  <a:pt x="768" y="12"/>
                </a:lnTo>
                <a:lnTo>
                  <a:pt x="786" y="0"/>
                </a:lnTo>
                <a:lnTo>
                  <a:pt x="804" y="12"/>
                </a:lnTo>
                <a:lnTo>
                  <a:pt x="816" y="18"/>
                </a:lnTo>
                <a:lnTo>
                  <a:pt x="834" y="24"/>
                </a:lnTo>
                <a:lnTo>
                  <a:pt x="846" y="30"/>
                </a:lnTo>
                <a:lnTo>
                  <a:pt x="864" y="42"/>
                </a:lnTo>
                <a:lnTo>
                  <a:pt x="876" y="54"/>
                </a:lnTo>
                <a:lnTo>
                  <a:pt x="888" y="60"/>
                </a:lnTo>
                <a:lnTo>
                  <a:pt x="900" y="78"/>
                </a:lnTo>
                <a:lnTo>
                  <a:pt x="912" y="90"/>
                </a:lnTo>
                <a:lnTo>
                  <a:pt x="924" y="102"/>
                </a:lnTo>
                <a:lnTo>
                  <a:pt x="936" y="114"/>
                </a:lnTo>
                <a:lnTo>
                  <a:pt x="942" y="132"/>
                </a:lnTo>
                <a:lnTo>
                  <a:pt x="954" y="144"/>
                </a:lnTo>
                <a:lnTo>
                  <a:pt x="966" y="162"/>
                </a:lnTo>
                <a:lnTo>
                  <a:pt x="972" y="180"/>
                </a:lnTo>
                <a:lnTo>
                  <a:pt x="984" y="198"/>
                </a:lnTo>
                <a:lnTo>
                  <a:pt x="990" y="210"/>
                </a:lnTo>
                <a:lnTo>
                  <a:pt x="1002" y="228"/>
                </a:lnTo>
                <a:lnTo>
                  <a:pt x="1008" y="240"/>
                </a:lnTo>
                <a:lnTo>
                  <a:pt x="1014" y="264"/>
                </a:lnTo>
                <a:lnTo>
                  <a:pt x="1026" y="276"/>
                </a:lnTo>
                <a:lnTo>
                  <a:pt x="1032" y="294"/>
                </a:lnTo>
                <a:lnTo>
                  <a:pt x="1038" y="312"/>
                </a:lnTo>
                <a:lnTo>
                  <a:pt x="1044" y="324"/>
                </a:lnTo>
                <a:lnTo>
                  <a:pt x="1050" y="348"/>
                </a:lnTo>
                <a:lnTo>
                  <a:pt x="1062" y="360"/>
                </a:lnTo>
                <a:lnTo>
                  <a:pt x="1068" y="378"/>
                </a:lnTo>
                <a:lnTo>
                  <a:pt x="1074" y="390"/>
                </a:lnTo>
                <a:lnTo>
                  <a:pt x="1080" y="408"/>
                </a:lnTo>
                <a:lnTo>
                  <a:pt x="1086" y="420"/>
                </a:lnTo>
                <a:lnTo>
                  <a:pt x="1092" y="438"/>
                </a:lnTo>
                <a:lnTo>
                  <a:pt x="1098" y="450"/>
                </a:lnTo>
                <a:lnTo>
                  <a:pt x="1104" y="462"/>
                </a:lnTo>
                <a:lnTo>
                  <a:pt x="1110" y="480"/>
                </a:lnTo>
                <a:lnTo>
                  <a:pt x="1116" y="498"/>
                </a:lnTo>
                <a:lnTo>
                  <a:pt x="1122" y="510"/>
                </a:lnTo>
                <a:lnTo>
                  <a:pt x="1128" y="522"/>
                </a:lnTo>
                <a:lnTo>
                  <a:pt x="1128" y="540"/>
                </a:lnTo>
                <a:lnTo>
                  <a:pt x="1134" y="552"/>
                </a:lnTo>
                <a:lnTo>
                  <a:pt x="1140" y="564"/>
                </a:lnTo>
                <a:lnTo>
                  <a:pt x="1146" y="576"/>
                </a:lnTo>
                <a:lnTo>
                  <a:pt x="1152" y="588"/>
                </a:lnTo>
                <a:lnTo>
                  <a:pt x="1158" y="600"/>
                </a:lnTo>
                <a:lnTo>
                  <a:pt x="1158" y="612"/>
                </a:lnTo>
                <a:lnTo>
                  <a:pt x="1164" y="630"/>
                </a:lnTo>
                <a:lnTo>
                  <a:pt x="1170" y="642"/>
                </a:lnTo>
                <a:lnTo>
                  <a:pt x="1176" y="654"/>
                </a:lnTo>
                <a:lnTo>
                  <a:pt x="1182" y="660"/>
                </a:lnTo>
                <a:lnTo>
                  <a:pt x="1182" y="678"/>
                </a:lnTo>
                <a:lnTo>
                  <a:pt x="1188" y="684"/>
                </a:lnTo>
                <a:lnTo>
                  <a:pt x="1194" y="696"/>
                </a:lnTo>
                <a:lnTo>
                  <a:pt x="1194" y="708"/>
                </a:lnTo>
                <a:lnTo>
                  <a:pt x="1200" y="720"/>
                </a:lnTo>
                <a:lnTo>
                  <a:pt x="1206" y="726"/>
                </a:lnTo>
                <a:lnTo>
                  <a:pt x="1206" y="738"/>
                </a:lnTo>
                <a:lnTo>
                  <a:pt x="1212" y="750"/>
                </a:lnTo>
                <a:lnTo>
                  <a:pt x="1218" y="756"/>
                </a:lnTo>
                <a:lnTo>
                  <a:pt x="1218" y="768"/>
                </a:lnTo>
                <a:lnTo>
                  <a:pt x="1224" y="774"/>
                </a:lnTo>
                <a:lnTo>
                  <a:pt x="1230" y="786"/>
                </a:lnTo>
                <a:lnTo>
                  <a:pt x="1230" y="798"/>
                </a:lnTo>
                <a:lnTo>
                  <a:pt x="1236" y="804"/>
                </a:lnTo>
                <a:lnTo>
                  <a:pt x="1236" y="816"/>
                </a:lnTo>
                <a:lnTo>
                  <a:pt x="1242" y="822"/>
                </a:lnTo>
                <a:lnTo>
                  <a:pt x="1248" y="828"/>
                </a:lnTo>
                <a:lnTo>
                  <a:pt x="1248" y="840"/>
                </a:lnTo>
                <a:lnTo>
                  <a:pt x="1254" y="846"/>
                </a:lnTo>
                <a:lnTo>
                  <a:pt x="1254" y="852"/>
                </a:lnTo>
                <a:lnTo>
                  <a:pt x="1260" y="864"/>
                </a:lnTo>
                <a:lnTo>
                  <a:pt x="1266" y="870"/>
                </a:lnTo>
                <a:lnTo>
                  <a:pt x="1266" y="876"/>
                </a:lnTo>
                <a:lnTo>
                  <a:pt x="1272" y="882"/>
                </a:lnTo>
                <a:lnTo>
                  <a:pt x="1272" y="888"/>
                </a:lnTo>
                <a:lnTo>
                  <a:pt x="1278" y="894"/>
                </a:lnTo>
                <a:lnTo>
                  <a:pt x="1278" y="900"/>
                </a:lnTo>
                <a:lnTo>
                  <a:pt x="1290" y="918"/>
                </a:lnTo>
                <a:lnTo>
                  <a:pt x="1290" y="924"/>
                </a:lnTo>
                <a:lnTo>
                  <a:pt x="1296" y="930"/>
                </a:lnTo>
                <a:lnTo>
                  <a:pt x="1296" y="936"/>
                </a:lnTo>
                <a:lnTo>
                  <a:pt x="1302" y="942"/>
                </a:lnTo>
                <a:lnTo>
                  <a:pt x="1314" y="954"/>
                </a:lnTo>
                <a:lnTo>
                  <a:pt x="1314" y="960"/>
                </a:lnTo>
                <a:lnTo>
                  <a:pt x="1320" y="966"/>
                </a:lnTo>
                <a:lnTo>
                  <a:pt x="1326" y="972"/>
                </a:lnTo>
                <a:lnTo>
                  <a:pt x="1332" y="978"/>
                </a:lnTo>
                <a:lnTo>
                  <a:pt x="1338" y="984"/>
                </a:lnTo>
                <a:lnTo>
                  <a:pt x="1344" y="984"/>
                </a:lnTo>
                <a:lnTo>
                  <a:pt x="1350" y="990"/>
                </a:lnTo>
                <a:lnTo>
                  <a:pt x="1356" y="990"/>
                </a:lnTo>
                <a:lnTo>
                  <a:pt x="1362" y="996"/>
                </a:lnTo>
                <a:lnTo>
                  <a:pt x="1368" y="996"/>
                </a:lnTo>
                <a:lnTo>
                  <a:pt x="1374" y="1002"/>
                </a:lnTo>
                <a:lnTo>
                  <a:pt x="1380" y="1002"/>
                </a:lnTo>
                <a:lnTo>
                  <a:pt x="1386" y="1002"/>
                </a:lnTo>
                <a:lnTo>
                  <a:pt x="1392" y="1008"/>
                </a:lnTo>
                <a:lnTo>
                  <a:pt x="1398" y="1008"/>
                </a:lnTo>
                <a:lnTo>
                  <a:pt x="1404" y="1008"/>
                </a:lnTo>
                <a:lnTo>
                  <a:pt x="1410" y="1008"/>
                </a:lnTo>
                <a:lnTo>
                  <a:pt x="1416" y="1014"/>
                </a:lnTo>
                <a:lnTo>
                  <a:pt x="1422" y="1014"/>
                </a:lnTo>
                <a:lnTo>
                  <a:pt x="1428" y="1014"/>
                </a:lnTo>
                <a:lnTo>
                  <a:pt x="1434" y="1014"/>
                </a:lnTo>
                <a:lnTo>
                  <a:pt x="1440" y="1014"/>
                </a:lnTo>
                <a:lnTo>
                  <a:pt x="1446" y="1014"/>
                </a:lnTo>
                <a:lnTo>
                  <a:pt x="1452" y="1014"/>
                </a:lnTo>
                <a:lnTo>
                  <a:pt x="1458" y="1020"/>
                </a:lnTo>
                <a:lnTo>
                  <a:pt x="1464" y="1020"/>
                </a:lnTo>
                <a:lnTo>
                  <a:pt x="1470" y="1020"/>
                </a:lnTo>
                <a:lnTo>
                  <a:pt x="1476" y="1020"/>
                </a:lnTo>
                <a:lnTo>
                  <a:pt x="1482" y="1020"/>
                </a:lnTo>
                <a:lnTo>
                  <a:pt x="1488" y="1020"/>
                </a:lnTo>
                <a:lnTo>
                  <a:pt x="1494" y="102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238640" y="288612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rot="16200000">
            <a:off x="967320" y="196596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448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448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5400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400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5353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353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5286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286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5219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19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5448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448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34312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4774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5762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762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5943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943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6076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076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6181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181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6257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257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639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39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6438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438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6486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86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6486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486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381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515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6800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800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698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98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7115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7115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7219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219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7296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296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7372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372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7429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429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7486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7486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95216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95216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95216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5216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95216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95216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43680" y="1095480"/>
            <a:ext cx="2390760" cy="1780920"/>
          </a:xfrm>
          <a:custGeom>
            <a:avLst/>
            <a:gdLst/>
            <a:ahLst/>
            <a:rect l="l" t="t" r="r" b="b"/>
            <a:pathLst>
              <a:path w="1506" h="1122">
                <a:moveTo>
                  <a:pt x="0" y="0"/>
                </a:moveTo>
                <a:lnTo>
                  <a:pt x="192" y="486"/>
                </a:lnTo>
                <a:lnTo>
                  <a:pt x="312" y="762"/>
                </a:lnTo>
                <a:lnTo>
                  <a:pt x="390" y="882"/>
                </a:lnTo>
                <a:lnTo>
                  <a:pt x="456" y="948"/>
                </a:lnTo>
                <a:lnTo>
                  <a:pt x="504" y="984"/>
                </a:lnTo>
                <a:lnTo>
                  <a:pt x="552" y="1014"/>
                </a:lnTo>
                <a:lnTo>
                  <a:pt x="588" y="1032"/>
                </a:lnTo>
                <a:lnTo>
                  <a:pt x="624" y="1050"/>
                </a:lnTo>
                <a:lnTo>
                  <a:pt x="654" y="1062"/>
                </a:lnTo>
                <a:lnTo>
                  <a:pt x="678" y="1068"/>
                </a:lnTo>
                <a:lnTo>
                  <a:pt x="702" y="1074"/>
                </a:lnTo>
                <a:lnTo>
                  <a:pt x="726" y="1086"/>
                </a:lnTo>
                <a:lnTo>
                  <a:pt x="750" y="1086"/>
                </a:lnTo>
                <a:lnTo>
                  <a:pt x="768" y="1092"/>
                </a:lnTo>
                <a:lnTo>
                  <a:pt x="786" y="1098"/>
                </a:lnTo>
                <a:lnTo>
                  <a:pt x="804" y="1098"/>
                </a:lnTo>
                <a:lnTo>
                  <a:pt x="816" y="1104"/>
                </a:lnTo>
                <a:lnTo>
                  <a:pt x="834" y="1104"/>
                </a:lnTo>
                <a:lnTo>
                  <a:pt x="846" y="1110"/>
                </a:lnTo>
                <a:lnTo>
                  <a:pt x="864" y="1110"/>
                </a:lnTo>
                <a:lnTo>
                  <a:pt x="876" y="1110"/>
                </a:lnTo>
                <a:lnTo>
                  <a:pt x="888" y="1116"/>
                </a:lnTo>
                <a:lnTo>
                  <a:pt x="900" y="1116"/>
                </a:lnTo>
                <a:lnTo>
                  <a:pt x="912" y="1116"/>
                </a:lnTo>
                <a:lnTo>
                  <a:pt x="924" y="1116"/>
                </a:lnTo>
                <a:lnTo>
                  <a:pt x="936" y="1116"/>
                </a:lnTo>
                <a:lnTo>
                  <a:pt x="942" y="1116"/>
                </a:lnTo>
                <a:lnTo>
                  <a:pt x="954" y="1122"/>
                </a:lnTo>
                <a:lnTo>
                  <a:pt x="966" y="1122"/>
                </a:lnTo>
                <a:lnTo>
                  <a:pt x="972" y="1122"/>
                </a:lnTo>
                <a:lnTo>
                  <a:pt x="984" y="1122"/>
                </a:lnTo>
                <a:lnTo>
                  <a:pt x="990" y="1122"/>
                </a:lnTo>
                <a:lnTo>
                  <a:pt x="1002" y="1122"/>
                </a:lnTo>
                <a:lnTo>
                  <a:pt x="1008" y="1122"/>
                </a:lnTo>
                <a:lnTo>
                  <a:pt x="1014" y="1122"/>
                </a:lnTo>
                <a:lnTo>
                  <a:pt x="1026" y="1122"/>
                </a:lnTo>
                <a:lnTo>
                  <a:pt x="1032" y="1122"/>
                </a:lnTo>
                <a:lnTo>
                  <a:pt x="1038" y="1122"/>
                </a:lnTo>
                <a:lnTo>
                  <a:pt x="1044" y="1122"/>
                </a:lnTo>
                <a:lnTo>
                  <a:pt x="1050" y="1122"/>
                </a:lnTo>
                <a:lnTo>
                  <a:pt x="1062" y="1122"/>
                </a:lnTo>
                <a:lnTo>
                  <a:pt x="1068" y="1122"/>
                </a:lnTo>
                <a:lnTo>
                  <a:pt x="1074" y="1122"/>
                </a:lnTo>
                <a:lnTo>
                  <a:pt x="1080" y="1122"/>
                </a:lnTo>
                <a:lnTo>
                  <a:pt x="1086" y="1122"/>
                </a:lnTo>
                <a:lnTo>
                  <a:pt x="1092" y="1122"/>
                </a:lnTo>
                <a:lnTo>
                  <a:pt x="1098" y="1122"/>
                </a:lnTo>
                <a:lnTo>
                  <a:pt x="1104" y="1122"/>
                </a:lnTo>
                <a:lnTo>
                  <a:pt x="1110" y="1122"/>
                </a:lnTo>
                <a:lnTo>
                  <a:pt x="1116" y="1122"/>
                </a:lnTo>
                <a:lnTo>
                  <a:pt x="1122" y="1122"/>
                </a:lnTo>
                <a:lnTo>
                  <a:pt x="1128" y="1122"/>
                </a:lnTo>
                <a:lnTo>
                  <a:pt x="1134" y="1122"/>
                </a:lnTo>
                <a:lnTo>
                  <a:pt x="1140" y="1122"/>
                </a:lnTo>
                <a:lnTo>
                  <a:pt x="1146" y="1122"/>
                </a:lnTo>
                <a:lnTo>
                  <a:pt x="1152" y="1122"/>
                </a:lnTo>
                <a:lnTo>
                  <a:pt x="1158" y="1122"/>
                </a:lnTo>
                <a:lnTo>
                  <a:pt x="1164" y="1122"/>
                </a:lnTo>
                <a:lnTo>
                  <a:pt x="1170" y="1122"/>
                </a:lnTo>
                <a:lnTo>
                  <a:pt x="1176" y="1122"/>
                </a:lnTo>
                <a:lnTo>
                  <a:pt x="1182" y="1122"/>
                </a:lnTo>
                <a:lnTo>
                  <a:pt x="1188" y="1116"/>
                </a:lnTo>
                <a:lnTo>
                  <a:pt x="1194" y="1116"/>
                </a:lnTo>
                <a:lnTo>
                  <a:pt x="1200" y="1116"/>
                </a:lnTo>
                <a:lnTo>
                  <a:pt x="1206" y="1116"/>
                </a:lnTo>
                <a:lnTo>
                  <a:pt x="1212" y="1116"/>
                </a:lnTo>
                <a:lnTo>
                  <a:pt x="1218" y="1116"/>
                </a:lnTo>
                <a:lnTo>
                  <a:pt x="1224" y="1116"/>
                </a:lnTo>
                <a:lnTo>
                  <a:pt x="1230" y="1116"/>
                </a:lnTo>
                <a:lnTo>
                  <a:pt x="1236" y="1110"/>
                </a:lnTo>
                <a:lnTo>
                  <a:pt x="1242" y="1110"/>
                </a:lnTo>
                <a:lnTo>
                  <a:pt x="1248" y="1110"/>
                </a:lnTo>
                <a:lnTo>
                  <a:pt x="1254" y="1110"/>
                </a:lnTo>
                <a:lnTo>
                  <a:pt x="1260" y="1110"/>
                </a:lnTo>
                <a:lnTo>
                  <a:pt x="1266" y="1110"/>
                </a:lnTo>
                <a:lnTo>
                  <a:pt x="1272" y="1110"/>
                </a:lnTo>
                <a:lnTo>
                  <a:pt x="1278" y="1104"/>
                </a:lnTo>
                <a:lnTo>
                  <a:pt x="1284" y="1104"/>
                </a:lnTo>
                <a:lnTo>
                  <a:pt x="1290" y="1104"/>
                </a:lnTo>
                <a:lnTo>
                  <a:pt x="1296" y="1104"/>
                </a:lnTo>
                <a:lnTo>
                  <a:pt x="1302" y="1104"/>
                </a:lnTo>
                <a:lnTo>
                  <a:pt x="1308" y="1098"/>
                </a:lnTo>
                <a:lnTo>
                  <a:pt x="1314" y="1098"/>
                </a:lnTo>
                <a:lnTo>
                  <a:pt x="1320" y="1098"/>
                </a:lnTo>
                <a:lnTo>
                  <a:pt x="1326" y="1098"/>
                </a:lnTo>
                <a:lnTo>
                  <a:pt x="1332" y="1098"/>
                </a:lnTo>
                <a:lnTo>
                  <a:pt x="1338" y="1092"/>
                </a:lnTo>
                <a:lnTo>
                  <a:pt x="1344" y="1092"/>
                </a:lnTo>
                <a:lnTo>
                  <a:pt x="1350" y="1092"/>
                </a:lnTo>
                <a:lnTo>
                  <a:pt x="1356" y="1092"/>
                </a:lnTo>
                <a:lnTo>
                  <a:pt x="1362" y="1092"/>
                </a:lnTo>
                <a:lnTo>
                  <a:pt x="1368" y="1086"/>
                </a:lnTo>
                <a:lnTo>
                  <a:pt x="1374" y="1086"/>
                </a:lnTo>
                <a:lnTo>
                  <a:pt x="1380" y="1086"/>
                </a:lnTo>
                <a:lnTo>
                  <a:pt x="1386" y="1086"/>
                </a:lnTo>
                <a:lnTo>
                  <a:pt x="1392" y="1086"/>
                </a:lnTo>
                <a:lnTo>
                  <a:pt x="1398" y="1086"/>
                </a:lnTo>
                <a:lnTo>
                  <a:pt x="1404" y="1086"/>
                </a:lnTo>
                <a:lnTo>
                  <a:pt x="1410" y="1080"/>
                </a:lnTo>
                <a:lnTo>
                  <a:pt x="1416" y="1080"/>
                </a:lnTo>
                <a:lnTo>
                  <a:pt x="1422" y="1080"/>
                </a:lnTo>
                <a:lnTo>
                  <a:pt x="1428" y="1080"/>
                </a:lnTo>
                <a:lnTo>
                  <a:pt x="1434" y="1080"/>
                </a:lnTo>
                <a:lnTo>
                  <a:pt x="1440" y="1080"/>
                </a:lnTo>
                <a:lnTo>
                  <a:pt x="1446" y="1080"/>
                </a:lnTo>
                <a:lnTo>
                  <a:pt x="1452" y="1080"/>
                </a:lnTo>
                <a:lnTo>
                  <a:pt x="1458" y="1080"/>
                </a:lnTo>
                <a:lnTo>
                  <a:pt x="1464" y="1074"/>
                </a:lnTo>
                <a:lnTo>
                  <a:pt x="1470" y="1074"/>
                </a:lnTo>
                <a:lnTo>
                  <a:pt x="1476" y="1074"/>
                </a:lnTo>
                <a:lnTo>
                  <a:pt x="1482" y="1074"/>
                </a:lnTo>
                <a:lnTo>
                  <a:pt x="1488" y="1074"/>
                </a:lnTo>
                <a:lnTo>
                  <a:pt x="1494" y="1074"/>
                </a:lnTo>
                <a:lnTo>
                  <a:pt x="1500" y="1074"/>
                </a:lnTo>
                <a:lnTo>
                  <a:pt x="1506" y="107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143680" y="2324160"/>
            <a:ext cx="2390760" cy="600120"/>
          </a:xfrm>
          <a:custGeom>
            <a:avLst/>
            <a:gdLst/>
            <a:ahLst/>
            <a:rect l="l" t="t" r="r" b="b"/>
            <a:pathLst>
              <a:path w="1506" h="378">
                <a:moveTo>
                  <a:pt x="0" y="168"/>
                </a:moveTo>
                <a:lnTo>
                  <a:pt x="192" y="336"/>
                </a:lnTo>
                <a:lnTo>
                  <a:pt x="312" y="354"/>
                </a:lnTo>
                <a:lnTo>
                  <a:pt x="390" y="366"/>
                </a:lnTo>
                <a:lnTo>
                  <a:pt x="456" y="372"/>
                </a:lnTo>
                <a:lnTo>
                  <a:pt x="504" y="372"/>
                </a:lnTo>
                <a:lnTo>
                  <a:pt x="552" y="372"/>
                </a:lnTo>
                <a:lnTo>
                  <a:pt x="588" y="378"/>
                </a:lnTo>
                <a:lnTo>
                  <a:pt x="624" y="378"/>
                </a:lnTo>
                <a:lnTo>
                  <a:pt x="654" y="378"/>
                </a:lnTo>
                <a:lnTo>
                  <a:pt x="678" y="378"/>
                </a:lnTo>
                <a:lnTo>
                  <a:pt x="702" y="378"/>
                </a:lnTo>
                <a:lnTo>
                  <a:pt x="726" y="378"/>
                </a:lnTo>
                <a:lnTo>
                  <a:pt x="750" y="378"/>
                </a:lnTo>
                <a:lnTo>
                  <a:pt x="768" y="378"/>
                </a:lnTo>
                <a:lnTo>
                  <a:pt x="786" y="378"/>
                </a:lnTo>
                <a:lnTo>
                  <a:pt x="804" y="378"/>
                </a:lnTo>
                <a:lnTo>
                  <a:pt x="816" y="378"/>
                </a:lnTo>
                <a:lnTo>
                  <a:pt x="834" y="378"/>
                </a:lnTo>
                <a:lnTo>
                  <a:pt x="846" y="378"/>
                </a:lnTo>
                <a:lnTo>
                  <a:pt x="864" y="378"/>
                </a:lnTo>
                <a:lnTo>
                  <a:pt x="876" y="378"/>
                </a:lnTo>
                <a:lnTo>
                  <a:pt x="888" y="378"/>
                </a:lnTo>
                <a:lnTo>
                  <a:pt x="900" y="378"/>
                </a:lnTo>
                <a:lnTo>
                  <a:pt x="912" y="378"/>
                </a:lnTo>
                <a:lnTo>
                  <a:pt x="924" y="378"/>
                </a:lnTo>
                <a:lnTo>
                  <a:pt x="936" y="378"/>
                </a:lnTo>
                <a:lnTo>
                  <a:pt x="942" y="372"/>
                </a:lnTo>
                <a:lnTo>
                  <a:pt x="954" y="372"/>
                </a:lnTo>
                <a:lnTo>
                  <a:pt x="966" y="372"/>
                </a:lnTo>
                <a:lnTo>
                  <a:pt x="972" y="372"/>
                </a:lnTo>
                <a:lnTo>
                  <a:pt x="984" y="372"/>
                </a:lnTo>
                <a:lnTo>
                  <a:pt x="990" y="372"/>
                </a:lnTo>
                <a:lnTo>
                  <a:pt x="1002" y="372"/>
                </a:lnTo>
                <a:lnTo>
                  <a:pt x="1008" y="372"/>
                </a:lnTo>
                <a:lnTo>
                  <a:pt x="1014" y="372"/>
                </a:lnTo>
                <a:lnTo>
                  <a:pt x="1026" y="366"/>
                </a:lnTo>
                <a:lnTo>
                  <a:pt x="1032" y="366"/>
                </a:lnTo>
                <a:lnTo>
                  <a:pt x="1038" y="366"/>
                </a:lnTo>
                <a:lnTo>
                  <a:pt x="1044" y="366"/>
                </a:lnTo>
                <a:lnTo>
                  <a:pt x="1050" y="366"/>
                </a:lnTo>
                <a:lnTo>
                  <a:pt x="1062" y="366"/>
                </a:lnTo>
                <a:lnTo>
                  <a:pt x="1068" y="360"/>
                </a:lnTo>
                <a:lnTo>
                  <a:pt x="1074" y="360"/>
                </a:lnTo>
                <a:lnTo>
                  <a:pt x="1080" y="360"/>
                </a:lnTo>
                <a:lnTo>
                  <a:pt x="1086" y="360"/>
                </a:lnTo>
                <a:lnTo>
                  <a:pt x="1092" y="360"/>
                </a:lnTo>
                <a:lnTo>
                  <a:pt x="1098" y="360"/>
                </a:lnTo>
                <a:lnTo>
                  <a:pt x="1104" y="354"/>
                </a:lnTo>
                <a:lnTo>
                  <a:pt x="1110" y="354"/>
                </a:lnTo>
                <a:lnTo>
                  <a:pt x="1116" y="354"/>
                </a:lnTo>
                <a:lnTo>
                  <a:pt x="1122" y="354"/>
                </a:lnTo>
                <a:lnTo>
                  <a:pt x="1128" y="348"/>
                </a:lnTo>
                <a:lnTo>
                  <a:pt x="1134" y="348"/>
                </a:lnTo>
                <a:lnTo>
                  <a:pt x="1140" y="348"/>
                </a:lnTo>
                <a:lnTo>
                  <a:pt x="1146" y="342"/>
                </a:lnTo>
                <a:lnTo>
                  <a:pt x="1152" y="342"/>
                </a:lnTo>
                <a:lnTo>
                  <a:pt x="1158" y="342"/>
                </a:lnTo>
                <a:lnTo>
                  <a:pt x="1164" y="336"/>
                </a:lnTo>
                <a:lnTo>
                  <a:pt x="1170" y="336"/>
                </a:lnTo>
                <a:lnTo>
                  <a:pt x="1176" y="336"/>
                </a:lnTo>
                <a:lnTo>
                  <a:pt x="1182" y="330"/>
                </a:lnTo>
                <a:lnTo>
                  <a:pt x="1188" y="330"/>
                </a:lnTo>
                <a:lnTo>
                  <a:pt x="1194" y="324"/>
                </a:lnTo>
                <a:lnTo>
                  <a:pt x="1200" y="318"/>
                </a:lnTo>
                <a:lnTo>
                  <a:pt x="1206" y="318"/>
                </a:lnTo>
                <a:lnTo>
                  <a:pt x="1212" y="312"/>
                </a:lnTo>
                <a:lnTo>
                  <a:pt x="1218" y="306"/>
                </a:lnTo>
                <a:lnTo>
                  <a:pt x="1224" y="306"/>
                </a:lnTo>
                <a:lnTo>
                  <a:pt x="1230" y="300"/>
                </a:lnTo>
                <a:lnTo>
                  <a:pt x="1236" y="294"/>
                </a:lnTo>
                <a:lnTo>
                  <a:pt x="1242" y="288"/>
                </a:lnTo>
                <a:lnTo>
                  <a:pt x="1248" y="282"/>
                </a:lnTo>
                <a:lnTo>
                  <a:pt x="1254" y="270"/>
                </a:lnTo>
                <a:lnTo>
                  <a:pt x="1260" y="264"/>
                </a:lnTo>
                <a:lnTo>
                  <a:pt x="1266" y="258"/>
                </a:lnTo>
                <a:lnTo>
                  <a:pt x="1278" y="246"/>
                </a:lnTo>
                <a:lnTo>
                  <a:pt x="1278" y="240"/>
                </a:lnTo>
                <a:lnTo>
                  <a:pt x="1284" y="234"/>
                </a:lnTo>
                <a:lnTo>
                  <a:pt x="1284" y="228"/>
                </a:lnTo>
                <a:lnTo>
                  <a:pt x="1290" y="222"/>
                </a:lnTo>
                <a:lnTo>
                  <a:pt x="1290" y="216"/>
                </a:lnTo>
                <a:lnTo>
                  <a:pt x="1296" y="210"/>
                </a:lnTo>
                <a:lnTo>
                  <a:pt x="1296" y="204"/>
                </a:lnTo>
                <a:lnTo>
                  <a:pt x="1302" y="198"/>
                </a:lnTo>
                <a:lnTo>
                  <a:pt x="1302" y="192"/>
                </a:lnTo>
                <a:lnTo>
                  <a:pt x="1314" y="180"/>
                </a:lnTo>
                <a:lnTo>
                  <a:pt x="1314" y="174"/>
                </a:lnTo>
                <a:lnTo>
                  <a:pt x="1320" y="168"/>
                </a:lnTo>
                <a:lnTo>
                  <a:pt x="1320" y="156"/>
                </a:lnTo>
                <a:lnTo>
                  <a:pt x="1326" y="150"/>
                </a:lnTo>
                <a:lnTo>
                  <a:pt x="1338" y="138"/>
                </a:lnTo>
                <a:lnTo>
                  <a:pt x="1338" y="126"/>
                </a:lnTo>
                <a:lnTo>
                  <a:pt x="1344" y="120"/>
                </a:lnTo>
                <a:lnTo>
                  <a:pt x="1350" y="114"/>
                </a:lnTo>
                <a:lnTo>
                  <a:pt x="1362" y="102"/>
                </a:lnTo>
                <a:lnTo>
                  <a:pt x="1362" y="90"/>
                </a:lnTo>
                <a:lnTo>
                  <a:pt x="1368" y="84"/>
                </a:lnTo>
                <a:lnTo>
                  <a:pt x="1374" y="78"/>
                </a:lnTo>
                <a:lnTo>
                  <a:pt x="1380" y="72"/>
                </a:lnTo>
                <a:lnTo>
                  <a:pt x="1386" y="66"/>
                </a:lnTo>
                <a:lnTo>
                  <a:pt x="1392" y="60"/>
                </a:lnTo>
                <a:lnTo>
                  <a:pt x="1398" y="54"/>
                </a:lnTo>
                <a:lnTo>
                  <a:pt x="1404" y="48"/>
                </a:lnTo>
                <a:lnTo>
                  <a:pt x="1410" y="42"/>
                </a:lnTo>
                <a:lnTo>
                  <a:pt x="1416" y="42"/>
                </a:lnTo>
                <a:lnTo>
                  <a:pt x="1422" y="36"/>
                </a:lnTo>
                <a:lnTo>
                  <a:pt x="1428" y="30"/>
                </a:lnTo>
                <a:lnTo>
                  <a:pt x="1434" y="24"/>
                </a:lnTo>
                <a:lnTo>
                  <a:pt x="1440" y="24"/>
                </a:lnTo>
                <a:lnTo>
                  <a:pt x="1446" y="18"/>
                </a:lnTo>
                <a:lnTo>
                  <a:pt x="1452" y="18"/>
                </a:lnTo>
                <a:lnTo>
                  <a:pt x="1458" y="18"/>
                </a:lnTo>
                <a:lnTo>
                  <a:pt x="1464" y="12"/>
                </a:lnTo>
                <a:lnTo>
                  <a:pt x="1470" y="6"/>
                </a:lnTo>
                <a:lnTo>
                  <a:pt x="1482" y="6"/>
                </a:lnTo>
                <a:lnTo>
                  <a:pt x="1476" y="6"/>
                </a:lnTo>
                <a:lnTo>
                  <a:pt x="1482" y="6"/>
                </a:lnTo>
                <a:lnTo>
                  <a:pt x="1488" y="6"/>
                </a:lnTo>
                <a:lnTo>
                  <a:pt x="1494" y="0"/>
                </a:lnTo>
                <a:lnTo>
                  <a:pt x="1500" y="0"/>
                </a:lnTo>
                <a:lnTo>
                  <a:pt x="150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rot="16200000">
            <a:off x="3930840" y="1947960"/>
            <a:ext cx="177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5448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448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5400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400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5353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353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5286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286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5219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448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448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34312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4774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5762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762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943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943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6076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076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6181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181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6257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257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639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39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438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438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6486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86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6486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486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381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15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6800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800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698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98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7115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7115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7219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7219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7296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296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7372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372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429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7429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7486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7486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95216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95216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95216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95216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95216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95216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143680" y="3772080"/>
            <a:ext cx="2381040" cy="1800000"/>
          </a:xfrm>
          <a:custGeom>
            <a:avLst/>
            <a:gdLst/>
            <a:ahLst/>
            <a:rect l="l" t="t" r="r" b="b"/>
            <a:pathLst>
              <a:path w="1500" h="1134">
                <a:moveTo>
                  <a:pt x="0" y="1134"/>
                </a:moveTo>
                <a:lnTo>
                  <a:pt x="192" y="642"/>
                </a:lnTo>
                <a:lnTo>
                  <a:pt x="312" y="366"/>
                </a:lnTo>
                <a:lnTo>
                  <a:pt x="390" y="246"/>
                </a:lnTo>
                <a:lnTo>
                  <a:pt x="456" y="186"/>
                </a:lnTo>
                <a:lnTo>
                  <a:pt x="504" y="144"/>
                </a:lnTo>
                <a:lnTo>
                  <a:pt x="552" y="114"/>
                </a:lnTo>
                <a:lnTo>
                  <a:pt x="588" y="96"/>
                </a:lnTo>
                <a:lnTo>
                  <a:pt x="624" y="84"/>
                </a:lnTo>
                <a:lnTo>
                  <a:pt x="654" y="66"/>
                </a:lnTo>
                <a:lnTo>
                  <a:pt x="678" y="60"/>
                </a:lnTo>
                <a:lnTo>
                  <a:pt x="702" y="54"/>
                </a:lnTo>
                <a:lnTo>
                  <a:pt x="726" y="48"/>
                </a:lnTo>
                <a:lnTo>
                  <a:pt x="750" y="42"/>
                </a:lnTo>
                <a:lnTo>
                  <a:pt x="768" y="36"/>
                </a:lnTo>
                <a:lnTo>
                  <a:pt x="786" y="30"/>
                </a:lnTo>
                <a:lnTo>
                  <a:pt x="804" y="30"/>
                </a:lnTo>
                <a:lnTo>
                  <a:pt x="816" y="24"/>
                </a:lnTo>
                <a:lnTo>
                  <a:pt x="834" y="24"/>
                </a:lnTo>
                <a:lnTo>
                  <a:pt x="846" y="18"/>
                </a:lnTo>
                <a:lnTo>
                  <a:pt x="864" y="18"/>
                </a:lnTo>
                <a:lnTo>
                  <a:pt x="876" y="18"/>
                </a:lnTo>
                <a:lnTo>
                  <a:pt x="888" y="12"/>
                </a:lnTo>
                <a:lnTo>
                  <a:pt x="900" y="12"/>
                </a:lnTo>
                <a:lnTo>
                  <a:pt x="912" y="12"/>
                </a:lnTo>
                <a:lnTo>
                  <a:pt x="924" y="12"/>
                </a:lnTo>
                <a:lnTo>
                  <a:pt x="936" y="12"/>
                </a:lnTo>
                <a:lnTo>
                  <a:pt x="942" y="12"/>
                </a:lnTo>
                <a:lnTo>
                  <a:pt x="954" y="6"/>
                </a:lnTo>
                <a:lnTo>
                  <a:pt x="966" y="6"/>
                </a:lnTo>
                <a:lnTo>
                  <a:pt x="972" y="6"/>
                </a:lnTo>
                <a:lnTo>
                  <a:pt x="984" y="6"/>
                </a:lnTo>
                <a:lnTo>
                  <a:pt x="990" y="12"/>
                </a:lnTo>
                <a:lnTo>
                  <a:pt x="1002" y="12"/>
                </a:lnTo>
                <a:lnTo>
                  <a:pt x="1008" y="6"/>
                </a:lnTo>
                <a:lnTo>
                  <a:pt x="1014" y="6"/>
                </a:lnTo>
                <a:lnTo>
                  <a:pt x="1026" y="6"/>
                </a:lnTo>
                <a:lnTo>
                  <a:pt x="1032" y="6"/>
                </a:lnTo>
                <a:lnTo>
                  <a:pt x="1038" y="0"/>
                </a:lnTo>
                <a:lnTo>
                  <a:pt x="1044" y="12"/>
                </a:lnTo>
                <a:lnTo>
                  <a:pt x="1050" y="6"/>
                </a:lnTo>
                <a:lnTo>
                  <a:pt x="1062" y="6"/>
                </a:lnTo>
                <a:lnTo>
                  <a:pt x="1068" y="6"/>
                </a:lnTo>
                <a:lnTo>
                  <a:pt x="1074" y="6"/>
                </a:lnTo>
                <a:lnTo>
                  <a:pt x="1080" y="6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6"/>
                </a:lnTo>
                <a:lnTo>
                  <a:pt x="1110" y="6"/>
                </a:lnTo>
                <a:lnTo>
                  <a:pt x="1116" y="6"/>
                </a:lnTo>
                <a:lnTo>
                  <a:pt x="1122" y="12"/>
                </a:lnTo>
                <a:lnTo>
                  <a:pt x="1128" y="0"/>
                </a:lnTo>
                <a:lnTo>
                  <a:pt x="1134" y="6"/>
                </a:lnTo>
                <a:lnTo>
                  <a:pt x="1140" y="6"/>
                </a:lnTo>
                <a:lnTo>
                  <a:pt x="1146" y="6"/>
                </a:lnTo>
                <a:lnTo>
                  <a:pt x="1152" y="6"/>
                </a:lnTo>
                <a:lnTo>
                  <a:pt x="1158" y="12"/>
                </a:lnTo>
                <a:lnTo>
                  <a:pt x="1158" y="0"/>
                </a:lnTo>
                <a:lnTo>
                  <a:pt x="1164" y="6"/>
                </a:lnTo>
                <a:lnTo>
                  <a:pt x="1170" y="6"/>
                </a:lnTo>
                <a:lnTo>
                  <a:pt x="1176" y="6"/>
                </a:lnTo>
                <a:lnTo>
                  <a:pt x="1182" y="6"/>
                </a:lnTo>
                <a:lnTo>
                  <a:pt x="1188" y="12"/>
                </a:lnTo>
                <a:lnTo>
                  <a:pt x="1194" y="6"/>
                </a:lnTo>
                <a:lnTo>
                  <a:pt x="1200" y="6"/>
                </a:lnTo>
                <a:lnTo>
                  <a:pt x="1206" y="12"/>
                </a:lnTo>
                <a:lnTo>
                  <a:pt x="1212" y="18"/>
                </a:lnTo>
                <a:lnTo>
                  <a:pt x="1218" y="12"/>
                </a:lnTo>
                <a:lnTo>
                  <a:pt x="1224" y="12"/>
                </a:lnTo>
                <a:lnTo>
                  <a:pt x="1230" y="12"/>
                </a:lnTo>
                <a:lnTo>
                  <a:pt x="1236" y="18"/>
                </a:lnTo>
                <a:lnTo>
                  <a:pt x="1242" y="18"/>
                </a:lnTo>
                <a:lnTo>
                  <a:pt x="1248" y="18"/>
                </a:lnTo>
                <a:lnTo>
                  <a:pt x="1254" y="18"/>
                </a:lnTo>
                <a:lnTo>
                  <a:pt x="1260" y="18"/>
                </a:lnTo>
                <a:lnTo>
                  <a:pt x="1266" y="24"/>
                </a:lnTo>
                <a:lnTo>
                  <a:pt x="1272" y="18"/>
                </a:lnTo>
                <a:lnTo>
                  <a:pt x="1278" y="24"/>
                </a:lnTo>
                <a:lnTo>
                  <a:pt x="1278" y="18"/>
                </a:lnTo>
                <a:lnTo>
                  <a:pt x="1290" y="24"/>
                </a:lnTo>
                <a:lnTo>
                  <a:pt x="1296" y="30"/>
                </a:lnTo>
                <a:lnTo>
                  <a:pt x="1308" y="30"/>
                </a:lnTo>
                <a:lnTo>
                  <a:pt x="1302" y="30"/>
                </a:lnTo>
                <a:lnTo>
                  <a:pt x="1308" y="30"/>
                </a:lnTo>
                <a:lnTo>
                  <a:pt x="1314" y="30"/>
                </a:lnTo>
                <a:lnTo>
                  <a:pt x="1320" y="36"/>
                </a:lnTo>
                <a:lnTo>
                  <a:pt x="1326" y="30"/>
                </a:lnTo>
                <a:lnTo>
                  <a:pt x="1332" y="30"/>
                </a:lnTo>
                <a:lnTo>
                  <a:pt x="1338" y="36"/>
                </a:lnTo>
                <a:lnTo>
                  <a:pt x="1344" y="36"/>
                </a:lnTo>
                <a:lnTo>
                  <a:pt x="1350" y="36"/>
                </a:lnTo>
                <a:lnTo>
                  <a:pt x="1356" y="36"/>
                </a:lnTo>
                <a:lnTo>
                  <a:pt x="1362" y="36"/>
                </a:lnTo>
                <a:lnTo>
                  <a:pt x="1368" y="42"/>
                </a:lnTo>
                <a:lnTo>
                  <a:pt x="1374" y="42"/>
                </a:lnTo>
                <a:lnTo>
                  <a:pt x="1380" y="36"/>
                </a:lnTo>
                <a:lnTo>
                  <a:pt x="1386" y="42"/>
                </a:lnTo>
                <a:lnTo>
                  <a:pt x="1392" y="48"/>
                </a:lnTo>
                <a:lnTo>
                  <a:pt x="1392" y="42"/>
                </a:lnTo>
                <a:lnTo>
                  <a:pt x="1392" y="48"/>
                </a:lnTo>
                <a:lnTo>
                  <a:pt x="1398" y="42"/>
                </a:lnTo>
                <a:lnTo>
                  <a:pt x="1404" y="48"/>
                </a:lnTo>
                <a:lnTo>
                  <a:pt x="1410" y="42"/>
                </a:lnTo>
                <a:lnTo>
                  <a:pt x="1410" y="48"/>
                </a:lnTo>
                <a:lnTo>
                  <a:pt x="1410" y="42"/>
                </a:lnTo>
                <a:lnTo>
                  <a:pt x="1416" y="48"/>
                </a:lnTo>
                <a:lnTo>
                  <a:pt x="1416" y="42"/>
                </a:lnTo>
                <a:lnTo>
                  <a:pt x="1416" y="48"/>
                </a:lnTo>
                <a:lnTo>
                  <a:pt x="1422" y="48"/>
                </a:lnTo>
                <a:lnTo>
                  <a:pt x="1428" y="48"/>
                </a:lnTo>
                <a:lnTo>
                  <a:pt x="1434" y="48"/>
                </a:lnTo>
                <a:lnTo>
                  <a:pt x="1440" y="48"/>
                </a:lnTo>
                <a:lnTo>
                  <a:pt x="1452" y="48"/>
                </a:lnTo>
                <a:lnTo>
                  <a:pt x="1446" y="48"/>
                </a:lnTo>
                <a:lnTo>
                  <a:pt x="1452" y="54"/>
                </a:lnTo>
                <a:lnTo>
                  <a:pt x="1464" y="54"/>
                </a:lnTo>
                <a:lnTo>
                  <a:pt x="1458" y="54"/>
                </a:lnTo>
                <a:lnTo>
                  <a:pt x="1464" y="54"/>
                </a:lnTo>
                <a:lnTo>
                  <a:pt x="1470" y="48"/>
                </a:lnTo>
                <a:lnTo>
                  <a:pt x="1476" y="54"/>
                </a:lnTo>
                <a:lnTo>
                  <a:pt x="1476" y="48"/>
                </a:lnTo>
                <a:lnTo>
                  <a:pt x="1482" y="54"/>
                </a:lnTo>
                <a:lnTo>
                  <a:pt x="1482" y="48"/>
                </a:lnTo>
                <a:lnTo>
                  <a:pt x="1482" y="54"/>
                </a:lnTo>
                <a:lnTo>
                  <a:pt x="1488" y="54"/>
                </a:lnTo>
                <a:lnTo>
                  <a:pt x="1494" y="54"/>
                </a:lnTo>
                <a:lnTo>
                  <a:pt x="1500" y="5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7524720" y="3857760"/>
            <a:ext cx="9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143680" y="3733920"/>
            <a:ext cx="2390760" cy="590400"/>
          </a:xfrm>
          <a:custGeom>
            <a:avLst/>
            <a:gdLst/>
            <a:ahLst/>
            <a:rect l="l" t="t" r="r" b="b"/>
            <a:pathLst>
              <a:path w="1506" h="372">
                <a:moveTo>
                  <a:pt x="0" y="210"/>
                </a:moveTo>
                <a:lnTo>
                  <a:pt x="192" y="42"/>
                </a:lnTo>
                <a:lnTo>
                  <a:pt x="312" y="18"/>
                </a:lnTo>
                <a:lnTo>
                  <a:pt x="390" y="12"/>
                </a:lnTo>
                <a:lnTo>
                  <a:pt x="456" y="0"/>
                </a:lnTo>
                <a:lnTo>
                  <a:pt x="504" y="6"/>
                </a:lnTo>
                <a:lnTo>
                  <a:pt x="552" y="6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0"/>
                </a:lnTo>
                <a:lnTo>
                  <a:pt x="702" y="0"/>
                </a:lnTo>
                <a:lnTo>
                  <a:pt x="726" y="0"/>
                </a:lnTo>
                <a:lnTo>
                  <a:pt x="750" y="0"/>
                </a:lnTo>
                <a:lnTo>
                  <a:pt x="768" y="0"/>
                </a:lnTo>
                <a:lnTo>
                  <a:pt x="786" y="0"/>
                </a:lnTo>
                <a:lnTo>
                  <a:pt x="804" y="0"/>
                </a:lnTo>
                <a:lnTo>
                  <a:pt x="816" y="0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6"/>
                </a:lnTo>
                <a:lnTo>
                  <a:pt x="942" y="0"/>
                </a:lnTo>
                <a:lnTo>
                  <a:pt x="954" y="6"/>
                </a:lnTo>
                <a:lnTo>
                  <a:pt x="966" y="6"/>
                </a:lnTo>
                <a:lnTo>
                  <a:pt x="972" y="6"/>
                </a:lnTo>
                <a:lnTo>
                  <a:pt x="984" y="6"/>
                </a:lnTo>
                <a:lnTo>
                  <a:pt x="990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12"/>
                </a:lnTo>
                <a:lnTo>
                  <a:pt x="1026" y="6"/>
                </a:lnTo>
                <a:lnTo>
                  <a:pt x="1032" y="6"/>
                </a:lnTo>
                <a:lnTo>
                  <a:pt x="1038" y="18"/>
                </a:lnTo>
                <a:lnTo>
                  <a:pt x="1044" y="6"/>
                </a:lnTo>
                <a:lnTo>
                  <a:pt x="1050" y="12"/>
                </a:lnTo>
                <a:lnTo>
                  <a:pt x="1062" y="12"/>
                </a:lnTo>
                <a:lnTo>
                  <a:pt x="1068" y="24"/>
                </a:lnTo>
                <a:lnTo>
                  <a:pt x="1074" y="12"/>
                </a:lnTo>
                <a:lnTo>
                  <a:pt x="1080" y="18"/>
                </a:lnTo>
                <a:lnTo>
                  <a:pt x="1086" y="18"/>
                </a:lnTo>
                <a:lnTo>
                  <a:pt x="1092" y="18"/>
                </a:lnTo>
                <a:lnTo>
                  <a:pt x="1098" y="24"/>
                </a:lnTo>
                <a:lnTo>
                  <a:pt x="1104" y="18"/>
                </a:lnTo>
                <a:lnTo>
                  <a:pt x="1110" y="24"/>
                </a:lnTo>
                <a:lnTo>
                  <a:pt x="1116" y="24"/>
                </a:lnTo>
                <a:lnTo>
                  <a:pt x="1122" y="30"/>
                </a:lnTo>
                <a:lnTo>
                  <a:pt x="1128" y="36"/>
                </a:lnTo>
                <a:lnTo>
                  <a:pt x="1134" y="36"/>
                </a:lnTo>
                <a:lnTo>
                  <a:pt x="1140" y="30"/>
                </a:lnTo>
                <a:lnTo>
                  <a:pt x="1146" y="30"/>
                </a:lnTo>
                <a:lnTo>
                  <a:pt x="1152" y="36"/>
                </a:lnTo>
                <a:lnTo>
                  <a:pt x="1158" y="36"/>
                </a:lnTo>
                <a:lnTo>
                  <a:pt x="1164" y="42"/>
                </a:lnTo>
                <a:lnTo>
                  <a:pt x="1170" y="42"/>
                </a:lnTo>
                <a:lnTo>
                  <a:pt x="1176" y="48"/>
                </a:lnTo>
                <a:lnTo>
                  <a:pt x="1182" y="54"/>
                </a:lnTo>
                <a:lnTo>
                  <a:pt x="1188" y="48"/>
                </a:lnTo>
                <a:lnTo>
                  <a:pt x="1194" y="54"/>
                </a:lnTo>
                <a:lnTo>
                  <a:pt x="1200" y="60"/>
                </a:lnTo>
                <a:lnTo>
                  <a:pt x="1206" y="54"/>
                </a:lnTo>
                <a:lnTo>
                  <a:pt x="1206" y="60"/>
                </a:lnTo>
                <a:lnTo>
                  <a:pt x="1212" y="66"/>
                </a:lnTo>
                <a:lnTo>
                  <a:pt x="1224" y="72"/>
                </a:lnTo>
                <a:lnTo>
                  <a:pt x="1230" y="78"/>
                </a:lnTo>
                <a:lnTo>
                  <a:pt x="1242" y="90"/>
                </a:lnTo>
                <a:lnTo>
                  <a:pt x="1236" y="90"/>
                </a:lnTo>
                <a:lnTo>
                  <a:pt x="1242" y="90"/>
                </a:lnTo>
                <a:lnTo>
                  <a:pt x="1248" y="96"/>
                </a:lnTo>
                <a:lnTo>
                  <a:pt x="1254" y="102"/>
                </a:lnTo>
                <a:lnTo>
                  <a:pt x="1254" y="108"/>
                </a:lnTo>
                <a:lnTo>
                  <a:pt x="1266" y="114"/>
                </a:lnTo>
                <a:lnTo>
                  <a:pt x="1266" y="120"/>
                </a:lnTo>
                <a:lnTo>
                  <a:pt x="1278" y="132"/>
                </a:lnTo>
                <a:lnTo>
                  <a:pt x="1278" y="138"/>
                </a:lnTo>
                <a:lnTo>
                  <a:pt x="1284" y="144"/>
                </a:lnTo>
                <a:lnTo>
                  <a:pt x="1284" y="150"/>
                </a:lnTo>
                <a:lnTo>
                  <a:pt x="1290" y="156"/>
                </a:lnTo>
                <a:lnTo>
                  <a:pt x="1296" y="168"/>
                </a:lnTo>
                <a:lnTo>
                  <a:pt x="1302" y="180"/>
                </a:lnTo>
                <a:lnTo>
                  <a:pt x="1302" y="186"/>
                </a:lnTo>
                <a:lnTo>
                  <a:pt x="1308" y="192"/>
                </a:lnTo>
                <a:lnTo>
                  <a:pt x="1314" y="198"/>
                </a:lnTo>
                <a:lnTo>
                  <a:pt x="1314" y="204"/>
                </a:lnTo>
                <a:lnTo>
                  <a:pt x="1320" y="210"/>
                </a:lnTo>
                <a:lnTo>
                  <a:pt x="1320" y="222"/>
                </a:lnTo>
                <a:lnTo>
                  <a:pt x="1326" y="228"/>
                </a:lnTo>
                <a:lnTo>
                  <a:pt x="1338" y="240"/>
                </a:lnTo>
                <a:lnTo>
                  <a:pt x="1338" y="252"/>
                </a:lnTo>
                <a:lnTo>
                  <a:pt x="1344" y="258"/>
                </a:lnTo>
                <a:lnTo>
                  <a:pt x="1350" y="264"/>
                </a:lnTo>
                <a:lnTo>
                  <a:pt x="1356" y="270"/>
                </a:lnTo>
                <a:lnTo>
                  <a:pt x="1356" y="276"/>
                </a:lnTo>
                <a:lnTo>
                  <a:pt x="1362" y="282"/>
                </a:lnTo>
                <a:lnTo>
                  <a:pt x="1362" y="288"/>
                </a:lnTo>
                <a:lnTo>
                  <a:pt x="1374" y="294"/>
                </a:lnTo>
                <a:lnTo>
                  <a:pt x="1374" y="300"/>
                </a:lnTo>
                <a:lnTo>
                  <a:pt x="1380" y="306"/>
                </a:lnTo>
                <a:lnTo>
                  <a:pt x="1380" y="312"/>
                </a:lnTo>
                <a:lnTo>
                  <a:pt x="1380" y="306"/>
                </a:lnTo>
                <a:lnTo>
                  <a:pt x="1386" y="312"/>
                </a:lnTo>
                <a:lnTo>
                  <a:pt x="1392" y="318"/>
                </a:lnTo>
                <a:lnTo>
                  <a:pt x="1398" y="324"/>
                </a:lnTo>
                <a:lnTo>
                  <a:pt x="1398" y="318"/>
                </a:lnTo>
                <a:lnTo>
                  <a:pt x="1398" y="324"/>
                </a:lnTo>
                <a:lnTo>
                  <a:pt x="1404" y="324"/>
                </a:lnTo>
                <a:lnTo>
                  <a:pt x="1410" y="336"/>
                </a:lnTo>
                <a:lnTo>
                  <a:pt x="1416" y="342"/>
                </a:lnTo>
                <a:lnTo>
                  <a:pt x="1428" y="342"/>
                </a:lnTo>
                <a:lnTo>
                  <a:pt x="1428" y="354"/>
                </a:lnTo>
                <a:lnTo>
                  <a:pt x="1434" y="348"/>
                </a:lnTo>
                <a:lnTo>
                  <a:pt x="1440" y="354"/>
                </a:lnTo>
                <a:lnTo>
                  <a:pt x="1446" y="360"/>
                </a:lnTo>
                <a:lnTo>
                  <a:pt x="1452" y="360"/>
                </a:lnTo>
                <a:lnTo>
                  <a:pt x="1458" y="366"/>
                </a:lnTo>
                <a:lnTo>
                  <a:pt x="1464" y="366"/>
                </a:lnTo>
                <a:lnTo>
                  <a:pt x="1470" y="372"/>
                </a:lnTo>
                <a:lnTo>
                  <a:pt x="1476" y="372"/>
                </a:lnTo>
                <a:lnTo>
                  <a:pt x="1482" y="372"/>
                </a:lnTo>
                <a:lnTo>
                  <a:pt x="1488" y="372"/>
                </a:lnTo>
                <a:lnTo>
                  <a:pt x="1494" y="372"/>
                </a:lnTo>
                <a:lnTo>
                  <a:pt x="1500" y="372"/>
                </a:lnTo>
                <a:lnTo>
                  <a:pt x="1506" y="37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rot="16200000">
            <a:off x="3749400" y="4537080"/>
            <a:ext cx="214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992320" y="22860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2171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171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2124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124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20764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0764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2009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009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1943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943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21718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1718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0664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2006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2486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486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2666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666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2800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800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2905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905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29811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9811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3114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114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3162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162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3209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209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32097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2097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1046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238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3524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3524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37051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7051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3838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838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3943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943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4019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019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4095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095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4152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152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4210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210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23680" y="29052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76184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761840" y="2143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695240" y="177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695240" y="1390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866960" y="2600280"/>
            <a:ext cx="2390760" cy="1800"/>
          </a:xfrm>
          <a:custGeom>
            <a:avLst/>
            <a:gdLst/>
            <a:ahLst/>
            <a:rect l="l" t="t" r="r" b="b"/>
            <a:pathLst>
              <a:path w="1506" h="0">
                <a:moveTo>
                  <a:pt x="0" y="0"/>
                </a:moveTo>
                <a:lnTo>
                  <a:pt x="192" y="0"/>
                </a:lnTo>
                <a:lnTo>
                  <a:pt x="312" y="0"/>
                </a:lnTo>
                <a:lnTo>
                  <a:pt x="390" y="0"/>
                </a:lnTo>
                <a:lnTo>
                  <a:pt x="456" y="0"/>
                </a:lnTo>
                <a:lnTo>
                  <a:pt x="504" y="0"/>
                </a:lnTo>
                <a:lnTo>
                  <a:pt x="552" y="0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0"/>
                </a:lnTo>
                <a:lnTo>
                  <a:pt x="702" y="0"/>
                </a:lnTo>
                <a:lnTo>
                  <a:pt x="726" y="0"/>
                </a:lnTo>
                <a:lnTo>
                  <a:pt x="750" y="0"/>
                </a:lnTo>
                <a:lnTo>
                  <a:pt x="768" y="0"/>
                </a:lnTo>
                <a:lnTo>
                  <a:pt x="786" y="0"/>
                </a:lnTo>
                <a:lnTo>
                  <a:pt x="804" y="0"/>
                </a:lnTo>
                <a:lnTo>
                  <a:pt x="816" y="0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54" y="0"/>
                </a:lnTo>
                <a:lnTo>
                  <a:pt x="966" y="0"/>
                </a:lnTo>
                <a:lnTo>
                  <a:pt x="972" y="0"/>
                </a:lnTo>
                <a:lnTo>
                  <a:pt x="984" y="0"/>
                </a:lnTo>
                <a:lnTo>
                  <a:pt x="990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  <a:lnTo>
                  <a:pt x="1320" y="0"/>
                </a:lnTo>
                <a:lnTo>
                  <a:pt x="1326" y="0"/>
                </a:lnTo>
                <a:lnTo>
                  <a:pt x="1332" y="0"/>
                </a:lnTo>
                <a:lnTo>
                  <a:pt x="1338" y="0"/>
                </a:lnTo>
                <a:lnTo>
                  <a:pt x="1344" y="0"/>
                </a:lnTo>
                <a:lnTo>
                  <a:pt x="1350" y="0"/>
                </a:lnTo>
                <a:lnTo>
                  <a:pt x="1356" y="0"/>
                </a:lnTo>
                <a:lnTo>
                  <a:pt x="1362" y="0"/>
                </a:lnTo>
                <a:lnTo>
                  <a:pt x="1368" y="0"/>
                </a:lnTo>
                <a:lnTo>
                  <a:pt x="1374" y="0"/>
                </a:lnTo>
                <a:lnTo>
                  <a:pt x="1380" y="0"/>
                </a:lnTo>
                <a:lnTo>
                  <a:pt x="1386" y="0"/>
                </a:lnTo>
                <a:lnTo>
                  <a:pt x="1392" y="0"/>
                </a:lnTo>
                <a:lnTo>
                  <a:pt x="1398" y="0"/>
                </a:lnTo>
                <a:lnTo>
                  <a:pt x="1404" y="0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0"/>
                </a:lnTo>
                <a:lnTo>
                  <a:pt x="1458" y="0"/>
                </a:lnTo>
                <a:lnTo>
                  <a:pt x="1464" y="0"/>
                </a:lnTo>
                <a:lnTo>
                  <a:pt x="1470" y="0"/>
                </a:lnTo>
                <a:lnTo>
                  <a:pt x="1476" y="0"/>
                </a:lnTo>
                <a:lnTo>
                  <a:pt x="1482" y="0"/>
                </a:lnTo>
                <a:lnTo>
                  <a:pt x="1488" y="0"/>
                </a:lnTo>
                <a:lnTo>
                  <a:pt x="1494" y="0"/>
                </a:lnTo>
                <a:lnTo>
                  <a:pt x="1500" y="0"/>
                </a:lnTo>
                <a:lnTo>
                  <a:pt x="150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866960" y="1162080"/>
            <a:ext cx="2247840" cy="1733400"/>
          </a:xfrm>
          <a:custGeom>
            <a:avLst/>
            <a:gdLst/>
            <a:ahLst/>
            <a:rect l="l" t="t" r="r" b="b"/>
            <a:pathLst>
              <a:path w="1416" h="1092">
                <a:moveTo>
                  <a:pt x="0" y="948"/>
                </a:moveTo>
                <a:lnTo>
                  <a:pt x="192" y="1044"/>
                </a:lnTo>
                <a:lnTo>
                  <a:pt x="312" y="1056"/>
                </a:lnTo>
                <a:lnTo>
                  <a:pt x="390" y="1062"/>
                </a:lnTo>
                <a:lnTo>
                  <a:pt x="456" y="1068"/>
                </a:lnTo>
                <a:lnTo>
                  <a:pt x="504" y="1074"/>
                </a:lnTo>
                <a:lnTo>
                  <a:pt x="552" y="1074"/>
                </a:lnTo>
                <a:lnTo>
                  <a:pt x="588" y="1074"/>
                </a:lnTo>
                <a:lnTo>
                  <a:pt x="624" y="1080"/>
                </a:lnTo>
                <a:lnTo>
                  <a:pt x="654" y="1080"/>
                </a:lnTo>
                <a:lnTo>
                  <a:pt x="678" y="1080"/>
                </a:lnTo>
                <a:lnTo>
                  <a:pt x="702" y="1086"/>
                </a:lnTo>
                <a:lnTo>
                  <a:pt x="726" y="1086"/>
                </a:lnTo>
                <a:lnTo>
                  <a:pt x="750" y="1086"/>
                </a:lnTo>
                <a:lnTo>
                  <a:pt x="768" y="1086"/>
                </a:lnTo>
                <a:lnTo>
                  <a:pt x="786" y="1092"/>
                </a:lnTo>
                <a:lnTo>
                  <a:pt x="804" y="1086"/>
                </a:lnTo>
                <a:lnTo>
                  <a:pt x="816" y="1092"/>
                </a:lnTo>
                <a:lnTo>
                  <a:pt x="834" y="1092"/>
                </a:lnTo>
                <a:lnTo>
                  <a:pt x="846" y="1092"/>
                </a:lnTo>
                <a:lnTo>
                  <a:pt x="864" y="1092"/>
                </a:lnTo>
                <a:lnTo>
                  <a:pt x="876" y="1092"/>
                </a:lnTo>
                <a:lnTo>
                  <a:pt x="888" y="1092"/>
                </a:lnTo>
                <a:lnTo>
                  <a:pt x="900" y="1092"/>
                </a:lnTo>
                <a:lnTo>
                  <a:pt x="912" y="1092"/>
                </a:lnTo>
                <a:lnTo>
                  <a:pt x="924" y="1086"/>
                </a:lnTo>
                <a:lnTo>
                  <a:pt x="936" y="1092"/>
                </a:lnTo>
                <a:lnTo>
                  <a:pt x="942" y="1086"/>
                </a:lnTo>
                <a:lnTo>
                  <a:pt x="954" y="1086"/>
                </a:lnTo>
                <a:lnTo>
                  <a:pt x="966" y="1086"/>
                </a:lnTo>
                <a:lnTo>
                  <a:pt x="972" y="1086"/>
                </a:lnTo>
                <a:lnTo>
                  <a:pt x="984" y="1086"/>
                </a:lnTo>
                <a:lnTo>
                  <a:pt x="990" y="1080"/>
                </a:lnTo>
                <a:lnTo>
                  <a:pt x="1002" y="1080"/>
                </a:lnTo>
                <a:lnTo>
                  <a:pt x="1008" y="1080"/>
                </a:lnTo>
                <a:lnTo>
                  <a:pt x="1014" y="1074"/>
                </a:lnTo>
                <a:lnTo>
                  <a:pt x="1026" y="1074"/>
                </a:lnTo>
                <a:lnTo>
                  <a:pt x="1032" y="1068"/>
                </a:lnTo>
                <a:lnTo>
                  <a:pt x="1038" y="1068"/>
                </a:lnTo>
                <a:lnTo>
                  <a:pt x="1044" y="1062"/>
                </a:lnTo>
                <a:lnTo>
                  <a:pt x="1050" y="1056"/>
                </a:lnTo>
                <a:lnTo>
                  <a:pt x="1062" y="1056"/>
                </a:lnTo>
                <a:lnTo>
                  <a:pt x="1068" y="1050"/>
                </a:lnTo>
                <a:lnTo>
                  <a:pt x="1074" y="1044"/>
                </a:lnTo>
                <a:lnTo>
                  <a:pt x="1080" y="1044"/>
                </a:lnTo>
                <a:lnTo>
                  <a:pt x="1086" y="1038"/>
                </a:lnTo>
                <a:lnTo>
                  <a:pt x="1092" y="1032"/>
                </a:lnTo>
                <a:lnTo>
                  <a:pt x="1098" y="1026"/>
                </a:lnTo>
                <a:lnTo>
                  <a:pt x="1104" y="1026"/>
                </a:lnTo>
                <a:lnTo>
                  <a:pt x="1110" y="1014"/>
                </a:lnTo>
                <a:lnTo>
                  <a:pt x="1116" y="1008"/>
                </a:lnTo>
                <a:lnTo>
                  <a:pt x="1122" y="1002"/>
                </a:lnTo>
                <a:lnTo>
                  <a:pt x="1128" y="990"/>
                </a:lnTo>
                <a:lnTo>
                  <a:pt x="1134" y="978"/>
                </a:lnTo>
                <a:lnTo>
                  <a:pt x="1140" y="972"/>
                </a:lnTo>
                <a:lnTo>
                  <a:pt x="1146" y="960"/>
                </a:lnTo>
                <a:lnTo>
                  <a:pt x="1152" y="954"/>
                </a:lnTo>
                <a:lnTo>
                  <a:pt x="1158" y="942"/>
                </a:lnTo>
                <a:lnTo>
                  <a:pt x="1158" y="936"/>
                </a:lnTo>
                <a:lnTo>
                  <a:pt x="1164" y="924"/>
                </a:lnTo>
                <a:lnTo>
                  <a:pt x="1170" y="906"/>
                </a:lnTo>
                <a:lnTo>
                  <a:pt x="1176" y="900"/>
                </a:lnTo>
                <a:lnTo>
                  <a:pt x="1182" y="888"/>
                </a:lnTo>
                <a:lnTo>
                  <a:pt x="1182" y="870"/>
                </a:lnTo>
                <a:lnTo>
                  <a:pt x="1188" y="858"/>
                </a:lnTo>
                <a:lnTo>
                  <a:pt x="1194" y="840"/>
                </a:lnTo>
                <a:lnTo>
                  <a:pt x="1194" y="828"/>
                </a:lnTo>
                <a:lnTo>
                  <a:pt x="1200" y="810"/>
                </a:lnTo>
                <a:lnTo>
                  <a:pt x="1206" y="798"/>
                </a:lnTo>
                <a:lnTo>
                  <a:pt x="1206" y="780"/>
                </a:lnTo>
                <a:lnTo>
                  <a:pt x="1212" y="762"/>
                </a:lnTo>
                <a:lnTo>
                  <a:pt x="1218" y="738"/>
                </a:lnTo>
                <a:lnTo>
                  <a:pt x="1218" y="720"/>
                </a:lnTo>
                <a:lnTo>
                  <a:pt x="1224" y="702"/>
                </a:lnTo>
                <a:lnTo>
                  <a:pt x="1230" y="678"/>
                </a:lnTo>
                <a:lnTo>
                  <a:pt x="1230" y="654"/>
                </a:lnTo>
                <a:lnTo>
                  <a:pt x="1236" y="636"/>
                </a:lnTo>
                <a:lnTo>
                  <a:pt x="1236" y="606"/>
                </a:lnTo>
                <a:lnTo>
                  <a:pt x="1242" y="582"/>
                </a:lnTo>
                <a:lnTo>
                  <a:pt x="1248" y="558"/>
                </a:lnTo>
                <a:lnTo>
                  <a:pt x="1248" y="528"/>
                </a:lnTo>
                <a:lnTo>
                  <a:pt x="1254" y="504"/>
                </a:lnTo>
                <a:lnTo>
                  <a:pt x="1254" y="480"/>
                </a:lnTo>
                <a:lnTo>
                  <a:pt x="1260" y="444"/>
                </a:lnTo>
                <a:lnTo>
                  <a:pt x="1266" y="420"/>
                </a:lnTo>
                <a:lnTo>
                  <a:pt x="1266" y="384"/>
                </a:lnTo>
                <a:lnTo>
                  <a:pt x="1272" y="354"/>
                </a:lnTo>
                <a:lnTo>
                  <a:pt x="1272" y="330"/>
                </a:lnTo>
                <a:lnTo>
                  <a:pt x="1278" y="294"/>
                </a:lnTo>
                <a:lnTo>
                  <a:pt x="1278" y="270"/>
                </a:lnTo>
                <a:lnTo>
                  <a:pt x="1284" y="246"/>
                </a:lnTo>
                <a:lnTo>
                  <a:pt x="1284" y="222"/>
                </a:lnTo>
                <a:lnTo>
                  <a:pt x="1290" y="198"/>
                </a:lnTo>
                <a:lnTo>
                  <a:pt x="1290" y="168"/>
                </a:lnTo>
                <a:lnTo>
                  <a:pt x="1296" y="144"/>
                </a:lnTo>
                <a:lnTo>
                  <a:pt x="1296" y="120"/>
                </a:lnTo>
                <a:lnTo>
                  <a:pt x="1302" y="90"/>
                </a:lnTo>
                <a:lnTo>
                  <a:pt x="1302" y="66"/>
                </a:lnTo>
                <a:lnTo>
                  <a:pt x="1314" y="48"/>
                </a:lnTo>
                <a:lnTo>
                  <a:pt x="1314" y="18"/>
                </a:lnTo>
                <a:lnTo>
                  <a:pt x="1320" y="24"/>
                </a:lnTo>
                <a:lnTo>
                  <a:pt x="1320" y="0"/>
                </a:lnTo>
                <a:lnTo>
                  <a:pt x="1326" y="0"/>
                </a:lnTo>
                <a:lnTo>
                  <a:pt x="1332" y="0"/>
                </a:lnTo>
                <a:lnTo>
                  <a:pt x="1338" y="0"/>
                </a:lnTo>
                <a:lnTo>
                  <a:pt x="1338" y="30"/>
                </a:lnTo>
                <a:lnTo>
                  <a:pt x="1344" y="30"/>
                </a:lnTo>
                <a:lnTo>
                  <a:pt x="1350" y="30"/>
                </a:lnTo>
                <a:lnTo>
                  <a:pt x="1350" y="60"/>
                </a:lnTo>
                <a:lnTo>
                  <a:pt x="1356" y="60"/>
                </a:lnTo>
                <a:lnTo>
                  <a:pt x="1356" y="90"/>
                </a:lnTo>
                <a:lnTo>
                  <a:pt x="1362" y="90"/>
                </a:lnTo>
                <a:lnTo>
                  <a:pt x="1362" y="126"/>
                </a:lnTo>
                <a:lnTo>
                  <a:pt x="1362" y="90"/>
                </a:lnTo>
                <a:lnTo>
                  <a:pt x="1368" y="126"/>
                </a:lnTo>
                <a:lnTo>
                  <a:pt x="1374" y="156"/>
                </a:lnTo>
                <a:lnTo>
                  <a:pt x="1380" y="156"/>
                </a:lnTo>
                <a:lnTo>
                  <a:pt x="1380" y="186"/>
                </a:lnTo>
                <a:lnTo>
                  <a:pt x="1386" y="186"/>
                </a:lnTo>
                <a:lnTo>
                  <a:pt x="1386" y="216"/>
                </a:lnTo>
                <a:lnTo>
                  <a:pt x="1392" y="216"/>
                </a:lnTo>
                <a:lnTo>
                  <a:pt x="1398" y="246"/>
                </a:lnTo>
                <a:lnTo>
                  <a:pt x="1404" y="282"/>
                </a:lnTo>
                <a:lnTo>
                  <a:pt x="1404" y="312"/>
                </a:lnTo>
                <a:lnTo>
                  <a:pt x="1410" y="282"/>
                </a:lnTo>
                <a:lnTo>
                  <a:pt x="1410" y="342"/>
                </a:lnTo>
                <a:lnTo>
                  <a:pt x="1416" y="312"/>
                </a:lnTo>
                <a:lnTo>
                  <a:pt x="1416" y="3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114800" y="1704960"/>
            <a:ext cx="142920" cy="447840"/>
          </a:xfrm>
          <a:custGeom>
            <a:avLst/>
            <a:gdLst/>
            <a:ahLst/>
            <a:rect l="l" t="t" r="r" b="b"/>
            <a:pathLst>
              <a:path w="90" h="282">
                <a:moveTo>
                  <a:pt x="0" y="0"/>
                </a:moveTo>
                <a:lnTo>
                  <a:pt x="6" y="30"/>
                </a:lnTo>
                <a:lnTo>
                  <a:pt x="6" y="0"/>
                </a:lnTo>
                <a:lnTo>
                  <a:pt x="6" y="30"/>
                </a:lnTo>
                <a:lnTo>
                  <a:pt x="12" y="66"/>
                </a:lnTo>
                <a:lnTo>
                  <a:pt x="12" y="30"/>
                </a:lnTo>
                <a:lnTo>
                  <a:pt x="12" y="66"/>
                </a:lnTo>
                <a:lnTo>
                  <a:pt x="18" y="66"/>
                </a:lnTo>
                <a:lnTo>
                  <a:pt x="18" y="96"/>
                </a:lnTo>
                <a:lnTo>
                  <a:pt x="24" y="66"/>
                </a:lnTo>
                <a:lnTo>
                  <a:pt x="24" y="96"/>
                </a:lnTo>
                <a:lnTo>
                  <a:pt x="30" y="126"/>
                </a:lnTo>
                <a:lnTo>
                  <a:pt x="30" y="96"/>
                </a:lnTo>
                <a:lnTo>
                  <a:pt x="30" y="126"/>
                </a:lnTo>
                <a:lnTo>
                  <a:pt x="36" y="126"/>
                </a:lnTo>
                <a:lnTo>
                  <a:pt x="36" y="156"/>
                </a:lnTo>
                <a:lnTo>
                  <a:pt x="42" y="126"/>
                </a:lnTo>
                <a:lnTo>
                  <a:pt x="42" y="156"/>
                </a:lnTo>
                <a:lnTo>
                  <a:pt x="48" y="186"/>
                </a:lnTo>
                <a:lnTo>
                  <a:pt x="48" y="156"/>
                </a:lnTo>
                <a:lnTo>
                  <a:pt x="48" y="186"/>
                </a:lnTo>
                <a:lnTo>
                  <a:pt x="54" y="186"/>
                </a:lnTo>
                <a:lnTo>
                  <a:pt x="54" y="222"/>
                </a:lnTo>
                <a:lnTo>
                  <a:pt x="60" y="222"/>
                </a:lnTo>
                <a:lnTo>
                  <a:pt x="60" y="186"/>
                </a:lnTo>
                <a:lnTo>
                  <a:pt x="60" y="222"/>
                </a:lnTo>
                <a:lnTo>
                  <a:pt x="66" y="222"/>
                </a:lnTo>
                <a:lnTo>
                  <a:pt x="66" y="252"/>
                </a:lnTo>
                <a:lnTo>
                  <a:pt x="72" y="222"/>
                </a:lnTo>
                <a:lnTo>
                  <a:pt x="72" y="252"/>
                </a:lnTo>
                <a:lnTo>
                  <a:pt x="78" y="252"/>
                </a:lnTo>
                <a:lnTo>
                  <a:pt x="78" y="282"/>
                </a:lnTo>
                <a:lnTo>
                  <a:pt x="84" y="252"/>
                </a:lnTo>
                <a:lnTo>
                  <a:pt x="84" y="282"/>
                </a:lnTo>
                <a:lnTo>
                  <a:pt x="90" y="2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rot="16200000">
            <a:off x="57420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304720" y="876240"/>
            <a:ext cx="151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plant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5448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448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5400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400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5353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353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286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86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5219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219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5448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448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34312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4774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5762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762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5943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43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6076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076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6181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181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6257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257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639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639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6438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438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6486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486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6486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486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381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515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6800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800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698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698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7115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7115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7219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7219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7296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296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7372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372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7429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429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7486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486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038200" y="259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971600" y="22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97160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971600" y="133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143680" y="1238400"/>
            <a:ext cx="2247840" cy="1542960"/>
          </a:xfrm>
          <a:custGeom>
            <a:avLst/>
            <a:gdLst/>
            <a:ahLst/>
            <a:rect l="l" t="t" r="r" b="b"/>
            <a:pathLst>
              <a:path w="1416" h="972">
                <a:moveTo>
                  <a:pt x="0" y="942"/>
                </a:moveTo>
                <a:lnTo>
                  <a:pt x="192" y="966"/>
                </a:lnTo>
                <a:lnTo>
                  <a:pt x="312" y="966"/>
                </a:lnTo>
                <a:lnTo>
                  <a:pt x="390" y="972"/>
                </a:lnTo>
                <a:lnTo>
                  <a:pt x="456" y="972"/>
                </a:lnTo>
                <a:lnTo>
                  <a:pt x="504" y="972"/>
                </a:lnTo>
                <a:lnTo>
                  <a:pt x="552" y="972"/>
                </a:lnTo>
                <a:lnTo>
                  <a:pt x="588" y="972"/>
                </a:lnTo>
                <a:lnTo>
                  <a:pt x="624" y="972"/>
                </a:lnTo>
                <a:lnTo>
                  <a:pt x="654" y="972"/>
                </a:lnTo>
                <a:lnTo>
                  <a:pt x="678" y="972"/>
                </a:lnTo>
                <a:lnTo>
                  <a:pt x="702" y="972"/>
                </a:lnTo>
                <a:lnTo>
                  <a:pt x="726" y="972"/>
                </a:lnTo>
                <a:lnTo>
                  <a:pt x="750" y="972"/>
                </a:lnTo>
                <a:lnTo>
                  <a:pt x="768" y="972"/>
                </a:lnTo>
                <a:lnTo>
                  <a:pt x="786" y="972"/>
                </a:lnTo>
                <a:lnTo>
                  <a:pt x="804" y="972"/>
                </a:lnTo>
                <a:lnTo>
                  <a:pt x="816" y="972"/>
                </a:lnTo>
                <a:lnTo>
                  <a:pt x="834" y="972"/>
                </a:lnTo>
                <a:lnTo>
                  <a:pt x="846" y="972"/>
                </a:lnTo>
                <a:lnTo>
                  <a:pt x="864" y="972"/>
                </a:lnTo>
                <a:lnTo>
                  <a:pt x="876" y="972"/>
                </a:lnTo>
                <a:lnTo>
                  <a:pt x="888" y="972"/>
                </a:lnTo>
                <a:lnTo>
                  <a:pt x="900" y="972"/>
                </a:lnTo>
                <a:lnTo>
                  <a:pt x="912" y="972"/>
                </a:lnTo>
                <a:lnTo>
                  <a:pt x="924" y="972"/>
                </a:lnTo>
                <a:lnTo>
                  <a:pt x="936" y="966"/>
                </a:lnTo>
                <a:lnTo>
                  <a:pt x="942" y="966"/>
                </a:lnTo>
                <a:lnTo>
                  <a:pt x="954" y="966"/>
                </a:lnTo>
                <a:lnTo>
                  <a:pt x="966" y="966"/>
                </a:lnTo>
                <a:lnTo>
                  <a:pt x="972" y="966"/>
                </a:lnTo>
                <a:lnTo>
                  <a:pt x="984" y="966"/>
                </a:lnTo>
                <a:lnTo>
                  <a:pt x="990" y="966"/>
                </a:lnTo>
                <a:lnTo>
                  <a:pt x="1002" y="960"/>
                </a:lnTo>
                <a:lnTo>
                  <a:pt x="1008" y="960"/>
                </a:lnTo>
                <a:lnTo>
                  <a:pt x="1014" y="960"/>
                </a:lnTo>
                <a:lnTo>
                  <a:pt x="1026" y="960"/>
                </a:lnTo>
                <a:lnTo>
                  <a:pt x="1032" y="954"/>
                </a:lnTo>
                <a:lnTo>
                  <a:pt x="1038" y="954"/>
                </a:lnTo>
                <a:lnTo>
                  <a:pt x="1044" y="954"/>
                </a:lnTo>
                <a:lnTo>
                  <a:pt x="1050" y="948"/>
                </a:lnTo>
                <a:lnTo>
                  <a:pt x="1062" y="948"/>
                </a:lnTo>
                <a:lnTo>
                  <a:pt x="1068" y="948"/>
                </a:lnTo>
                <a:lnTo>
                  <a:pt x="1074" y="942"/>
                </a:lnTo>
                <a:lnTo>
                  <a:pt x="1080" y="942"/>
                </a:lnTo>
                <a:lnTo>
                  <a:pt x="1086" y="936"/>
                </a:lnTo>
                <a:lnTo>
                  <a:pt x="1092" y="936"/>
                </a:lnTo>
                <a:lnTo>
                  <a:pt x="1098" y="930"/>
                </a:lnTo>
                <a:lnTo>
                  <a:pt x="1104" y="930"/>
                </a:lnTo>
                <a:lnTo>
                  <a:pt x="1110" y="924"/>
                </a:lnTo>
                <a:lnTo>
                  <a:pt x="1116" y="918"/>
                </a:lnTo>
                <a:lnTo>
                  <a:pt x="1122" y="918"/>
                </a:lnTo>
                <a:lnTo>
                  <a:pt x="1128" y="906"/>
                </a:lnTo>
                <a:lnTo>
                  <a:pt x="1134" y="900"/>
                </a:lnTo>
                <a:lnTo>
                  <a:pt x="1140" y="900"/>
                </a:lnTo>
                <a:lnTo>
                  <a:pt x="1146" y="894"/>
                </a:lnTo>
                <a:lnTo>
                  <a:pt x="1152" y="888"/>
                </a:lnTo>
                <a:lnTo>
                  <a:pt x="1158" y="876"/>
                </a:lnTo>
                <a:lnTo>
                  <a:pt x="1164" y="870"/>
                </a:lnTo>
                <a:lnTo>
                  <a:pt x="1170" y="864"/>
                </a:lnTo>
                <a:lnTo>
                  <a:pt x="1176" y="852"/>
                </a:lnTo>
                <a:lnTo>
                  <a:pt x="1182" y="846"/>
                </a:lnTo>
                <a:lnTo>
                  <a:pt x="1182" y="840"/>
                </a:lnTo>
                <a:lnTo>
                  <a:pt x="1188" y="828"/>
                </a:lnTo>
                <a:lnTo>
                  <a:pt x="1194" y="822"/>
                </a:lnTo>
                <a:lnTo>
                  <a:pt x="1194" y="816"/>
                </a:lnTo>
                <a:lnTo>
                  <a:pt x="1200" y="804"/>
                </a:lnTo>
                <a:lnTo>
                  <a:pt x="1206" y="798"/>
                </a:lnTo>
                <a:lnTo>
                  <a:pt x="1206" y="786"/>
                </a:lnTo>
                <a:lnTo>
                  <a:pt x="1212" y="774"/>
                </a:lnTo>
                <a:lnTo>
                  <a:pt x="1218" y="762"/>
                </a:lnTo>
                <a:lnTo>
                  <a:pt x="1218" y="750"/>
                </a:lnTo>
                <a:lnTo>
                  <a:pt x="1224" y="738"/>
                </a:lnTo>
                <a:lnTo>
                  <a:pt x="1230" y="726"/>
                </a:lnTo>
                <a:lnTo>
                  <a:pt x="1230" y="714"/>
                </a:lnTo>
                <a:lnTo>
                  <a:pt x="1236" y="696"/>
                </a:lnTo>
                <a:lnTo>
                  <a:pt x="1236" y="684"/>
                </a:lnTo>
                <a:lnTo>
                  <a:pt x="1242" y="672"/>
                </a:lnTo>
                <a:lnTo>
                  <a:pt x="1248" y="648"/>
                </a:lnTo>
                <a:lnTo>
                  <a:pt x="1248" y="636"/>
                </a:lnTo>
                <a:lnTo>
                  <a:pt x="1254" y="618"/>
                </a:lnTo>
                <a:lnTo>
                  <a:pt x="1254" y="600"/>
                </a:lnTo>
                <a:lnTo>
                  <a:pt x="1260" y="582"/>
                </a:lnTo>
                <a:lnTo>
                  <a:pt x="1266" y="564"/>
                </a:lnTo>
                <a:lnTo>
                  <a:pt x="1266" y="546"/>
                </a:lnTo>
                <a:lnTo>
                  <a:pt x="1272" y="522"/>
                </a:lnTo>
                <a:lnTo>
                  <a:pt x="1272" y="498"/>
                </a:lnTo>
                <a:lnTo>
                  <a:pt x="1278" y="486"/>
                </a:lnTo>
                <a:lnTo>
                  <a:pt x="1278" y="462"/>
                </a:lnTo>
                <a:lnTo>
                  <a:pt x="1284" y="444"/>
                </a:lnTo>
                <a:lnTo>
                  <a:pt x="1284" y="420"/>
                </a:lnTo>
                <a:lnTo>
                  <a:pt x="1290" y="396"/>
                </a:lnTo>
                <a:lnTo>
                  <a:pt x="1290" y="378"/>
                </a:lnTo>
                <a:lnTo>
                  <a:pt x="1296" y="354"/>
                </a:lnTo>
                <a:lnTo>
                  <a:pt x="1296" y="336"/>
                </a:lnTo>
                <a:lnTo>
                  <a:pt x="1302" y="318"/>
                </a:lnTo>
                <a:lnTo>
                  <a:pt x="1302" y="300"/>
                </a:lnTo>
                <a:lnTo>
                  <a:pt x="1308" y="282"/>
                </a:lnTo>
                <a:lnTo>
                  <a:pt x="1308" y="264"/>
                </a:lnTo>
                <a:lnTo>
                  <a:pt x="1314" y="246"/>
                </a:lnTo>
                <a:lnTo>
                  <a:pt x="1314" y="228"/>
                </a:lnTo>
                <a:lnTo>
                  <a:pt x="1320" y="216"/>
                </a:lnTo>
                <a:lnTo>
                  <a:pt x="1320" y="192"/>
                </a:lnTo>
                <a:lnTo>
                  <a:pt x="1326" y="180"/>
                </a:lnTo>
                <a:lnTo>
                  <a:pt x="1326" y="162"/>
                </a:lnTo>
                <a:lnTo>
                  <a:pt x="1332" y="156"/>
                </a:lnTo>
                <a:lnTo>
                  <a:pt x="1332" y="150"/>
                </a:lnTo>
                <a:lnTo>
                  <a:pt x="1338" y="138"/>
                </a:lnTo>
                <a:lnTo>
                  <a:pt x="1338" y="120"/>
                </a:lnTo>
                <a:lnTo>
                  <a:pt x="1344" y="114"/>
                </a:lnTo>
                <a:lnTo>
                  <a:pt x="1344" y="102"/>
                </a:lnTo>
                <a:lnTo>
                  <a:pt x="1350" y="96"/>
                </a:lnTo>
                <a:lnTo>
                  <a:pt x="1350" y="90"/>
                </a:lnTo>
                <a:lnTo>
                  <a:pt x="1356" y="84"/>
                </a:lnTo>
                <a:lnTo>
                  <a:pt x="1356" y="78"/>
                </a:lnTo>
                <a:lnTo>
                  <a:pt x="1362" y="72"/>
                </a:lnTo>
                <a:lnTo>
                  <a:pt x="1362" y="60"/>
                </a:lnTo>
                <a:lnTo>
                  <a:pt x="1368" y="54"/>
                </a:lnTo>
                <a:lnTo>
                  <a:pt x="1374" y="48"/>
                </a:lnTo>
                <a:lnTo>
                  <a:pt x="1374" y="42"/>
                </a:lnTo>
                <a:lnTo>
                  <a:pt x="1380" y="36"/>
                </a:lnTo>
                <a:lnTo>
                  <a:pt x="1392" y="30"/>
                </a:lnTo>
                <a:lnTo>
                  <a:pt x="1392" y="18"/>
                </a:lnTo>
                <a:lnTo>
                  <a:pt x="1398" y="12"/>
                </a:lnTo>
                <a:lnTo>
                  <a:pt x="1404" y="6"/>
                </a:lnTo>
                <a:lnTo>
                  <a:pt x="1404" y="12"/>
                </a:lnTo>
                <a:lnTo>
                  <a:pt x="1410" y="6"/>
                </a:lnTo>
                <a:lnTo>
                  <a:pt x="141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391520" y="1143000"/>
            <a:ext cx="142920" cy="95400"/>
          </a:xfrm>
          <a:custGeom>
            <a:avLst/>
            <a:gdLst/>
            <a:ahLst/>
            <a:rect l="l" t="t" r="r" b="b"/>
            <a:pathLst>
              <a:path w="90" h="60">
                <a:moveTo>
                  <a:pt x="0" y="60"/>
                </a:moveTo>
                <a:lnTo>
                  <a:pt x="18" y="48"/>
                </a:lnTo>
                <a:lnTo>
                  <a:pt x="18" y="48"/>
                </a:lnTo>
                <a:lnTo>
                  <a:pt x="24" y="42"/>
                </a:lnTo>
                <a:lnTo>
                  <a:pt x="30" y="36"/>
                </a:lnTo>
                <a:lnTo>
                  <a:pt x="36" y="36"/>
                </a:lnTo>
                <a:lnTo>
                  <a:pt x="42" y="30"/>
                </a:lnTo>
                <a:lnTo>
                  <a:pt x="48" y="24"/>
                </a:lnTo>
                <a:lnTo>
                  <a:pt x="54" y="24"/>
                </a:lnTo>
                <a:lnTo>
                  <a:pt x="60" y="18"/>
                </a:lnTo>
                <a:lnTo>
                  <a:pt x="60" y="24"/>
                </a:lnTo>
                <a:lnTo>
                  <a:pt x="66" y="18"/>
                </a:lnTo>
                <a:lnTo>
                  <a:pt x="72" y="12"/>
                </a:lnTo>
                <a:lnTo>
                  <a:pt x="72" y="18"/>
                </a:lnTo>
                <a:lnTo>
                  <a:pt x="72" y="12"/>
                </a:lnTo>
                <a:lnTo>
                  <a:pt x="78" y="12"/>
                </a:lnTo>
                <a:lnTo>
                  <a:pt x="84" y="12"/>
                </a:lnTo>
                <a:lnTo>
                  <a:pt x="84" y="6"/>
                </a:lnTo>
                <a:lnTo>
                  <a:pt x="9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143680" y="2666880"/>
            <a:ext cx="2390760" cy="1800"/>
          </a:xfrm>
          <a:custGeom>
            <a:avLst/>
            <a:gdLst/>
            <a:ahLst/>
            <a:rect l="l" t="t" r="r" b="b"/>
            <a:pathLst>
              <a:path w="1506" h="0">
                <a:moveTo>
                  <a:pt x="0" y="0"/>
                </a:moveTo>
                <a:lnTo>
                  <a:pt x="192" y="0"/>
                </a:lnTo>
                <a:lnTo>
                  <a:pt x="312" y="0"/>
                </a:lnTo>
                <a:lnTo>
                  <a:pt x="390" y="0"/>
                </a:lnTo>
                <a:lnTo>
                  <a:pt x="456" y="0"/>
                </a:lnTo>
                <a:lnTo>
                  <a:pt x="504" y="0"/>
                </a:lnTo>
                <a:lnTo>
                  <a:pt x="552" y="0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0"/>
                </a:lnTo>
                <a:lnTo>
                  <a:pt x="702" y="0"/>
                </a:lnTo>
                <a:lnTo>
                  <a:pt x="726" y="0"/>
                </a:lnTo>
                <a:lnTo>
                  <a:pt x="750" y="0"/>
                </a:lnTo>
                <a:lnTo>
                  <a:pt x="768" y="0"/>
                </a:lnTo>
                <a:lnTo>
                  <a:pt x="786" y="0"/>
                </a:lnTo>
                <a:lnTo>
                  <a:pt x="804" y="0"/>
                </a:lnTo>
                <a:lnTo>
                  <a:pt x="816" y="0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54" y="0"/>
                </a:lnTo>
                <a:lnTo>
                  <a:pt x="966" y="0"/>
                </a:lnTo>
                <a:lnTo>
                  <a:pt x="972" y="0"/>
                </a:lnTo>
                <a:lnTo>
                  <a:pt x="984" y="0"/>
                </a:lnTo>
                <a:lnTo>
                  <a:pt x="990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  <a:lnTo>
                  <a:pt x="1320" y="0"/>
                </a:lnTo>
                <a:lnTo>
                  <a:pt x="1326" y="0"/>
                </a:lnTo>
                <a:lnTo>
                  <a:pt x="1332" y="0"/>
                </a:lnTo>
                <a:lnTo>
                  <a:pt x="1338" y="0"/>
                </a:lnTo>
                <a:lnTo>
                  <a:pt x="1344" y="0"/>
                </a:lnTo>
                <a:lnTo>
                  <a:pt x="1350" y="0"/>
                </a:lnTo>
                <a:lnTo>
                  <a:pt x="1356" y="0"/>
                </a:lnTo>
                <a:lnTo>
                  <a:pt x="1362" y="0"/>
                </a:lnTo>
                <a:lnTo>
                  <a:pt x="1368" y="0"/>
                </a:lnTo>
                <a:lnTo>
                  <a:pt x="1374" y="0"/>
                </a:lnTo>
                <a:lnTo>
                  <a:pt x="1380" y="0"/>
                </a:lnTo>
                <a:lnTo>
                  <a:pt x="1386" y="0"/>
                </a:lnTo>
                <a:lnTo>
                  <a:pt x="1392" y="0"/>
                </a:lnTo>
                <a:lnTo>
                  <a:pt x="1398" y="0"/>
                </a:lnTo>
                <a:lnTo>
                  <a:pt x="1404" y="0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0"/>
                </a:lnTo>
                <a:lnTo>
                  <a:pt x="1458" y="0"/>
                </a:lnTo>
                <a:lnTo>
                  <a:pt x="1464" y="0"/>
                </a:lnTo>
                <a:lnTo>
                  <a:pt x="1470" y="0"/>
                </a:lnTo>
                <a:lnTo>
                  <a:pt x="1476" y="0"/>
                </a:lnTo>
                <a:lnTo>
                  <a:pt x="1482" y="0"/>
                </a:lnTo>
                <a:lnTo>
                  <a:pt x="1488" y="0"/>
                </a:lnTo>
                <a:lnTo>
                  <a:pt x="1494" y="0"/>
                </a:lnTo>
                <a:lnTo>
                  <a:pt x="1500" y="0"/>
                </a:lnTo>
                <a:lnTo>
                  <a:pt x="150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rot="16200000">
            <a:off x="378576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552280" y="876240"/>
            <a:ext cx="157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plant uptake of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2171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171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2124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124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20764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0764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2009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009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1943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1943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21718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1718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20664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22006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2486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486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2666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666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2800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800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2905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905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 flipV="1">
            <a:off x="29811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29811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3114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114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3162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162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3209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209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32097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2097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1046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238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3524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3524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37051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7051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3838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3838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3943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943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4019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019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4095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095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4152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4152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4210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10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65708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65708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76184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866960" y="4038480"/>
            <a:ext cx="2305080" cy="1123920"/>
          </a:xfrm>
          <a:custGeom>
            <a:avLst/>
            <a:gdLst/>
            <a:ahLst/>
            <a:rect l="l" t="t" r="r" b="b"/>
            <a:pathLst>
              <a:path w="1452" h="708">
                <a:moveTo>
                  <a:pt x="0" y="12"/>
                </a:moveTo>
                <a:lnTo>
                  <a:pt x="192" y="6"/>
                </a:lnTo>
                <a:lnTo>
                  <a:pt x="312" y="6"/>
                </a:lnTo>
                <a:lnTo>
                  <a:pt x="390" y="0"/>
                </a:lnTo>
                <a:lnTo>
                  <a:pt x="456" y="0"/>
                </a:lnTo>
                <a:lnTo>
                  <a:pt x="504" y="0"/>
                </a:lnTo>
                <a:lnTo>
                  <a:pt x="552" y="0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0"/>
                </a:lnTo>
                <a:lnTo>
                  <a:pt x="702" y="0"/>
                </a:lnTo>
                <a:lnTo>
                  <a:pt x="726" y="0"/>
                </a:lnTo>
                <a:lnTo>
                  <a:pt x="750" y="0"/>
                </a:lnTo>
                <a:lnTo>
                  <a:pt x="768" y="0"/>
                </a:lnTo>
                <a:lnTo>
                  <a:pt x="786" y="0"/>
                </a:lnTo>
                <a:lnTo>
                  <a:pt x="804" y="0"/>
                </a:lnTo>
                <a:lnTo>
                  <a:pt x="816" y="0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54" y="0"/>
                </a:lnTo>
                <a:lnTo>
                  <a:pt x="966" y="6"/>
                </a:lnTo>
                <a:lnTo>
                  <a:pt x="972" y="6"/>
                </a:lnTo>
                <a:lnTo>
                  <a:pt x="984" y="6"/>
                </a:lnTo>
                <a:lnTo>
                  <a:pt x="990" y="6"/>
                </a:lnTo>
                <a:lnTo>
                  <a:pt x="1002" y="6"/>
                </a:lnTo>
                <a:lnTo>
                  <a:pt x="1008" y="6"/>
                </a:lnTo>
                <a:lnTo>
                  <a:pt x="1014" y="6"/>
                </a:lnTo>
                <a:lnTo>
                  <a:pt x="1026" y="6"/>
                </a:lnTo>
                <a:lnTo>
                  <a:pt x="1032" y="6"/>
                </a:lnTo>
                <a:lnTo>
                  <a:pt x="1038" y="12"/>
                </a:lnTo>
                <a:lnTo>
                  <a:pt x="1044" y="6"/>
                </a:lnTo>
                <a:lnTo>
                  <a:pt x="1050" y="12"/>
                </a:lnTo>
                <a:lnTo>
                  <a:pt x="1062" y="12"/>
                </a:lnTo>
                <a:lnTo>
                  <a:pt x="1068" y="18"/>
                </a:lnTo>
                <a:lnTo>
                  <a:pt x="1074" y="18"/>
                </a:lnTo>
                <a:lnTo>
                  <a:pt x="1080" y="18"/>
                </a:lnTo>
                <a:lnTo>
                  <a:pt x="1086" y="18"/>
                </a:lnTo>
                <a:lnTo>
                  <a:pt x="1092" y="18"/>
                </a:lnTo>
                <a:lnTo>
                  <a:pt x="1098" y="24"/>
                </a:lnTo>
                <a:lnTo>
                  <a:pt x="1104" y="18"/>
                </a:lnTo>
                <a:lnTo>
                  <a:pt x="1110" y="24"/>
                </a:lnTo>
                <a:lnTo>
                  <a:pt x="1116" y="30"/>
                </a:lnTo>
                <a:lnTo>
                  <a:pt x="1122" y="30"/>
                </a:lnTo>
                <a:lnTo>
                  <a:pt x="1128" y="36"/>
                </a:lnTo>
                <a:lnTo>
                  <a:pt x="1134" y="36"/>
                </a:lnTo>
                <a:lnTo>
                  <a:pt x="1140" y="42"/>
                </a:lnTo>
                <a:lnTo>
                  <a:pt x="1146" y="42"/>
                </a:lnTo>
                <a:lnTo>
                  <a:pt x="1152" y="42"/>
                </a:lnTo>
                <a:lnTo>
                  <a:pt x="1158" y="48"/>
                </a:lnTo>
                <a:lnTo>
                  <a:pt x="1164" y="54"/>
                </a:lnTo>
                <a:lnTo>
                  <a:pt x="1170" y="54"/>
                </a:lnTo>
                <a:lnTo>
                  <a:pt x="1176" y="60"/>
                </a:lnTo>
                <a:lnTo>
                  <a:pt x="1182" y="66"/>
                </a:lnTo>
                <a:lnTo>
                  <a:pt x="1188" y="66"/>
                </a:lnTo>
                <a:lnTo>
                  <a:pt x="1194" y="72"/>
                </a:lnTo>
                <a:lnTo>
                  <a:pt x="1194" y="84"/>
                </a:lnTo>
                <a:lnTo>
                  <a:pt x="1200" y="84"/>
                </a:lnTo>
                <a:lnTo>
                  <a:pt x="1206" y="90"/>
                </a:lnTo>
                <a:lnTo>
                  <a:pt x="1212" y="96"/>
                </a:lnTo>
                <a:lnTo>
                  <a:pt x="1218" y="108"/>
                </a:lnTo>
                <a:lnTo>
                  <a:pt x="1224" y="114"/>
                </a:lnTo>
                <a:lnTo>
                  <a:pt x="1230" y="120"/>
                </a:lnTo>
                <a:lnTo>
                  <a:pt x="1230" y="126"/>
                </a:lnTo>
                <a:lnTo>
                  <a:pt x="1242" y="144"/>
                </a:lnTo>
                <a:lnTo>
                  <a:pt x="1236" y="144"/>
                </a:lnTo>
                <a:lnTo>
                  <a:pt x="1242" y="144"/>
                </a:lnTo>
                <a:lnTo>
                  <a:pt x="1248" y="156"/>
                </a:lnTo>
                <a:lnTo>
                  <a:pt x="1254" y="168"/>
                </a:lnTo>
                <a:lnTo>
                  <a:pt x="1254" y="180"/>
                </a:lnTo>
                <a:lnTo>
                  <a:pt x="1260" y="186"/>
                </a:lnTo>
                <a:lnTo>
                  <a:pt x="1266" y="198"/>
                </a:lnTo>
                <a:lnTo>
                  <a:pt x="1266" y="204"/>
                </a:lnTo>
                <a:lnTo>
                  <a:pt x="1278" y="228"/>
                </a:lnTo>
                <a:lnTo>
                  <a:pt x="1278" y="240"/>
                </a:lnTo>
                <a:lnTo>
                  <a:pt x="1284" y="252"/>
                </a:lnTo>
                <a:lnTo>
                  <a:pt x="1284" y="264"/>
                </a:lnTo>
                <a:lnTo>
                  <a:pt x="1290" y="276"/>
                </a:lnTo>
                <a:lnTo>
                  <a:pt x="1290" y="288"/>
                </a:lnTo>
                <a:lnTo>
                  <a:pt x="1296" y="300"/>
                </a:lnTo>
                <a:lnTo>
                  <a:pt x="1296" y="306"/>
                </a:lnTo>
                <a:lnTo>
                  <a:pt x="1302" y="324"/>
                </a:lnTo>
                <a:lnTo>
                  <a:pt x="1302" y="330"/>
                </a:lnTo>
                <a:lnTo>
                  <a:pt x="1308" y="342"/>
                </a:lnTo>
                <a:lnTo>
                  <a:pt x="1308" y="354"/>
                </a:lnTo>
                <a:lnTo>
                  <a:pt x="1314" y="366"/>
                </a:lnTo>
                <a:lnTo>
                  <a:pt x="1314" y="378"/>
                </a:lnTo>
                <a:lnTo>
                  <a:pt x="1320" y="390"/>
                </a:lnTo>
                <a:lnTo>
                  <a:pt x="1320" y="408"/>
                </a:lnTo>
                <a:lnTo>
                  <a:pt x="1326" y="426"/>
                </a:lnTo>
                <a:lnTo>
                  <a:pt x="1326" y="432"/>
                </a:lnTo>
                <a:lnTo>
                  <a:pt x="1332" y="444"/>
                </a:lnTo>
                <a:lnTo>
                  <a:pt x="1332" y="450"/>
                </a:lnTo>
                <a:lnTo>
                  <a:pt x="1338" y="462"/>
                </a:lnTo>
                <a:lnTo>
                  <a:pt x="1338" y="474"/>
                </a:lnTo>
                <a:lnTo>
                  <a:pt x="1344" y="486"/>
                </a:lnTo>
                <a:lnTo>
                  <a:pt x="1344" y="492"/>
                </a:lnTo>
                <a:lnTo>
                  <a:pt x="1350" y="504"/>
                </a:lnTo>
                <a:lnTo>
                  <a:pt x="1350" y="510"/>
                </a:lnTo>
                <a:lnTo>
                  <a:pt x="1356" y="522"/>
                </a:lnTo>
                <a:lnTo>
                  <a:pt x="1356" y="534"/>
                </a:lnTo>
                <a:lnTo>
                  <a:pt x="1362" y="540"/>
                </a:lnTo>
                <a:lnTo>
                  <a:pt x="1362" y="558"/>
                </a:lnTo>
                <a:lnTo>
                  <a:pt x="1368" y="558"/>
                </a:lnTo>
                <a:lnTo>
                  <a:pt x="1368" y="570"/>
                </a:lnTo>
                <a:lnTo>
                  <a:pt x="1374" y="576"/>
                </a:lnTo>
                <a:lnTo>
                  <a:pt x="1374" y="582"/>
                </a:lnTo>
                <a:lnTo>
                  <a:pt x="1380" y="594"/>
                </a:lnTo>
                <a:lnTo>
                  <a:pt x="1380" y="600"/>
                </a:lnTo>
                <a:lnTo>
                  <a:pt x="1392" y="612"/>
                </a:lnTo>
                <a:lnTo>
                  <a:pt x="1392" y="618"/>
                </a:lnTo>
                <a:lnTo>
                  <a:pt x="1404" y="636"/>
                </a:lnTo>
                <a:lnTo>
                  <a:pt x="1404" y="642"/>
                </a:lnTo>
                <a:lnTo>
                  <a:pt x="1416" y="660"/>
                </a:lnTo>
                <a:lnTo>
                  <a:pt x="1416" y="672"/>
                </a:lnTo>
                <a:lnTo>
                  <a:pt x="1422" y="678"/>
                </a:lnTo>
                <a:lnTo>
                  <a:pt x="1428" y="684"/>
                </a:lnTo>
                <a:lnTo>
                  <a:pt x="1434" y="690"/>
                </a:lnTo>
                <a:lnTo>
                  <a:pt x="1440" y="696"/>
                </a:lnTo>
                <a:lnTo>
                  <a:pt x="1452" y="7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162320" y="5162400"/>
            <a:ext cx="95400" cy="57240"/>
          </a:xfrm>
          <a:custGeom>
            <a:avLst/>
            <a:gdLst/>
            <a:ahLst/>
            <a:rect l="l" t="t" r="r" b="b"/>
            <a:pathLst>
              <a:path w="60" h="36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  <a:lnTo>
                  <a:pt x="18" y="12"/>
                </a:lnTo>
                <a:lnTo>
                  <a:pt x="12" y="12"/>
                </a:lnTo>
                <a:lnTo>
                  <a:pt x="18" y="12"/>
                </a:lnTo>
                <a:lnTo>
                  <a:pt x="30" y="24"/>
                </a:lnTo>
                <a:lnTo>
                  <a:pt x="30" y="24"/>
                </a:lnTo>
                <a:lnTo>
                  <a:pt x="36" y="30"/>
                </a:lnTo>
                <a:lnTo>
                  <a:pt x="42" y="30"/>
                </a:lnTo>
                <a:lnTo>
                  <a:pt x="48" y="36"/>
                </a:lnTo>
                <a:lnTo>
                  <a:pt x="54" y="36"/>
                </a:lnTo>
                <a:lnTo>
                  <a:pt x="60" y="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866960" y="4057560"/>
            <a:ext cx="2390760" cy="1800"/>
          </a:xfrm>
          <a:custGeom>
            <a:avLst/>
            <a:gdLst/>
            <a:ahLst/>
            <a:rect l="l" t="t" r="r" b="b"/>
            <a:pathLst>
              <a:path w="1506" h="0">
                <a:moveTo>
                  <a:pt x="0" y="0"/>
                </a:moveTo>
                <a:lnTo>
                  <a:pt x="192" y="0"/>
                </a:lnTo>
                <a:lnTo>
                  <a:pt x="312" y="0"/>
                </a:lnTo>
                <a:lnTo>
                  <a:pt x="390" y="0"/>
                </a:lnTo>
                <a:lnTo>
                  <a:pt x="456" y="0"/>
                </a:lnTo>
                <a:lnTo>
                  <a:pt x="504" y="0"/>
                </a:lnTo>
                <a:lnTo>
                  <a:pt x="552" y="0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0"/>
                </a:lnTo>
                <a:lnTo>
                  <a:pt x="702" y="0"/>
                </a:lnTo>
                <a:lnTo>
                  <a:pt x="726" y="0"/>
                </a:lnTo>
                <a:lnTo>
                  <a:pt x="750" y="0"/>
                </a:lnTo>
                <a:lnTo>
                  <a:pt x="768" y="0"/>
                </a:lnTo>
                <a:lnTo>
                  <a:pt x="786" y="0"/>
                </a:lnTo>
                <a:lnTo>
                  <a:pt x="804" y="0"/>
                </a:lnTo>
                <a:lnTo>
                  <a:pt x="816" y="0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54" y="0"/>
                </a:lnTo>
                <a:lnTo>
                  <a:pt x="966" y="0"/>
                </a:lnTo>
                <a:lnTo>
                  <a:pt x="972" y="0"/>
                </a:lnTo>
                <a:lnTo>
                  <a:pt x="984" y="0"/>
                </a:lnTo>
                <a:lnTo>
                  <a:pt x="990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  <a:lnTo>
                  <a:pt x="1320" y="0"/>
                </a:lnTo>
                <a:lnTo>
                  <a:pt x="1326" y="0"/>
                </a:lnTo>
                <a:lnTo>
                  <a:pt x="1332" y="0"/>
                </a:lnTo>
                <a:lnTo>
                  <a:pt x="1338" y="0"/>
                </a:lnTo>
                <a:lnTo>
                  <a:pt x="1344" y="0"/>
                </a:lnTo>
                <a:lnTo>
                  <a:pt x="1350" y="0"/>
                </a:lnTo>
                <a:lnTo>
                  <a:pt x="1356" y="0"/>
                </a:lnTo>
                <a:lnTo>
                  <a:pt x="1362" y="0"/>
                </a:lnTo>
                <a:lnTo>
                  <a:pt x="1368" y="0"/>
                </a:lnTo>
                <a:lnTo>
                  <a:pt x="1374" y="0"/>
                </a:lnTo>
                <a:lnTo>
                  <a:pt x="1380" y="0"/>
                </a:lnTo>
                <a:lnTo>
                  <a:pt x="1386" y="0"/>
                </a:lnTo>
                <a:lnTo>
                  <a:pt x="1392" y="0"/>
                </a:lnTo>
                <a:lnTo>
                  <a:pt x="1398" y="0"/>
                </a:lnTo>
                <a:lnTo>
                  <a:pt x="1404" y="0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0"/>
                </a:lnTo>
                <a:lnTo>
                  <a:pt x="1458" y="0"/>
                </a:lnTo>
                <a:lnTo>
                  <a:pt x="1464" y="0"/>
                </a:lnTo>
                <a:lnTo>
                  <a:pt x="1470" y="0"/>
                </a:lnTo>
                <a:lnTo>
                  <a:pt x="1476" y="0"/>
                </a:lnTo>
                <a:lnTo>
                  <a:pt x="1482" y="0"/>
                </a:lnTo>
                <a:lnTo>
                  <a:pt x="1488" y="0"/>
                </a:lnTo>
                <a:lnTo>
                  <a:pt x="1494" y="0"/>
                </a:lnTo>
                <a:lnTo>
                  <a:pt x="1500" y="0"/>
                </a:lnTo>
                <a:lnTo>
                  <a:pt x="150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rot="16200000">
            <a:off x="53460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382480" y="3467160"/>
            <a:ext cx="1361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5448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448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5400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5400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5353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353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5286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286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5219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5219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5448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448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34312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4774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5762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762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5943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943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6076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076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6181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6181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6257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6257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639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39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6438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438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6486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486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6486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486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6381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6515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6800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800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698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98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7115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7115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7219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7219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7296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7296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7372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7372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7429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429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7486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7486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93344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4933440" y="5181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933440" y="4867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4933440" y="4552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933440" y="4238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5038200" y="39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143680" y="3990960"/>
            <a:ext cx="2238120" cy="1285920"/>
          </a:xfrm>
          <a:custGeom>
            <a:avLst/>
            <a:gdLst/>
            <a:ahLst/>
            <a:rect l="l" t="t" r="r" b="b"/>
            <a:pathLst>
              <a:path w="1410" h="810">
                <a:moveTo>
                  <a:pt x="0" y="6"/>
                </a:moveTo>
                <a:lnTo>
                  <a:pt x="192" y="6"/>
                </a:lnTo>
                <a:lnTo>
                  <a:pt x="312" y="0"/>
                </a:lnTo>
                <a:lnTo>
                  <a:pt x="390" y="0"/>
                </a:lnTo>
                <a:lnTo>
                  <a:pt x="456" y="0"/>
                </a:lnTo>
                <a:lnTo>
                  <a:pt x="504" y="0"/>
                </a:lnTo>
                <a:lnTo>
                  <a:pt x="552" y="0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0"/>
                </a:lnTo>
                <a:lnTo>
                  <a:pt x="702" y="0"/>
                </a:lnTo>
                <a:lnTo>
                  <a:pt x="726" y="0"/>
                </a:lnTo>
                <a:lnTo>
                  <a:pt x="750" y="0"/>
                </a:lnTo>
                <a:lnTo>
                  <a:pt x="768" y="0"/>
                </a:lnTo>
                <a:lnTo>
                  <a:pt x="786" y="0"/>
                </a:lnTo>
                <a:lnTo>
                  <a:pt x="804" y="0"/>
                </a:lnTo>
                <a:lnTo>
                  <a:pt x="816" y="0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54" y="0"/>
                </a:lnTo>
                <a:lnTo>
                  <a:pt x="966" y="0"/>
                </a:lnTo>
                <a:lnTo>
                  <a:pt x="972" y="0"/>
                </a:lnTo>
                <a:lnTo>
                  <a:pt x="984" y="6"/>
                </a:lnTo>
                <a:lnTo>
                  <a:pt x="990" y="12"/>
                </a:lnTo>
                <a:lnTo>
                  <a:pt x="1002" y="12"/>
                </a:lnTo>
                <a:lnTo>
                  <a:pt x="1008" y="12"/>
                </a:lnTo>
                <a:lnTo>
                  <a:pt x="1014" y="12"/>
                </a:lnTo>
                <a:lnTo>
                  <a:pt x="1026" y="12"/>
                </a:lnTo>
                <a:lnTo>
                  <a:pt x="1032" y="12"/>
                </a:lnTo>
                <a:lnTo>
                  <a:pt x="1038" y="12"/>
                </a:lnTo>
                <a:lnTo>
                  <a:pt x="1044" y="18"/>
                </a:lnTo>
                <a:lnTo>
                  <a:pt x="1050" y="18"/>
                </a:lnTo>
                <a:lnTo>
                  <a:pt x="1062" y="18"/>
                </a:lnTo>
                <a:lnTo>
                  <a:pt x="1068" y="18"/>
                </a:lnTo>
                <a:lnTo>
                  <a:pt x="1074" y="24"/>
                </a:lnTo>
                <a:lnTo>
                  <a:pt x="1080" y="18"/>
                </a:lnTo>
                <a:lnTo>
                  <a:pt x="1086" y="18"/>
                </a:lnTo>
                <a:lnTo>
                  <a:pt x="1092" y="24"/>
                </a:lnTo>
                <a:lnTo>
                  <a:pt x="1098" y="24"/>
                </a:lnTo>
                <a:lnTo>
                  <a:pt x="1104" y="30"/>
                </a:lnTo>
                <a:lnTo>
                  <a:pt x="1110" y="30"/>
                </a:lnTo>
                <a:lnTo>
                  <a:pt x="1116" y="36"/>
                </a:lnTo>
                <a:lnTo>
                  <a:pt x="1122" y="36"/>
                </a:lnTo>
                <a:lnTo>
                  <a:pt x="1128" y="36"/>
                </a:lnTo>
                <a:lnTo>
                  <a:pt x="1134" y="42"/>
                </a:lnTo>
                <a:lnTo>
                  <a:pt x="1140" y="48"/>
                </a:lnTo>
                <a:lnTo>
                  <a:pt x="1146" y="48"/>
                </a:lnTo>
                <a:lnTo>
                  <a:pt x="1152" y="48"/>
                </a:lnTo>
                <a:lnTo>
                  <a:pt x="1158" y="54"/>
                </a:lnTo>
                <a:lnTo>
                  <a:pt x="1164" y="60"/>
                </a:lnTo>
                <a:lnTo>
                  <a:pt x="1170" y="66"/>
                </a:lnTo>
                <a:lnTo>
                  <a:pt x="1176" y="66"/>
                </a:lnTo>
                <a:lnTo>
                  <a:pt x="1182" y="72"/>
                </a:lnTo>
                <a:lnTo>
                  <a:pt x="1188" y="78"/>
                </a:lnTo>
                <a:lnTo>
                  <a:pt x="1194" y="90"/>
                </a:lnTo>
                <a:lnTo>
                  <a:pt x="1200" y="90"/>
                </a:lnTo>
                <a:lnTo>
                  <a:pt x="1206" y="102"/>
                </a:lnTo>
                <a:lnTo>
                  <a:pt x="1212" y="114"/>
                </a:lnTo>
                <a:lnTo>
                  <a:pt x="1218" y="120"/>
                </a:lnTo>
                <a:lnTo>
                  <a:pt x="1224" y="132"/>
                </a:lnTo>
                <a:lnTo>
                  <a:pt x="1230" y="138"/>
                </a:lnTo>
                <a:lnTo>
                  <a:pt x="1236" y="144"/>
                </a:lnTo>
                <a:lnTo>
                  <a:pt x="1236" y="156"/>
                </a:lnTo>
                <a:lnTo>
                  <a:pt x="1242" y="162"/>
                </a:lnTo>
                <a:lnTo>
                  <a:pt x="1248" y="168"/>
                </a:lnTo>
                <a:lnTo>
                  <a:pt x="1248" y="180"/>
                </a:lnTo>
                <a:lnTo>
                  <a:pt x="1254" y="186"/>
                </a:lnTo>
                <a:lnTo>
                  <a:pt x="1254" y="198"/>
                </a:lnTo>
                <a:lnTo>
                  <a:pt x="1260" y="204"/>
                </a:lnTo>
                <a:lnTo>
                  <a:pt x="1266" y="216"/>
                </a:lnTo>
                <a:lnTo>
                  <a:pt x="1266" y="222"/>
                </a:lnTo>
                <a:lnTo>
                  <a:pt x="1272" y="234"/>
                </a:lnTo>
                <a:lnTo>
                  <a:pt x="1272" y="246"/>
                </a:lnTo>
                <a:lnTo>
                  <a:pt x="1278" y="258"/>
                </a:lnTo>
                <a:lnTo>
                  <a:pt x="1278" y="264"/>
                </a:lnTo>
                <a:lnTo>
                  <a:pt x="1284" y="282"/>
                </a:lnTo>
                <a:lnTo>
                  <a:pt x="1284" y="294"/>
                </a:lnTo>
                <a:lnTo>
                  <a:pt x="1290" y="306"/>
                </a:lnTo>
                <a:lnTo>
                  <a:pt x="1290" y="318"/>
                </a:lnTo>
                <a:lnTo>
                  <a:pt x="1296" y="330"/>
                </a:lnTo>
                <a:lnTo>
                  <a:pt x="1296" y="348"/>
                </a:lnTo>
                <a:lnTo>
                  <a:pt x="1302" y="360"/>
                </a:lnTo>
                <a:lnTo>
                  <a:pt x="1302" y="372"/>
                </a:lnTo>
                <a:lnTo>
                  <a:pt x="1308" y="384"/>
                </a:lnTo>
                <a:lnTo>
                  <a:pt x="1308" y="408"/>
                </a:lnTo>
                <a:lnTo>
                  <a:pt x="1314" y="420"/>
                </a:lnTo>
                <a:lnTo>
                  <a:pt x="1314" y="438"/>
                </a:lnTo>
                <a:lnTo>
                  <a:pt x="1320" y="444"/>
                </a:lnTo>
                <a:lnTo>
                  <a:pt x="1320" y="474"/>
                </a:lnTo>
                <a:lnTo>
                  <a:pt x="1326" y="486"/>
                </a:lnTo>
                <a:lnTo>
                  <a:pt x="1326" y="498"/>
                </a:lnTo>
                <a:lnTo>
                  <a:pt x="1332" y="510"/>
                </a:lnTo>
                <a:lnTo>
                  <a:pt x="1332" y="528"/>
                </a:lnTo>
                <a:lnTo>
                  <a:pt x="1338" y="540"/>
                </a:lnTo>
                <a:lnTo>
                  <a:pt x="1338" y="558"/>
                </a:lnTo>
                <a:lnTo>
                  <a:pt x="1344" y="570"/>
                </a:lnTo>
                <a:lnTo>
                  <a:pt x="1344" y="582"/>
                </a:lnTo>
                <a:lnTo>
                  <a:pt x="1350" y="594"/>
                </a:lnTo>
                <a:lnTo>
                  <a:pt x="1350" y="606"/>
                </a:lnTo>
                <a:lnTo>
                  <a:pt x="1356" y="612"/>
                </a:lnTo>
                <a:lnTo>
                  <a:pt x="1356" y="636"/>
                </a:lnTo>
                <a:lnTo>
                  <a:pt x="1362" y="642"/>
                </a:lnTo>
                <a:lnTo>
                  <a:pt x="1362" y="666"/>
                </a:lnTo>
                <a:lnTo>
                  <a:pt x="1368" y="672"/>
                </a:lnTo>
                <a:lnTo>
                  <a:pt x="1368" y="684"/>
                </a:lnTo>
                <a:lnTo>
                  <a:pt x="1374" y="690"/>
                </a:lnTo>
                <a:lnTo>
                  <a:pt x="1374" y="708"/>
                </a:lnTo>
                <a:lnTo>
                  <a:pt x="1380" y="714"/>
                </a:lnTo>
                <a:lnTo>
                  <a:pt x="1380" y="726"/>
                </a:lnTo>
                <a:lnTo>
                  <a:pt x="1386" y="732"/>
                </a:lnTo>
                <a:lnTo>
                  <a:pt x="1386" y="744"/>
                </a:lnTo>
                <a:lnTo>
                  <a:pt x="1392" y="750"/>
                </a:lnTo>
                <a:lnTo>
                  <a:pt x="1392" y="762"/>
                </a:lnTo>
                <a:lnTo>
                  <a:pt x="1398" y="768"/>
                </a:lnTo>
                <a:lnTo>
                  <a:pt x="1398" y="780"/>
                </a:lnTo>
                <a:lnTo>
                  <a:pt x="1404" y="804"/>
                </a:lnTo>
                <a:lnTo>
                  <a:pt x="1404" y="798"/>
                </a:lnTo>
                <a:lnTo>
                  <a:pt x="1404" y="804"/>
                </a:lnTo>
                <a:lnTo>
                  <a:pt x="1410" y="81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7381800" y="5276880"/>
            <a:ext cx="152640" cy="200160"/>
          </a:xfrm>
          <a:custGeom>
            <a:avLst/>
            <a:gdLst/>
            <a:ahLst/>
            <a:rect l="l" t="t" r="r" b="b"/>
            <a:pathLst>
              <a:path w="96" h="126">
                <a:moveTo>
                  <a:pt x="0" y="0"/>
                </a:moveTo>
                <a:lnTo>
                  <a:pt x="0" y="6"/>
                </a:lnTo>
                <a:lnTo>
                  <a:pt x="12" y="18"/>
                </a:lnTo>
                <a:lnTo>
                  <a:pt x="12" y="36"/>
                </a:lnTo>
                <a:lnTo>
                  <a:pt x="18" y="42"/>
                </a:lnTo>
                <a:lnTo>
                  <a:pt x="24" y="42"/>
                </a:lnTo>
                <a:lnTo>
                  <a:pt x="24" y="54"/>
                </a:lnTo>
                <a:lnTo>
                  <a:pt x="30" y="60"/>
                </a:lnTo>
                <a:lnTo>
                  <a:pt x="36" y="72"/>
                </a:lnTo>
                <a:lnTo>
                  <a:pt x="42" y="78"/>
                </a:lnTo>
                <a:lnTo>
                  <a:pt x="48" y="84"/>
                </a:lnTo>
                <a:lnTo>
                  <a:pt x="60" y="102"/>
                </a:lnTo>
                <a:lnTo>
                  <a:pt x="60" y="102"/>
                </a:lnTo>
                <a:lnTo>
                  <a:pt x="66" y="108"/>
                </a:lnTo>
                <a:lnTo>
                  <a:pt x="66" y="102"/>
                </a:lnTo>
                <a:lnTo>
                  <a:pt x="78" y="114"/>
                </a:lnTo>
                <a:lnTo>
                  <a:pt x="78" y="114"/>
                </a:lnTo>
                <a:lnTo>
                  <a:pt x="84" y="120"/>
                </a:lnTo>
                <a:lnTo>
                  <a:pt x="90" y="126"/>
                </a:lnTo>
                <a:lnTo>
                  <a:pt x="96" y="12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143680" y="4000680"/>
            <a:ext cx="2390760" cy="1440"/>
          </a:xfrm>
          <a:custGeom>
            <a:avLst/>
            <a:gdLst/>
            <a:ahLst/>
            <a:rect l="l" t="t" r="r" b="b"/>
            <a:pathLst>
              <a:path w="1506" h="0">
                <a:moveTo>
                  <a:pt x="0" y="0"/>
                </a:moveTo>
                <a:lnTo>
                  <a:pt x="192" y="0"/>
                </a:lnTo>
                <a:lnTo>
                  <a:pt x="312" y="0"/>
                </a:lnTo>
                <a:lnTo>
                  <a:pt x="390" y="0"/>
                </a:lnTo>
                <a:lnTo>
                  <a:pt x="456" y="0"/>
                </a:lnTo>
                <a:lnTo>
                  <a:pt x="504" y="0"/>
                </a:lnTo>
                <a:lnTo>
                  <a:pt x="552" y="0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0"/>
                </a:lnTo>
                <a:lnTo>
                  <a:pt x="702" y="0"/>
                </a:lnTo>
                <a:lnTo>
                  <a:pt x="726" y="0"/>
                </a:lnTo>
                <a:lnTo>
                  <a:pt x="750" y="0"/>
                </a:lnTo>
                <a:lnTo>
                  <a:pt x="768" y="0"/>
                </a:lnTo>
                <a:lnTo>
                  <a:pt x="786" y="0"/>
                </a:lnTo>
                <a:lnTo>
                  <a:pt x="804" y="0"/>
                </a:lnTo>
                <a:lnTo>
                  <a:pt x="816" y="0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54" y="0"/>
                </a:lnTo>
                <a:lnTo>
                  <a:pt x="966" y="0"/>
                </a:lnTo>
                <a:lnTo>
                  <a:pt x="972" y="0"/>
                </a:lnTo>
                <a:lnTo>
                  <a:pt x="984" y="0"/>
                </a:lnTo>
                <a:lnTo>
                  <a:pt x="990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  <a:lnTo>
                  <a:pt x="1320" y="0"/>
                </a:lnTo>
                <a:lnTo>
                  <a:pt x="1326" y="0"/>
                </a:lnTo>
                <a:lnTo>
                  <a:pt x="1332" y="0"/>
                </a:lnTo>
                <a:lnTo>
                  <a:pt x="1338" y="0"/>
                </a:lnTo>
                <a:lnTo>
                  <a:pt x="1344" y="0"/>
                </a:lnTo>
                <a:lnTo>
                  <a:pt x="1350" y="0"/>
                </a:lnTo>
                <a:lnTo>
                  <a:pt x="1356" y="0"/>
                </a:lnTo>
                <a:lnTo>
                  <a:pt x="1362" y="0"/>
                </a:lnTo>
                <a:lnTo>
                  <a:pt x="1368" y="0"/>
                </a:lnTo>
                <a:lnTo>
                  <a:pt x="1374" y="0"/>
                </a:lnTo>
                <a:lnTo>
                  <a:pt x="1380" y="0"/>
                </a:lnTo>
                <a:lnTo>
                  <a:pt x="1386" y="0"/>
                </a:lnTo>
                <a:lnTo>
                  <a:pt x="1392" y="0"/>
                </a:lnTo>
                <a:lnTo>
                  <a:pt x="1398" y="0"/>
                </a:lnTo>
                <a:lnTo>
                  <a:pt x="1404" y="0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0"/>
                </a:lnTo>
                <a:lnTo>
                  <a:pt x="1458" y="0"/>
                </a:lnTo>
                <a:lnTo>
                  <a:pt x="1464" y="0"/>
                </a:lnTo>
                <a:lnTo>
                  <a:pt x="1470" y="0"/>
                </a:lnTo>
                <a:lnTo>
                  <a:pt x="1476" y="0"/>
                </a:lnTo>
                <a:lnTo>
                  <a:pt x="1482" y="0"/>
                </a:lnTo>
                <a:lnTo>
                  <a:pt x="1488" y="0"/>
                </a:lnTo>
                <a:lnTo>
                  <a:pt x="1494" y="0"/>
                </a:lnTo>
                <a:lnTo>
                  <a:pt x="1500" y="0"/>
                </a:lnTo>
                <a:lnTo>
                  <a:pt x="150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rot="16200000">
            <a:off x="381420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781600" y="3467160"/>
            <a:ext cx="1110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ret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992320" y="22860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2171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2171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2124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124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20764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0764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2009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009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1943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943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21718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1718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20664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22006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2486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2486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2666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666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2800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800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2905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905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29811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29811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3114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114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3162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162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3209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209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32097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2097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31046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238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3524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524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37051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7051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3838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838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3943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943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4019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4019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4095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095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 flipV="1">
            <a:off x="4152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4152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4210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4210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1761840" y="259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695240" y="22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69524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695240" y="133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6960" y="2666880"/>
            <a:ext cx="2390760" cy="1800"/>
          </a:xfrm>
          <a:custGeom>
            <a:avLst/>
            <a:gdLst/>
            <a:ahLst/>
            <a:rect l="l" t="t" r="r" b="b"/>
            <a:pathLst>
              <a:path w="1506" h="0">
                <a:moveTo>
                  <a:pt x="0" y="0"/>
                </a:moveTo>
                <a:lnTo>
                  <a:pt x="192" y="0"/>
                </a:lnTo>
                <a:lnTo>
                  <a:pt x="312" y="0"/>
                </a:lnTo>
                <a:lnTo>
                  <a:pt x="390" y="0"/>
                </a:lnTo>
                <a:lnTo>
                  <a:pt x="456" y="0"/>
                </a:lnTo>
                <a:lnTo>
                  <a:pt x="504" y="0"/>
                </a:lnTo>
                <a:lnTo>
                  <a:pt x="552" y="0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0"/>
                </a:lnTo>
                <a:lnTo>
                  <a:pt x="702" y="0"/>
                </a:lnTo>
                <a:lnTo>
                  <a:pt x="726" y="0"/>
                </a:lnTo>
                <a:lnTo>
                  <a:pt x="750" y="0"/>
                </a:lnTo>
                <a:lnTo>
                  <a:pt x="768" y="0"/>
                </a:lnTo>
                <a:lnTo>
                  <a:pt x="786" y="0"/>
                </a:lnTo>
                <a:lnTo>
                  <a:pt x="804" y="0"/>
                </a:lnTo>
                <a:lnTo>
                  <a:pt x="816" y="0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54" y="0"/>
                </a:lnTo>
                <a:lnTo>
                  <a:pt x="966" y="0"/>
                </a:lnTo>
                <a:lnTo>
                  <a:pt x="972" y="0"/>
                </a:lnTo>
                <a:lnTo>
                  <a:pt x="984" y="0"/>
                </a:lnTo>
                <a:lnTo>
                  <a:pt x="990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  <a:lnTo>
                  <a:pt x="1320" y="0"/>
                </a:lnTo>
                <a:lnTo>
                  <a:pt x="1326" y="0"/>
                </a:lnTo>
                <a:lnTo>
                  <a:pt x="1332" y="0"/>
                </a:lnTo>
                <a:lnTo>
                  <a:pt x="1338" y="0"/>
                </a:lnTo>
                <a:lnTo>
                  <a:pt x="1344" y="0"/>
                </a:lnTo>
                <a:lnTo>
                  <a:pt x="1350" y="0"/>
                </a:lnTo>
                <a:lnTo>
                  <a:pt x="1356" y="0"/>
                </a:lnTo>
                <a:lnTo>
                  <a:pt x="1362" y="0"/>
                </a:lnTo>
                <a:lnTo>
                  <a:pt x="1368" y="0"/>
                </a:lnTo>
                <a:lnTo>
                  <a:pt x="1374" y="0"/>
                </a:lnTo>
                <a:lnTo>
                  <a:pt x="1380" y="0"/>
                </a:lnTo>
                <a:lnTo>
                  <a:pt x="1386" y="0"/>
                </a:lnTo>
                <a:lnTo>
                  <a:pt x="1392" y="0"/>
                </a:lnTo>
                <a:lnTo>
                  <a:pt x="1398" y="0"/>
                </a:lnTo>
                <a:lnTo>
                  <a:pt x="1404" y="0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0"/>
                </a:lnTo>
                <a:lnTo>
                  <a:pt x="1458" y="0"/>
                </a:lnTo>
                <a:lnTo>
                  <a:pt x="1464" y="0"/>
                </a:lnTo>
                <a:lnTo>
                  <a:pt x="1470" y="0"/>
                </a:lnTo>
                <a:lnTo>
                  <a:pt x="1476" y="0"/>
                </a:lnTo>
                <a:lnTo>
                  <a:pt x="1482" y="0"/>
                </a:lnTo>
                <a:lnTo>
                  <a:pt x="1488" y="0"/>
                </a:lnTo>
                <a:lnTo>
                  <a:pt x="1494" y="0"/>
                </a:lnTo>
                <a:lnTo>
                  <a:pt x="1500" y="0"/>
                </a:lnTo>
                <a:lnTo>
                  <a:pt x="150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66960" y="1514520"/>
            <a:ext cx="2247840" cy="1152360"/>
          </a:xfrm>
          <a:custGeom>
            <a:avLst/>
            <a:gdLst/>
            <a:ahLst/>
            <a:rect l="l" t="t" r="r" b="b"/>
            <a:pathLst>
              <a:path w="1416" h="726">
                <a:moveTo>
                  <a:pt x="0" y="720"/>
                </a:moveTo>
                <a:lnTo>
                  <a:pt x="192" y="720"/>
                </a:lnTo>
                <a:lnTo>
                  <a:pt x="312" y="726"/>
                </a:lnTo>
                <a:lnTo>
                  <a:pt x="390" y="726"/>
                </a:lnTo>
                <a:lnTo>
                  <a:pt x="456" y="726"/>
                </a:lnTo>
                <a:lnTo>
                  <a:pt x="504" y="726"/>
                </a:lnTo>
                <a:lnTo>
                  <a:pt x="552" y="726"/>
                </a:lnTo>
                <a:lnTo>
                  <a:pt x="588" y="726"/>
                </a:lnTo>
                <a:lnTo>
                  <a:pt x="624" y="726"/>
                </a:lnTo>
                <a:lnTo>
                  <a:pt x="654" y="726"/>
                </a:lnTo>
                <a:lnTo>
                  <a:pt x="678" y="726"/>
                </a:lnTo>
                <a:lnTo>
                  <a:pt x="702" y="726"/>
                </a:lnTo>
                <a:lnTo>
                  <a:pt x="726" y="726"/>
                </a:lnTo>
                <a:lnTo>
                  <a:pt x="750" y="726"/>
                </a:lnTo>
                <a:lnTo>
                  <a:pt x="768" y="726"/>
                </a:lnTo>
                <a:lnTo>
                  <a:pt x="786" y="726"/>
                </a:lnTo>
                <a:lnTo>
                  <a:pt x="804" y="726"/>
                </a:lnTo>
                <a:lnTo>
                  <a:pt x="816" y="726"/>
                </a:lnTo>
                <a:lnTo>
                  <a:pt x="834" y="726"/>
                </a:lnTo>
                <a:lnTo>
                  <a:pt x="846" y="726"/>
                </a:lnTo>
                <a:lnTo>
                  <a:pt x="864" y="726"/>
                </a:lnTo>
                <a:lnTo>
                  <a:pt x="876" y="726"/>
                </a:lnTo>
                <a:lnTo>
                  <a:pt x="888" y="726"/>
                </a:lnTo>
                <a:lnTo>
                  <a:pt x="900" y="726"/>
                </a:lnTo>
                <a:lnTo>
                  <a:pt x="912" y="726"/>
                </a:lnTo>
                <a:lnTo>
                  <a:pt x="924" y="726"/>
                </a:lnTo>
                <a:lnTo>
                  <a:pt x="936" y="726"/>
                </a:lnTo>
                <a:lnTo>
                  <a:pt x="942" y="726"/>
                </a:lnTo>
                <a:lnTo>
                  <a:pt x="954" y="726"/>
                </a:lnTo>
                <a:lnTo>
                  <a:pt x="966" y="726"/>
                </a:lnTo>
                <a:lnTo>
                  <a:pt x="972" y="726"/>
                </a:lnTo>
                <a:lnTo>
                  <a:pt x="984" y="726"/>
                </a:lnTo>
                <a:lnTo>
                  <a:pt x="990" y="720"/>
                </a:lnTo>
                <a:lnTo>
                  <a:pt x="1002" y="720"/>
                </a:lnTo>
                <a:lnTo>
                  <a:pt x="1008" y="720"/>
                </a:lnTo>
                <a:lnTo>
                  <a:pt x="1014" y="720"/>
                </a:lnTo>
                <a:lnTo>
                  <a:pt x="1026" y="720"/>
                </a:lnTo>
                <a:lnTo>
                  <a:pt x="1032" y="720"/>
                </a:lnTo>
                <a:lnTo>
                  <a:pt x="1038" y="720"/>
                </a:lnTo>
                <a:lnTo>
                  <a:pt x="1044" y="714"/>
                </a:lnTo>
                <a:lnTo>
                  <a:pt x="1050" y="714"/>
                </a:lnTo>
                <a:lnTo>
                  <a:pt x="1062" y="714"/>
                </a:lnTo>
                <a:lnTo>
                  <a:pt x="1068" y="714"/>
                </a:lnTo>
                <a:lnTo>
                  <a:pt x="1074" y="714"/>
                </a:lnTo>
                <a:lnTo>
                  <a:pt x="1080" y="708"/>
                </a:lnTo>
                <a:lnTo>
                  <a:pt x="1086" y="708"/>
                </a:lnTo>
                <a:lnTo>
                  <a:pt x="1092" y="708"/>
                </a:lnTo>
                <a:lnTo>
                  <a:pt x="1098" y="708"/>
                </a:lnTo>
                <a:lnTo>
                  <a:pt x="1104" y="702"/>
                </a:lnTo>
                <a:lnTo>
                  <a:pt x="1110" y="702"/>
                </a:lnTo>
                <a:lnTo>
                  <a:pt x="1116" y="702"/>
                </a:lnTo>
                <a:lnTo>
                  <a:pt x="1122" y="696"/>
                </a:lnTo>
                <a:lnTo>
                  <a:pt x="1128" y="696"/>
                </a:lnTo>
                <a:lnTo>
                  <a:pt x="1134" y="690"/>
                </a:lnTo>
                <a:lnTo>
                  <a:pt x="1140" y="690"/>
                </a:lnTo>
                <a:lnTo>
                  <a:pt x="1146" y="684"/>
                </a:lnTo>
                <a:lnTo>
                  <a:pt x="1152" y="684"/>
                </a:lnTo>
                <a:lnTo>
                  <a:pt x="1158" y="678"/>
                </a:lnTo>
                <a:lnTo>
                  <a:pt x="1164" y="672"/>
                </a:lnTo>
                <a:lnTo>
                  <a:pt x="1170" y="672"/>
                </a:lnTo>
                <a:lnTo>
                  <a:pt x="1176" y="666"/>
                </a:lnTo>
                <a:lnTo>
                  <a:pt x="1182" y="660"/>
                </a:lnTo>
                <a:lnTo>
                  <a:pt x="1188" y="654"/>
                </a:lnTo>
                <a:lnTo>
                  <a:pt x="1194" y="648"/>
                </a:lnTo>
                <a:lnTo>
                  <a:pt x="1200" y="642"/>
                </a:lnTo>
                <a:lnTo>
                  <a:pt x="1206" y="636"/>
                </a:lnTo>
                <a:lnTo>
                  <a:pt x="1212" y="630"/>
                </a:lnTo>
                <a:lnTo>
                  <a:pt x="1218" y="624"/>
                </a:lnTo>
                <a:lnTo>
                  <a:pt x="1218" y="618"/>
                </a:lnTo>
                <a:lnTo>
                  <a:pt x="1224" y="612"/>
                </a:lnTo>
                <a:lnTo>
                  <a:pt x="1230" y="606"/>
                </a:lnTo>
                <a:lnTo>
                  <a:pt x="1230" y="600"/>
                </a:lnTo>
                <a:lnTo>
                  <a:pt x="1236" y="594"/>
                </a:lnTo>
                <a:lnTo>
                  <a:pt x="1236" y="588"/>
                </a:lnTo>
                <a:lnTo>
                  <a:pt x="1242" y="582"/>
                </a:lnTo>
                <a:lnTo>
                  <a:pt x="1248" y="576"/>
                </a:lnTo>
                <a:lnTo>
                  <a:pt x="1248" y="570"/>
                </a:lnTo>
                <a:lnTo>
                  <a:pt x="1254" y="558"/>
                </a:lnTo>
                <a:lnTo>
                  <a:pt x="1254" y="552"/>
                </a:lnTo>
                <a:lnTo>
                  <a:pt x="1260" y="546"/>
                </a:lnTo>
                <a:lnTo>
                  <a:pt x="1266" y="534"/>
                </a:lnTo>
                <a:lnTo>
                  <a:pt x="1266" y="528"/>
                </a:lnTo>
                <a:lnTo>
                  <a:pt x="1272" y="516"/>
                </a:lnTo>
                <a:lnTo>
                  <a:pt x="1272" y="510"/>
                </a:lnTo>
                <a:lnTo>
                  <a:pt x="1278" y="492"/>
                </a:lnTo>
                <a:lnTo>
                  <a:pt x="1278" y="486"/>
                </a:lnTo>
                <a:lnTo>
                  <a:pt x="1284" y="474"/>
                </a:lnTo>
                <a:lnTo>
                  <a:pt x="1284" y="462"/>
                </a:lnTo>
                <a:lnTo>
                  <a:pt x="1290" y="450"/>
                </a:lnTo>
                <a:lnTo>
                  <a:pt x="1290" y="444"/>
                </a:lnTo>
                <a:lnTo>
                  <a:pt x="1296" y="432"/>
                </a:lnTo>
                <a:lnTo>
                  <a:pt x="1296" y="420"/>
                </a:lnTo>
                <a:lnTo>
                  <a:pt x="1302" y="402"/>
                </a:lnTo>
                <a:lnTo>
                  <a:pt x="1302" y="390"/>
                </a:lnTo>
                <a:lnTo>
                  <a:pt x="1308" y="384"/>
                </a:lnTo>
                <a:lnTo>
                  <a:pt x="1308" y="372"/>
                </a:lnTo>
                <a:lnTo>
                  <a:pt x="1314" y="354"/>
                </a:lnTo>
                <a:lnTo>
                  <a:pt x="1314" y="342"/>
                </a:lnTo>
                <a:lnTo>
                  <a:pt x="1320" y="336"/>
                </a:lnTo>
                <a:lnTo>
                  <a:pt x="1320" y="306"/>
                </a:lnTo>
                <a:lnTo>
                  <a:pt x="1326" y="300"/>
                </a:lnTo>
                <a:lnTo>
                  <a:pt x="1326" y="282"/>
                </a:lnTo>
                <a:lnTo>
                  <a:pt x="1332" y="276"/>
                </a:lnTo>
                <a:lnTo>
                  <a:pt x="1332" y="264"/>
                </a:lnTo>
                <a:lnTo>
                  <a:pt x="1338" y="246"/>
                </a:lnTo>
                <a:lnTo>
                  <a:pt x="1338" y="234"/>
                </a:lnTo>
                <a:lnTo>
                  <a:pt x="1344" y="216"/>
                </a:lnTo>
                <a:lnTo>
                  <a:pt x="1344" y="210"/>
                </a:lnTo>
                <a:lnTo>
                  <a:pt x="1350" y="198"/>
                </a:lnTo>
                <a:lnTo>
                  <a:pt x="1350" y="186"/>
                </a:lnTo>
                <a:lnTo>
                  <a:pt x="1356" y="180"/>
                </a:lnTo>
                <a:lnTo>
                  <a:pt x="1356" y="162"/>
                </a:lnTo>
                <a:lnTo>
                  <a:pt x="1362" y="150"/>
                </a:lnTo>
                <a:lnTo>
                  <a:pt x="1362" y="138"/>
                </a:lnTo>
                <a:lnTo>
                  <a:pt x="1368" y="132"/>
                </a:lnTo>
                <a:lnTo>
                  <a:pt x="1368" y="126"/>
                </a:lnTo>
                <a:lnTo>
                  <a:pt x="1374" y="114"/>
                </a:lnTo>
                <a:lnTo>
                  <a:pt x="1374" y="102"/>
                </a:lnTo>
                <a:lnTo>
                  <a:pt x="1380" y="90"/>
                </a:lnTo>
                <a:lnTo>
                  <a:pt x="1380" y="78"/>
                </a:lnTo>
                <a:lnTo>
                  <a:pt x="1386" y="78"/>
                </a:lnTo>
                <a:lnTo>
                  <a:pt x="1386" y="66"/>
                </a:lnTo>
                <a:lnTo>
                  <a:pt x="1398" y="48"/>
                </a:lnTo>
                <a:lnTo>
                  <a:pt x="1398" y="30"/>
                </a:lnTo>
                <a:lnTo>
                  <a:pt x="1404" y="24"/>
                </a:lnTo>
                <a:lnTo>
                  <a:pt x="1410" y="18"/>
                </a:lnTo>
                <a:lnTo>
                  <a:pt x="1410" y="12"/>
                </a:lnTo>
                <a:lnTo>
                  <a:pt x="141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114800" y="135252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102"/>
                </a:moveTo>
                <a:lnTo>
                  <a:pt x="0" y="96"/>
                </a:lnTo>
                <a:lnTo>
                  <a:pt x="6" y="90"/>
                </a:lnTo>
                <a:lnTo>
                  <a:pt x="6" y="78"/>
                </a:lnTo>
                <a:lnTo>
                  <a:pt x="12" y="72"/>
                </a:lnTo>
                <a:lnTo>
                  <a:pt x="18" y="66"/>
                </a:lnTo>
                <a:lnTo>
                  <a:pt x="24" y="60"/>
                </a:lnTo>
                <a:lnTo>
                  <a:pt x="30" y="54"/>
                </a:lnTo>
                <a:lnTo>
                  <a:pt x="30" y="48"/>
                </a:lnTo>
                <a:lnTo>
                  <a:pt x="42" y="36"/>
                </a:lnTo>
                <a:lnTo>
                  <a:pt x="42" y="30"/>
                </a:lnTo>
                <a:lnTo>
                  <a:pt x="48" y="24"/>
                </a:lnTo>
                <a:lnTo>
                  <a:pt x="54" y="24"/>
                </a:lnTo>
                <a:lnTo>
                  <a:pt x="60" y="18"/>
                </a:lnTo>
                <a:lnTo>
                  <a:pt x="60" y="24"/>
                </a:lnTo>
                <a:lnTo>
                  <a:pt x="60" y="18"/>
                </a:lnTo>
                <a:lnTo>
                  <a:pt x="66" y="12"/>
                </a:lnTo>
                <a:lnTo>
                  <a:pt x="66" y="18"/>
                </a:lnTo>
                <a:lnTo>
                  <a:pt x="78" y="6"/>
                </a:lnTo>
                <a:lnTo>
                  <a:pt x="78" y="0"/>
                </a:lnTo>
                <a:lnTo>
                  <a:pt x="90" y="0"/>
                </a:lnTo>
                <a:lnTo>
                  <a:pt x="8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rot="16200000">
            <a:off x="53604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2514240" y="876240"/>
            <a:ext cx="1098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N ex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5448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5448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5400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5400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5353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5353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5286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5286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5219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5219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 flipV="1">
            <a:off x="5448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448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34312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4774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 flipV="1">
            <a:off x="5762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5762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5943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5943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 flipV="1">
            <a:off x="6076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6076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6181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6181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6257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6257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39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639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 flipV="1">
            <a:off x="6438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6438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V="1">
            <a:off x="6486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486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6486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6486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6381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6515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6800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6800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698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698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V="1">
            <a:off x="7115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7115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7219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7219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7296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7296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 flipV="1">
            <a:off x="7372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7372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7429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7429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V="1">
            <a:off x="7486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7486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493344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5038200" y="1486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97160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5143680" y="1476360"/>
            <a:ext cx="2266920" cy="1476360"/>
          </a:xfrm>
          <a:custGeom>
            <a:avLst/>
            <a:gdLst/>
            <a:ahLst/>
            <a:rect l="l" t="t" r="r" b="b"/>
            <a:pathLst>
              <a:path w="1428" h="930">
                <a:moveTo>
                  <a:pt x="0" y="810"/>
                </a:moveTo>
                <a:lnTo>
                  <a:pt x="192" y="78"/>
                </a:lnTo>
                <a:lnTo>
                  <a:pt x="312" y="24"/>
                </a:lnTo>
                <a:lnTo>
                  <a:pt x="390" y="6"/>
                </a:lnTo>
                <a:lnTo>
                  <a:pt x="456" y="0"/>
                </a:lnTo>
                <a:lnTo>
                  <a:pt x="504" y="0"/>
                </a:lnTo>
                <a:lnTo>
                  <a:pt x="552" y="0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6"/>
                </a:lnTo>
                <a:lnTo>
                  <a:pt x="702" y="6"/>
                </a:lnTo>
                <a:lnTo>
                  <a:pt x="726" y="6"/>
                </a:lnTo>
                <a:lnTo>
                  <a:pt x="750" y="12"/>
                </a:lnTo>
                <a:lnTo>
                  <a:pt x="768" y="12"/>
                </a:lnTo>
                <a:lnTo>
                  <a:pt x="786" y="12"/>
                </a:lnTo>
                <a:lnTo>
                  <a:pt x="804" y="12"/>
                </a:lnTo>
                <a:lnTo>
                  <a:pt x="816" y="18"/>
                </a:lnTo>
                <a:lnTo>
                  <a:pt x="834" y="18"/>
                </a:lnTo>
                <a:lnTo>
                  <a:pt x="846" y="24"/>
                </a:lnTo>
                <a:lnTo>
                  <a:pt x="864" y="24"/>
                </a:lnTo>
                <a:lnTo>
                  <a:pt x="876" y="30"/>
                </a:lnTo>
                <a:lnTo>
                  <a:pt x="888" y="30"/>
                </a:lnTo>
                <a:lnTo>
                  <a:pt x="900" y="30"/>
                </a:lnTo>
                <a:lnTo>
                  <a:pt x="912" y="36"/>
                </a:lnTo>
                <a:lnTo>
                  <a:pt x="924" y="36"/>
                </a:lnTo>
                <a:lnTo>
                  <a:pt x="936" y="42"/>
                </a:lnTo>
                <a:lnTo>
                  <a:pt x="942" y="42"/>
                </a:lnTo>
                <a:lnTo>
                  <a:pt x="954" y="48"/>
                </a:lnTo>
                <a:lnTo>
                  <a:pt x="966" y="48"/>
                </a:lnTo>
                <a:lnTo>
                  <a:pt x="972" y="54"/>
                </a:lnTo>
                <a:lnTo>
                  <a:pt x="984" y="54"/>
                </a:lnTo>
                <a:lnTo>
                  <a:pt x="990" y="60"/>
                </a:lnTo>
                <a:lnTo>
                  <a:pt x="1002" y="66"/>
                </a:lnTo>
                <a:lnTo>
                  <a:pt x="1008" y="66"/>
                </a:lnTo>
                <a:lnTo>
                  <a:pt x="1014" y="72"/>
                </a:lnTo>
                <a:lnTo>
                  <a:pt x="1026" y="72"/>
                </a:lnTo>
                <a:lnTo>
                  <a:pt x="1032" y="72"/>
                </a:lnTo>
                <a:lnTo>
                  <a:pt x="1038" y="78"/>
                </a:lnTo>
                <a:lnTo>
                  <a:pt x="1044" y="84"/>
                </a:lnTo>
                <a:lnTo>
                  <a:pt x="1050" y="90"/>
                </a:lnTo>
                <a:lnTo>
                  <a:pt x="1062" y="90"/>
                </a:lnTo>
                <a:lnTo>
                  <a:pt x="1068" y="96"/>
                </a:lnTo>
                <a:lnTo>
                  <a:pt x="1074" y="102"/>
                </a:lnTo>
                <a:lnTo>
                  <a:pt x="1080" y="102"/>
                </a:lnTo>
                <a:lnTo>
                  <a:pt x="1086" y="108"/>
                </a:lnTo>
                <a:lnTo>
                  <a:pt x="1092" y="114"/>
                </a:lnTo>
                <a:lnTo>
                  <a:pt x="1098" y="120"/>
                </a:lnTo>
                <a:lnTo>
                  <a:pt x="1104" y="126"/>
                </a:lnTo>
                <a:lnTo>
                  <a:pt x="1110" y="132"/>
                </a:lnTo>
                <a:lnTo>
                  <a:pt x="1116" y="138"/>
                </a:lnTo>
                <a:lnTo>
                  <a:pt x="1122" y="138"/>
                </a:lnTo>
                <a:lnTo>
                  <a:pt x="1128" y="150"/>
                </a:lnTo>
                <a:lnTo>
                  <a:pt x="1134" y="156"/>
                </a:lnTo>
                <a:lnTo>
                  <a:pt x="1140" y="168"/>
                </a:lnTo>
                <a:lnTo>
                  <a:pt x="1146" y="168"/>
                </a:lnTo>
                <a:lnTo>
                  <a:pt x="1152" y="174"/>
                </a:lnTo>
                <a:lnTo>
                  <a:pt x="1158" y="180"/>
                </a:lnTo>
                <a:lnTo>
                  <a:pt x="1158" y="192"/>
                </a:lnTo>
                <a:lnTo>
                  <a:pt x="1164" y="192"/>
                </a:lnTo>
                <a:lnTo>
                  <a:pt x="1170" y="204"/>
                </a:lnTo>
                <a:lnTo>
                  <a:pt x="1176" y="210"/>
                </a:lnTo>
                <a:lnTo>
                  <a:pt x="1182" y="222"/>
                </a:lnTo>
                <a:lnTo>
                  <a:pt x="1188" y="234"/>
                </a:lnTo>
                <a:lnTo>
                  <a:pt x="1194" y="240"/>
                </a:lnTo>
                <a:lnTo>
                  <a:pt x="1194" y="246"/>
                </a:lnTo>
                <a:lnTo>
                  <a:pt x="1200" y="258"/>
                </a:lnTo>
                <a:lnTo>
                  <a:pt x="1206" y="264"/>
                </a:lnTo>
                <a:lnTo>
                  <a:pt x="1206" y="276"/>
                </a:lnTo>
                <a:lnTo>
                  <a:pt x="1212" y="282"/>
                </a:lnTo>
                <a:lnTo>
                  <a:pt x="1218" y="294"/>
                </a:lnTo>
                <a:lnTo>
                  <a:pt x="1218" y="300"/>
                </a:lnTo>
                <a:lnTo>
                  <a:pt x="1224" y="312"/>
                </a:lnTo>
                <a:lnTo>
                  <a:pt x="1230" y="324"/>
                </a:lnTo>
                <a:lnTo>
                  <a:pt x="1230" y="330"/>
                </a:lnTo>
                <a:lnTo>
                  <a:pt x="1236" y="342"/>
                </a:lnTo>
                <a:lnTo>
                  <a:pt x="1236" y="354"/>
                </a:lnTo>
                <a:lnTo>
                  <a:pt x="1242" y="366"/>
                </a:lnTo>
                <a:lnTo>
                  <a:pt x="1248" y="378"/>
                </a:lnTo>
                <a:lnTo>
                  <a:pt x="1248" y="390"/>
                </a:lnTo>
                <a:lnTo>
                  <a:pt x="1254" y="402"/>
                </a:lnTo>
                <a:lnTo>
                  <a:pt x="1254" y="414"/>
                </a:lnTo>
                <a:lnTo>
                  <a:pt x="1260" y="426"/>
                </a:lnTo>
                <a:lnTo>
                  <a:pt x="1266" y="438"/>
                </a:lnTo>
                <a:lnTo>
                  <a:pt x="1266" y="456"/>
                </a:lnTo>
                <a:lnTo>
                  <a:pt x="1272" y="468"/>
                </a:lnTo>
                <a:lnTo>
                  <a:pt x="1272" y="486"/>
                </a:lnTo>
                <a:lnTo>
                  <a:pt x="1278" y="498"/>
                </a:lnTo>
                <a:lnTo>
                  <a:pt x="1278" y="516"/>
                </a:lnTo>
                <a:lnTo>
                  <a:pt x="1284" y="528"/>
                </a:lnTo>
                <a:lnTo>
                  <a:pt x="1284" y="540"/>
                </a:lnTo>
                <a:lnTo>
                  <a:pt x="1290" y="558"/>
                </a:lnTo>
                <a:lnTo>
                  <a:pt x="1290" y="576"/>
                </a:lnTo>
                <a:lnTo>
                  <a:pt x="1296" y="594"/>
                </a:lnTo>
                <a:lnTo>
                  <a:pt x="1296" y="612"/>
                </a:lnTo>
                <a:lnTo>
                  <a:pt x="1302" y="624"/>
                </a:lnTo>
                <a:lnTo>
                  <a:pt x="1302" y="642"/>
                </a:lnTo>
                <a:lnTo>
                  <a:pt x="1308" y="660"/>
                </a:lnTo>
                <a:lnTo>
                  <a:pt x="1308" y="672"/>
                </a:lnTo>
                <a:lnTo>
                  <a:pt x="1314" y="690"/>
                </a:lnTo>
                <a:lnTo>
                  <a:pt x="1314" y="702"/>
                </a:lnTo>
                <a:lnTo>
                  <a:pt x="1320" y="720"/>
                </a:lnTo>
                <a:lnTo>
                  <a:pt x="1320" y="744"/>
                </a:lnTo>
                <a:lnTo>
                  <a:pt x="1326" y="762"/>
                </a:lnTo>
                <a:lnTo>
                  <a:pt x="1326" y="768"/>
                </a:lnTo>
                <a:lnTo>
                  <a:pt x="1332" y="786"/>
                </a:lnTo>
                <a:lnTo>
                  <a:pt x="1332" y="792"/>
                </a:lnTo>
                <a:lnTo>
                  <a:pt x="1338" y="810"/>
                </a:lnTo>
                <a:lnTo>
                  <a:pt x="1338" y="828"/>
                </a:lnTo>
                <a:lnTo>
                  <a:pt x="1344" y="834"/>
                </a:lnTo>
                <a:lnTo>
                  <a:pt x="1344" y="846"/>
                </a:lnTo>
                <a:lnTo>
                  <a:pt x="1350" y="852"/>
                </a:lnTo>
                <a:lnTo>
                  <a:pt x="1350" y="858"/>
                </a:lnTo>
                <a:lnTo>
                  <a:pt x="1356" y="870"/>
                </a:lnTo>
                <a:lnTo>
                  <a:pt x="1356" y="882"/>
                </a:lnTo>
                <a:lnTo>
                  <a:pt x="1362" y="888"/>
                </a:lnTo>
                <a:lnTo>
                  <a:pt x="1362" y="894"/>
                </a:lnTo>
                <a:lnTo>
                  <a:pt x="1368" y="906"/>
                </a:lnTo>
                <a:lnTo>
                  <a:pt x="1380" y="918"/>
                </a:lnTo>
                <a:lnTo>
                  <a:pt x="1380" y="924"/>
                </a:lnTo>
                <a:lnTo>
                  <a:pt x="1386" y="930"/>
                </a:lnTo>
                <a:lnTo>
                  <a:pt x="1392" y="930"/>
                </a:lnTo>
                <a:lnTo>
                  <a:pt x="1398" y="930"/>
                </a:lnTo>
                <a:lnTo>
                  <a:pt x="1404" y="930"/>
                </a:lnTo>
                <a:lnTo>
                  <a:pt x="1410" y="924"/>
                </a:lnTo>
                <a:lnTo>
                  <a:pt x="1416" y="924"/>
                </a:lnTo>
                <a:lnTo>
                  <a:pt x="1422" y="918"/>
                </a:lnTo>
                <a:lnTo>
                  <a:pt x="1428" y="9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7410600" y="2724120"/>
            <a:ext cx="123840" cy="200160"/>
          </a:xfrm>
          <a:custGeom>
            <a:avLst/>
            <a:gdLst/>
            <a:ahLst/>
            <a:rect l="l" t="t" r="r" b="b"/>
            <a:pathLst>
              <a:path w="78" h="126">
                <a:moveTo>
                  <a:pt x="0" y="126"/>
                </a:moveTo>
                <a:lnTo>
                  <a:pt x="6" y="120"/>
                </a:lnTo>
                <a:lnTo>
                  <a:pt x="18" y="108"/>
                </a:lnTo>
                <a:lnTo>
                  <a:pt x="18" y="102"/>
                </a:lnTo>
                <a:lnTo>
                  <a:pt x="24" y="96"/>
                </a:lnTo>
                <a:lnTo>
                  <a:pt x="30" y="90"/>
                </a:lnTo>
                <a:lnTo>
                  <a:pt x="30" y="84"/>
                </a:lnTo>
                <a:lnTo>
                  <a:pt x="36" y="78"/>
                </a:lnTo>
                <a:lnTo>
                  <a:pt x="36" y="72"/>
                </a:lnTo>
                <a:lnTo>
                  <a:pt x="48" y="60"/>
                </a:lnTo>
                <a:lnTo>
                  <a:pt x="48" y="48"/>
                </a:lnTo>
                <a:lnTo>
                  <a:pt x="60" y="36"/>
                </a:lnTo>
                <a:lnTo>
                  <a:pt x="60" y="24"/>
                </a:lnTo>
                <a:lnTo>
                  <a:pt x="72" y="12"/>
                </a:lnTo>
                <a:lnTo>
                  <a:pt x="72" y="0"/>
                </a:lnTo>
                <a:lnTo>
                  <a:pt x="7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5143680" y="1562040"/>
            <a:ext cx="2390760" cy="1800"/>
          </a:xfrm>
          <a:custGeom>
            <a:avLst/>
            <a:gdLst/>
            <a:ahLst/>
            <a:rect l="l" t="t" r="r" b="b"/>
            <a:pathLst>
              <a:path w="1506" h="0">
                <a:moveTo>
                  <a:pt x="0" y="0"/>
                </a:moveTo>
                <a:lnTo>
                  <a:pt x="192" y="0"/>
                </a:lnTo>
                <a:lnTo>
                  <a:pt x="312" y="0"/>
                </a:lnTo>
                <a:lnTo>
                  <a:pt x="390" y="0"/>
                </a:lnTo>
                <a:lnTo>
                  <a:pt x="456" y="0"/>
                </a:lnTo>
                <a:lnTo>
                  <a:pt x="504" y="0"/>
                </a:lnTo>
                <a:lnTo>
                  <a:pt x="552" y="0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0"/>
                </a:lnTo>
                <a:lnTo>
                  <a:pt x="702" y="0"/>
                </a:lnTo>
                <a:lnTo>
                  <a:pt x="726" y="0"/>
                </a:lnTo>
                <a:lnTo>
                  <a:pt x="750" y="0"/>
                </a:lnTo>
                <a:lnTo>
                  <a:pt x="768" y="0"/>
                </a:lnTo>
                <a:lnTo>
                  <a:pt x="786" y="0"/>
                </a:lnTo>
                <a:lnTo>
                  <a:pt x="804" y="0"/>
                </a:lnTo>
                <a:lnTo>
                  <a:pt x="816" y="0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54" y="0"/>
                </a:lnTo>
                <a:lnTo>
                  <a:pt x="966" y="0"/>
                </a:lnTo>
                <a:lnTo>
                  <a:pt x="972" y="0"/>
                </a:lnTo>
                <a:lnTo>
                  <a:pt x="984" y="0"/>
                </a:lnTo>
                <a:lnTo>
                  <a:pt x="990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  <a:lnTo>
                  <a:pt x="1320" y="0"/>
                </a:lnTo>
                <a:lnTo>
                  <a:pt x="1326" y="0"/>
                </a:lnTo>
                <a:lnTo>
                  <a:pt x="1332" y="0"/>
                </a:lnTo>
                <a:lnTo>
                  <a:pt x="1338" y="0"/>
                </a:lnTo>
                <a:lnTo>
                  <a:pt x="1344" y="0"/>
                </a:lnTo>
                <a:lnTo>
                  <a:pt x="1350" y="0"/>
                </a:lnTo>
                <a:lnTo>
                  <a:pt x="1356" y="0"/>
                </a:lnTo>
                <a:lnTo>
                  <a:pt x="1362" y="0"/>
                </a:lnTo>
                <a:lnTo>
                  <a:pt x="1368" y="0"/>
                </a:lnTo>
                <a:lnTo>
                  <a:pt x="1374" y="0"/>
                </a:lnTo>
                <a:lnTo>
                  <a:pt x="1380" y="0"/>
                </a:lnTo>
                <a:lnTo>
                  <a:pt x="1386" y="0"/>
                </a:lnTo>
                <a:lnTo>
                  <a:pt x="1392" y="0"/>
                </a:lnTo>
                <a:lnTo>
                  <a:pt x="1398" y="0"/>
                </a:lnTo>
                <a:lnTo>
                  <a:pt x="1404" y="0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0"/>
                </a:lnTo>
                <a:lnTo>
                  <a:pt x="1458" y="0"/>
                </a:lnTo>
                <a:lnTo>
                  <a:pt x="1464" y="0"/>
                </a:lnTo>
                <a:lnTo>
                  <a:pt x="1470" y="0"/>
                </a:lnTo>
                <a:lnTo>
                  <a:pt x="1476" y="0"/>
                </a:lnTo>
                <a:lnTo>
                  <a:pt x="1482" y="0"/>
                </a:lnTo>
                <a:lnTo>
                  <a:pt x="1488" y="0"/>
                </a:lnTo>
                <a:lnTo>
                  <a:pt x="1494" y="0"/>
                </a:lnTo>
                <a:lnTo>
                  <a:pt x="1500" y="0"/>
                </a:lnTo>
                <a:lnTo>
                  <a:pt x="150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rot="16200000">
            <a:off x="381420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5647680" y="876240"/>
            <a:ext cx="139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of 5-yr N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 flipV="1">
            <a:off x="2171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2171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2124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2124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20764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20764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2009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2009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1943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1943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21718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1718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0664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22006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 flipV="1">
            <a:off x="2486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486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V="1">
            <a:off x="2666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2666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2800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2800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 flipV="1">
            <a:off x="2905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2905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 flipV="1">
            <a:off x="29811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29811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 flipV="1">
            <a:off x="3114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114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 flipV="1">
            <a:off x="3162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162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3209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209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32097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32097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31046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238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 flipV="1">
            <a:off x="3524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3524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flipV="1">
            <a:off x="37051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37051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 flipV="1">
            <a:off x="3838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838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 flipV="1">
            <a:off x="3943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3943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4019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019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 flipV="1">
            <a:off x="4095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4095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4152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4152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4210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4210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165708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165708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176184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66960" y="4057560"/>
            <a:ext cx="2390760" cy="1800"/>
          </a:xfrm>
          <a:custGeom>
            <a:avLst/>
            <a:gdLst/>
            <a:ahLst/>
            <a:rect l="l" t="t" r="r" b="b"/>
            <a:pathLst>
              <a:path w="1506" h="0">
                <a:moveTo>
                  <a:pt x="0" y="0"/>
                </a:moveTo>
                <a:lnTo>
                  <a:pt x="192" y="0"/>
                </a:lnTo>
                <a:lnTo>
                  <a:pt x="312" y="0"/>
                </a:lnTo>
                <a:lnTo>
                  <a:pt x="390" y="0"/>
                </a:lnTo>
                <a:lnTo>
                  <a:pt x="456" y="0"/>
                </a:lnTo>
                <a:lnTo>
                  <a:pt x="504" y="0"/>
                </a:lnTo>
                <a:lnTo>
                  <a:pt x="552" y="0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0"/>
                </a:lnTo>
                <a:lnTo>
                  <a:pt x="702" y="0"/>
                </a:lnTo>
                <a:lnTo>
                  <a:pt x="726" y="0"/>
                </a:lnTo>
                <a:lnTo>
                  <a:pt x="750" y="0"/>
                </a:lnTo>
                <a:lnTo>
                  <a:pt x="768" y="0"/>
                </a:lnTo>
                <a:lnTo>
                  <a:pt x="786" y="0"/>
                </a:lnTo>
                <a:lnTo>
                  <a:pt x="804" y="0"/>
                </a:lnTo>
                <a:lnTo>
                  <a:pt x="816" y="0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54" y="0"/>
                </a:lnTo>
                <a:lnTo>
                  <a:pt x="966" y="0"/>
                </a:lnTo>
                <a:lnTo>
                  <a:pt x="972" y="0"/>
                </a:lnTo>
                <a:lnTo>
                  <a:pt x="984" y="0"/>
                </a:lnTo>
                <a:lnTo>
                  <a:pt x="990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  <a:lnTo>
                  <a:pt x="1320" y="0"/>
                </a:lnTo>
                <a:lnTo>
                  <a:pt x="1326" y="0"/>
                </a:lnTo>
                <a:lnTo>
                  <a:pt x="1332" y="0"/>
                </a:lnTo>
                <a:lnTo>
                  <a:pt x="1338" y="0"/>
                </a:lnTo>
                <a:lnTo>
                  <a:pt x="1344" y="0"/>
                </a:lnTo>
                <a:lnTo>
                  <a:pt x="1350" y="0"/>
                </a:lnTo>
                <a:lnTo>
                  <a:pt x="1356" y="0"/>
                </a:lnTo>
                <a:lnTo>
                  <a:pt x="1362" y="0"/>
                </a:lnTo>
                <a:lnTo>
                  <a:pt x="1368" y="0"/>
                </a:lnTo>
                <a:lnTo>
                  <a:pt x="1374" y="0"/>
                </a:lnTo>
                <a:lnTo>
                  <a:pt x="1380" y="0"/>
                </a:lnTo>
                <a:lnTo>
                  <a:pt x="1386" y="0"/>
                </a:lnTo>
                <a:lnTo>
                  <a:pt x="1392" y="0"/>
                </a:lnTo>
                <a:lnTo>
                  <a:pt x="1398" y="0"/>
                </a:lnTo>
                <a:lnTo>
                  <a:pt x="1404" y="0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0"/>
                </a:lnTo>
                <a:lnTo>
                  <a:pt x="1458" y="0"/>
                </a:lnTo>
                <a:lnTo>
                  <a:pt x="1464" y="0"/>
                </a:lnTo>
                <a:lnTo>
                  <a:pt x="1470" y="0"/>
                </a:lnTo>
                <a:lnTo>
                  <a:pt x="1476" y="0"/>
                </a:lnTo>
                <a:lnTo>
                  <a:pt x="1482" y="0"/>
                </a:lnTo>
                <a:lnTo>
                  <a:pt x="1488" y="0"/>
                </a:lnTo>
                <a:lnTo>
                  <a:pt x="1494" y="0"/>
                </a:lnTo>
                <a:lnTo>
                  <a:pt x="1500" y="0"/>
                </a:lnTo>
                <a:lnTo>
                  <a:pt x="150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66960" y="3990960"/>
            <a:ext cx="2266920" cy="1228680"/>
          </a:xfrm>
          <a:custGeom>
            <a:avLst/>
            <a:gdLst/>
            <a:ahLst/>
            <a:rect l="l" t="t" r="r" b="b"/>
            <a:pathLst>
              <a:path w="1428" h="774">
                <a:moveTo>
                  <a:pt x="0" y="24"/>
                </a:moveTo>
                <a:lnTo>
                  <a:pt x="192" y="42"/>
                </a:lnTo>
                <a:lnTo>
                  <a:pt x="312" y="42"/>
                </a:lnTo>
                <a:lnTo>
                  <a:pt x="390" y="42"/>
                </a:lnTo>
                <a:lnTo>
                  <a:pt x="456" y="42"/>
                </a:lnTo>
                <a:lnTo>
                  <a:pt x="504" y="42"/>
                </a:lnTo>
                <a:lnTo>
                  <a:pt x="552" y="42"/>
                </a:lnTo>
                <a:lnTo>
                  <a:pt x="588" y="42"/>
                </a:lnTo>
                <a:lnTo>
                  <a:pt x="624" y="42"/>
                </a:lnTo>
                <a:lnTo>
                  <a:pt x="654" y="42"/>
                </a:lnTo>
                <a:lnTo>
                  <a:pt x="678" y="42"/>
                </a:lnTo>
                <a:lnTo>
                  <a:pt x="702" y="42"/>
                </a:lnTo>
                <a:lnTo>
                  <a:pt x="726" y="42"/>
                </a:lnTo>
                <a:lnTo>
                  <a:pt x="750" y="42"/>
                </a:lnTo>
                <a:lnTo>
                  <a:pt x="768" y="42"/>
                </a:lnTo>
                <a:lnTo>
                  <a:pt x="786" y="42"/>
                </a:lnTo>
                <a:lnTo>
                  <a:pt x="804" y="42"/>
                </a:lnTo>
                <a:lnTo>
                  <a:pt x="816" y="42"/>
                </a:lnTo>
                <a:lnTo>
                  <a:pt x="834" y="42"/>
                </a:lnTo>
                <a:lnTo>
                  <a:pt x="846" y="42"/>
                </a:lnTo>
                <a:lnTo>
                  <a:pt x="864" y="42"/>
                </a:lnTo>
                <a:lnTo>
                  <a:pt x="876" y="42"/>
                </a:lnTo>
                <a:lnTo>
                  <a:pt x="888" y="42"/>
                </a:lnTo>
                <a:lnTo>
                  <a:pt x="900" y="42"/>
                </a:lnTo>
                <a:lnTo>
                  <a:pt x="912" y="42"/>
                </a:lnTo>
                <a:lnTo>
                  <a:pt x="924" y="42"/>
                </a:lnTo>
                <a:lnTo>
                  <a:pt x="936" y="42"/>
                </a:lnTo>
                <a:lnTo>
                  <a:pt x="942" y="36"/>
                </a:lnTo>
                <a:lnTo>
                  <a:pt x="954" y="42"/>
                </a:lnTo>
                <a:lnTo>
                  <a:pt x="966" y="36"/>
                </a:lnTo>
                <a:lnTo>
                  <a:pt x="972" y="36"/>
                </a:lnTo>
                <a:lnTo>
                  <a:pt x="984" y="36"/>
                </a:lnTo>
                <a:lnTo>
                  <a:pt x="990" y="36"/>
                </a:lnTo>
                <a:lnTo>
                  <a:pt x="1002" y="36"/>
                </a:lnTo>
                <a:lnTo>
                  <a:pt x="1008" y="36"/>
                </a:lnTo>
                <a:lnTo>
                  <a:pt x="1014" y="36"/>
                </a:lnTo>
                <a:lnTo>
                  <a:pt x="1026" y="36"/>
                </a:lnTo>
                <a:lnTo>
                  <a:pt x="1032" y="36"/>
                </a:lnTo>
                <a:lnTo>
                  <a:pt x="1038" y="36"/>
                </a:lnTo>
                <a:lnTo>
                  <a:pt x="1044" y="36"/>
                </a:lnTo>
                <a:lnTo>
                  <a:pt x="1050" y="36"/>
                </a:lnTo>
                <a:lnTo>
                  <a:pt x="1062" y="36"/>
                </a:lnTo>
                <a:lnTo>
                  <a:pt x="1068" y="36"/>
                </a:lnTo>
                <a:lnTo>
                  <a:pt x="1074" y="36"/>
                </a:lnTo>
                <a:lnTo>
                  <a:pt x="1080" y="36"/>
                </a:lnTo>
                <a:lnTo>
                  <a:pt x="1086" y="36"/>
                </a:lnTo>
                <a:lnTo>
                  <a:pt x="1092" y="36"/>
                </a:lnTo>
                <a:lnTo>
                  <a:pt x="1098" y="36"/>
                </a:lnTo>
                <a:lnTo>
                  <a:pt x="1104" y="30"/>
                </a:lnTo>
                <a:lnTo>
                  <a:pt x="1110" y="30"/>
                </a:lnTo>
                <a:lnTo>
                  <a:pt x="1116" y="30"/>
                </a:lnTo>
                <a:lnTo>
                  <a:pt x="1122" y="30"/>
                </a:lnTo>
                <a:lnTo>
                  <a:pt x="1128" y="30"/>
                </a:lnTo>
                <a:lnTo>
                  <a:pt x="1134" y="30"/>
                </a:lnTo>
                <a:lnTo>
                  <a:pt x="1140" y="30"/>
                </a:lnTo>
                <a:lnTo>
                  <a:pt x="1146" y="30"/>
                </a:lnTo>
                <a:lnTo>
                  <a:pt x="1152" y="30"/>
                </a:lnTo>
                <a:lnTo>
                  <a:pt x="1158" y="24"/>
                </a:lnTo>
                <a:lnTo>
                  <a:pt x="1164" y="24"/>
                </a:lnTo>
                <a:lnTo>
                  <a:pt x="1170" y="24"/>
                </a:lnTo>
                <a:lnTo>
                  <a:pt x="1176" y="24"/>
                </a:lnTo>
                <a:lnTo>
                  <a:pt x="1182" y="24"/>
                </a:lnTo>
                <a:lnTo>
                  <a:pt x="1188" y="18"/>
                </a:lnTo>
                <a:lnTo>
                  <a:pt x="1194" y="18"/>
                </a:lnTo>
                <a:lnTo>
                  <a:pt x="1200" y="18"/>
                </a:lnTo>
                <a:lnTo>
                  <a:pt x="1206" y="18"/>
                </a:lnTo>
                <a:lnTo>
                  <a:pt x="1212" y="12"/>
                </a:lnTo>
                <a:lnTo>
                  <a:pt x="1218" y="18"/>
                </a:lnTo>
                <a:lnTo>
                  <a:pt x="1224" y="12"/>
                </a:lnTo>
                <a:lnTo>
                  <a:pt x="1230" y="6"/>
                </a:lnTo>
                <a:lnTo>
                  <a:pt x="1236" y="6"/>
                </a:lnTo>
                <a:lnTo>
                  <a:pt x="1242" y="6"/>
                </a:lnTo>
                <a:lnTo>
                  <a:pt x="1248" y="6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6"/>
                </a:lnTo>
                <a:lnTo>
                  <a:pt x="1278" y="12"/>
                </a:lnTo>
                <a:lnTo>
                  <a:pt x="1284" y="18"/>
                </a:lnTo>
                <a:lnTo>
                  <a:pt x="1284" y="24"/>
                </a:lnTo>
                <a:lnTo>
                  <a:pt x="1290" y="30"/>
                </a:lnTo>
                <a:lnTo>
                  <a:pt x="1290" y="36"/>
                </a:lnTo>
                <a:lnTo>
                  <a:pt x="1296" y="48"/>
                </a:lnTo>
                <a:lnTo>
                  <a:pt x="1296" y="60"/>
                </a:lnTo>
                <a:lnTo>
                  <a:pt x="1302" y="78"/>
                </a:lnTo>
                <a:lnTo>
                  <a:pt x="1302" y="90"/>
                </a:lnTo>
                <a:lnTo>
                  <a:pt x="1308" y="108"/>
                </a:lnTo>
                <a:lnTo>
                  <a:pt x="1308" y="126"/>
                </a:lnTo>
                <a:lnTo>
                  <a:pt x="1314" y="144"/>
                </a:lnTo>
                <a:lnTo>
                  <a:pt x="1314" y="162"/>
                </a:lnTo>
                <a:lnTo>
                  <a:pt x="1320" y="180"/>
                </a:lnTo>
                <a:lnTo>
                  <a:pt x="1320" y="216"/>
                </a:lnTo>
                <a:lnTo>
                  <a:pt x="1326" y="234"/>
                </a:lnTo>
                <a:lnTo>
                  <a:pt x="1326" y="252"/>
                </a:lnTo>
                <a:lnTo>
                  <a:pt x="1332" y="276"/>
                </a:lnTo>
                <a:lnTo>
                  <a:pt x="1332" y="294"/>
                </a:lnTo>
                <a:lnTo>
                  <a:pt x="1338" y="306"/>
                </a:lnTo>
                <a:lnTo>
                  <a:pt x="1338" y="348"/>
                </a:lnTo>
                <a:lnTo>
                  <a:pt x="1344" y="366"/>
                </a:lnTo>
                <a:lnTo>
                  <a:pt x="1344" y="378"/>
                </a:lnTo>
                <a:lnTo>
                  <a:pt x="1350" y="396"/>
                </a:lnTo>
                <a:lnTo>
                  <a:pt x="1350" y="414"/>
                </a:lnTo>
                <a:lnTo>
                  <a:pt x="1356" y="432"/>
                </a:lnTo>
                <a:lnTo>
                  <a:pt x="1356" y="456"/>
                </a:lnTo>
                <a:lnTo>
                  <a:pt x="1362" y="474"/>
                </a:lnTo>
                <a:lnTo>
                  <a:pt x="1362" y="498"/>
                </a:lnTo>
                <a:lnTo>
                  <a:pt x="1368" y="510"/>
                </a:lnTo>
                <a:lnTo>
                  <a:pt x="1368" y="528"/>
                </a:lnTo>
                <a:lnTo>
                  <a:pt x="1374" y="534"/>
                </a:lnTo>
                <a:lnTo>
                  <a:pt x="1374" y="558"/>
                </a:lnTo>
                <a:lnTo>
                  <a:pt x="1380" y="570"/>
                </a:lnTo>
                <a:lnTo>
                  <a:pt x="1380" y="594"/>
                </a:lnTo>
                <a:lnTo>
                  <a:pt x="1386" y="606"/>
                </a:lnTo>
                <a:lnTo>
                  <a:pt x="1386" y="612"/>
                </a:lnTo>
                <a:lnTo>
                  <a:pt x="1392" y="624"/>
                </a:lnTo>
                <a:lnTo>
                  <a:pt x="1392" y="642"/>
                </a:lnTo>
                <a:lnTo>
                  <a:pt x="1398" y="654"/>
                </a:lnTo>
                <a:lnTo>
                  <a:pt x="1398" y="672"/>
                </a:lnTo>
                <a:lnTo>
                  <a:pt x="1404" y="678"/>
                </a:lnTo>
                <a:lnTo>
                  <a:pt x="1404" y="690"/>
                </a:lnTo>
                <a:lnTo>
                  <a:pt x="1410" y="696"/>
                </a:lnTo>
                <a:lnTo>
                  <a:pt x="1410" y="714"/>
                </a:lnTo>
                <a:lnTo>
                  <a:pt x="1416" y="720"/>
                </a:lnTo>
                <a:lnTo>
                  <a:pt x="1416" y="732"/>
                </a:lnTo>
                <a:lnTo>
                  <a:pt x="1422" y="744"/>
                </a:lnTo>
                <a:lnTo>
                  <a:pt x="1422" y="756"/>
                </a:lnTo>
                <a:lnTo>
                  <a:pt x="1428" y="762"/>
                </a:lnTo>
                <a:lnTo>
                  <a:pt x="1428" y="77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4133880" y="5219640"/>
            <a:ext cx="123840" cy="247680"/>
          </a:xfrm>
          <a:custGeom>
            <a:avLst/>
            <a:gdLst/>
            <a:ahLst/>
            <a:rect l="l" t="t" r="r" b="b"/>
            <a:pathLst>
              <a:path w="78" h="156">
                <a:moveTo>
                  <a:pt x="0" y="0"/>
                </a:moveTo>
                <a:lnTo>
                  <a:pt x="6" y="6"/>
                </a:lnTo>
                <a:lnTo>
                  <a:pt x="6" y="18"/>
                </a:lnTo>
                <a:lnTo>
                  <a:pt x="12" y="24"/>
                </a:lnTo>
                <a:lnTo>
                  <a:pt x="12" y="30"/>
                </a:lnTo>
                <a:lnTo>
                  <a:pt x="18" y="36"/>
                </a:lnTo>
                <a:lnTo>
                  <a:pt x="18" y="48"/>
                </a:lnTo>
                <a:lnTo>
                  <a:pt x="24" y="54"/>
                </a:lnTo>
                <a:lnTo>
                  <a:pt x="24" y="66"/>
                </a:lnTo>
                <a:lnTo>
                  <a:pt x="30" y="72"/>
                </a:lnTo>
                <a:lnTo>
                  <a:pt x="30" y="78"/>
                </a:lnTo>
                <a:lnTo>
                  <a:pt x="36" y="84"/>
                </a:lnTo>
                <a:lnTo>
                  <a:pt x="36" y="90"/>
                </a:lnTo>
                <a:lnTo>
                  <a:pt x="42" y="96"/>
                </a:lnTo>
                <a:lnTo>
                  <a:pt x="42" y="102"/>
                </a:lnTo>
                <a:lnTo>
                  <a:pt x="54" y="114"/>
                </a:lnTo>
                <a:lnTo>
                  <a:pt x="54" y="126"/>
                </a:lnTo>
                <a:lnTo>
                  <a:pt x="66" y="138"/>
                </a:lnTo>
                <a:lnTo>
                  <a:pt x="66" y="144"/>
                </a:lnTo>
                <a:lnTo>
                  <a:pt x="78" y="156"/>
                </a:lnTo>
                <a:lnTo>
                  <a:pt x="72" y="1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rot="16200000">
            <a:off x="53460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2484360" y="3467160"/>
            <a:ext cx="11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after 5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5448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5448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5400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5400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5353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5353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5286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5286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5219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5219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448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5448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534312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54774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5762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5762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5943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5943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 flipV="1">
            <a:off x="6076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076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6181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181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V="1">
            <a:off x="6257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6257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639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639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 flipV="1">
            <a:off x="6438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6438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V="1">
            <a:off x="6486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486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 flipV="1">
            <a:off x="6486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6486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6381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515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800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800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V="1">
            <a:off x="698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698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7115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7115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flipV="1">
            <a:off x="7219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7219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7296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7296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flipV="1">
            <a:off x="7372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7372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flipV="1">
            <a:off x="7429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7429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flipV="1">
            <a:off x="7486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7486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000400" y="54957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038200" y="511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503820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497160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5143680" y="3753000"/>
            <a:ext cx="2228760" cy="1733400"/>
          </a:xfrm>
          <a:custGeom>
            <a:avLst/>
            <a:gdLst/>
            <a:ahLst/>
            <a:rect l="l" t="t" r="r" b="b"/>
            <a:pathLst>
              <a:path w="1404" h="1092">
                <a:moveTo>
                  <a:pt x="0" y="948"/>
                </a:moveTo>
                <a:lnTo>
                  <a:pt x="192" y="1044"/>
                </a:lnTo>
                <a:lnTo>
                  <a:pt x="312" y="1056"/>
                </a:lnTo>
                <a:lnTo>
                  <a:pt x="390" y="1062"/>
                </a:lnTo>
                <a:lnTo>
                  <a:pt x="456" y="1068"/>
                </a:lnTo>
                <a:lnTo>
                  <a:pt x="504" y="1074"/>
                </a:lnTo>
                <a:lnTo>
                  <a:pt x="552" y="1074"/>
                </a:lnTo>
                <a:lnTo>
                  <a:pt x="588" y="1074"/>
                </a:lnTo>
                <a:lnTo>
                  <a:pt x="624" y="1080"/>
                </a:lnTo>
                <a:lnTo>
                  <a:pt x="654" y="1080"/>
                </a:lnTo>
                <a:lnTo>
                  <a:pt x="678" y="1080"/>
                </a:lnTo>
                <a:lnTo>
                  <a:pt x="702" y="1086"/>
                </a:lnTo>
                <a:lnTo>
                  <a:pt x="726" y="1086"/>
                </a:lnTo>
                <a:lnTo>
                  <a:pt x="750" y="1086"/>
                </a:lnTo>
                <a:lnTo>
                  <a:pt x="768" y="1086"/>
                </a:lnTo>
                <a:lnTo>
                  <a:pt x="786" y="1092"/>
                </a:lnTo>
                <a:lnTo>
                  <a:pt x="804" y="1086"/>
                </a:lnTo>
                <a:lnTo>
                  <a:pt x="816" y="1092"/>
                </a:lnTo>
                <a:lnTo>
                  <a:pt x="834" y="1092"/>
                </a:lnTo>
                <a:lnTo>
                  <a:pt x="846" y="1092"/>
                </a:lnTo>
                <a:lnTo>
                  <a:pt x="864" y="1092"/>
                </a:lnTo>
                <a:lnTo>
                  <a:pt x="876" y="1092"/>
                </a:lnTo>
                <a:lnTo>
                  <a:pt x="888" y="1092"/>
                </a:lnTo>
                <a:lnTo>
                  <a:pt x="900" y="1092"/>
                </a:lnTo>
                <a:lnTo>
                  <a:pt x="912" y="1092"/>
                </a:lnTo>
                <a:lnTo>
                  <a:pt x="924" y="1086"/>
                </a:lnTo>
                <a:lnTo>
                  <a:pt x="936" y="1092"/>
                </a:lnTo>
                <a:lnTo>
                  <a:pt x="942" y="1086"/>
                </a:lnTo>
                <a:lnTo>
                  <a:pt x="954" y="1086"/>
                </a:lnTo>
                <a:lnTo>
                  <a:pt x="966" y="1086"/>
                </a:lnTo>
                <a:lnTo>
                  <a:pt x="972" y="1086"/>
                </a:lnTo>
                <a:lnTo>
                  <a:pt x="984" y="1086"/>
                </a:lnTo>
                <a:lnTo>
                  <a:pt x="990" y="1080"/>
                </a:lnTo>
                <a:lnTo>
                  <a:pt x="1002" y="1080"/>
                </a:lnTo>
                <a:lnTo>
                  <a:pt x="1008" y="1080"/>
                </a:lnTo>
                <a:lnTo>
                  <a:pt x="1014" y="1074"/>
                </a:lnTo>
                <a:lnTo>
                  <a:pt x="1026" y="1074"/>
                </a:lnTo>
                <a:lnTo>
                  <a:pt x="1032" y="1068"/>
                </a:lnTo>
                <a:lnTo>
                  <a:pt x="1038" y="1068"/>
                </a:lnTo>
                <a:lnTo>
                  <a:pt x="1044" y="1062"/>
                </a:lnTo>
                <a:lnTo>
                  <a:pt x="1050" y="1056"/>
                </a:lnTo>
                <a:lnTo>
                  <a:pt x="1062" y="1056"/>
                </a:lnTo>
                <a:lnTo>
                  <a:pt x="1068" y="1050"/>
                </a:lnTo>
                <a:lnTo>
                  <a:pt x="1074" y="1044"/>
                </a:lnTo>
                <a:lnTo>
                  <a:pt x="1080" y="1044"/>
                </a:lnTo>
                <a:lnTo>
                  <a:pt x="1086" y="1038"/>
                </a:lnTo>
                <a:lnTo>
                  <a:pt x="1092" y="1032"/>
                </a:lnTo>
                <a:lnTo>
                  <a:pt x="1098" y="1026"/>
                </a:lnTo>
                <a:lnTo>
                  <a:pt x="1104" y="1026"/>
                </a:lnTo>
                <a:lnTo>
                  <a:pt x="1110" y="1014"/>
                </a:lnTo>
                <a:lnTo>
                  <a:pt x="1116" y="1008"/>
                </a:lnTo>
                <a:lnTo>
                  <a:pt x="1122" y="1002"/>
                </a:lnTo>
                <a:lnTo>
                  <a:pt x="1128" y="990"/>
                </a:lnTo>
                <a:lnTo>
                  <a:pt x="1134" y="978"/>
                </a:lnTo>
                <a:lnTo>
                  <a:pt x="1140" y="972"/>
                </a:lnTo>
                <a:lnTo>
                  <a:pt x="1146" y="960"/>
                </a:lnTo>
                <a:lnTo>
                  <a:pt x="1152" y="954"/>
                </a:lnTo>
                <a:lnTo>
                  <a:pt x="1158" y="942"/>
                </a:lnTo>
                <a:lnTo>
                  <a:pt x="1158" y="936"/>
                </a:lnTo>
                <a:lnTo>
                  <a:pt x="1164" y="924"/>
                </a:lnTo>
                <a:lnTo>
                  <a:pt x="1170" y="906"/>
                </a:lnTo>
                <a:lnTo>
                  <a:pt x="1176" y="900"/>
                </a:lnTo>
                <a:lnTo>
                  <a:pt x="1182" y="888"/>
                </a:lnTo>
                <a:lnTo>
                  <a:pt x="1182" y="870"/>
                </a:lnTo>
                <a:lnTo>
                  <a:pt x="1188" y="858"/>
                </a:lnTo>
                <a:lnTo>
                  <a:pt x="1194" y="840"/>
                </a:lnTo>
                <a:lnTo>
                  <a:pt x="1194" y="828"/>
                </a:lnTo>
                <a:lnTo>
                  <a:pt x="1200" y="810"/>
                </a:lnTo>
                <a:lnTo>
                  <a:pt x="1206" y="798"/>
                </a:lnTo>
                <a:lnTo>
                  <a:pt x="1206" y="780"/>
                </a:lnTo>
                <a:lnTo>
                  <a:pt x="1212" y="762"/>
                </a:lnTo>
                <a:lnTo>
                  <a:pt x="1218" y="738"/>
                </a:lnTo>
                <a:lnTo>
                  <a:pt x="1218" y="720"/>
                </a:lnTo>
                <a:lnTo>
                  <a:pt x="1224" y="702"/>
                </a:lnTo>
                <a:lnTo>
                  <a:pt x="1230" y="678"/>
                </a:lnTo>
                <a:lnTo>
                  <a:pt x="1230" y="654"/>
                </a:lnTo>
                <a:lnTo>
                  <a:pt x="1236" y="636"/>
                </a:lnTo>
                <a:lnTo>
                  <a:pt x="1236" y="606"/>
                </a:lnTo>
                <a:lnTo>
                  <a:pt x="1242" y="582"/>
                </a:lnTo>
                <a:lnTo>
                  <a:pt x="1248" y="558"/>
                </a:lnTo>
                <a:lnTo>
                  <a:pt x="1248" y="528"/>
                </a:lnTo>
                <a:lnTo>
                  <a:pt x="1254" y="504"/>
                </a:lnTo>
                <a:lnTo>
                  <a:pt x="1254" y="480"/>
                </a:lnTo>
                <a:lnTo>
                  <a:pt x="1260" y="444"/>
                </a:lnTo>
                <a:lnTo>
                  <a:pt x="1266" y="420"/>
                </a:lnTo>
                <a:lnTo>
                  <a:pt x="1266" y="384"/>
                </a:lnTo>
                <a:lnTo>
                  <a:pt x="1272" y="354"/>
                </a:lnTo>
                <a:lnTo>
                  <a:pt x="1272" y="330"/>
                </a:lnTo>
                <a:lnTo>
                  <a:pt x="1278" y="300"/>
                </a:lnTo>
                <a:lnTo>
                  <a:pt x="1278" y="276"/>
                </a:lnTo>
                <a:lnTo>
                  <a:pt x="1284" y="252"/>
                </a:lnTo>
                <a:lnTo>
                  <a:pt x="1284" y="228"/>
                </a:lnTo>
                <a:lnTo>
                  <a:pt x="1290" y="168"/>
                </a:lnTo>
                <a:lnTo>
                  <a:pt x="1290" y="144"/>
                </a:lnTo>
                <a:lnTo>
                  <a:pt x="1296" y="150"/>
                </a:lnTo>
                <a:lnTo>
                  <a:pt x="1296" y="126"/>
                </a:lnTo>
                <a:lnTo>
                  <a:pt x="1302" y="96"/>
                </a:lnTo>
                <a:lnTo>
                  <a:pt x="1302" y="72"/>
                </a:lnTo>
                <a:lnTo>
                  <a:pt x="1314" y="54"/>
                </a:lnTo>
                <a:lnTo>
                  <a:pt x="1314" y="24"/>
                </a:lnTo>
                <a:lnTo>
                  <a:pt x="1320" y="30"/>
                </a:lnTo>
                <a:lnTo>
                  <a:pt x="1320" y="0"/>
                </a:lnTo>
                <a:lnTo>
                  <a:pt x="1326" y="0"/>
                </a:lnTo>
                <a:lnTo>
                  <a:pt x="1332" y="0"/>
                </a:lnTo>
                <a:lnTo>
                  <a:pt x="1338" y="0"/>
                </a:lnTo>
                <a:lnTo>
                  <a:pt x="1338" y="30"/>
                </a:lnTo>
                <a:lnTo>
                  <a:pt x="1338" y="0"/>
                </a:lnTo>
                <a:lnTo>
                  <a:pt x="1344" y="30"/>
                </a:lnTo>
                <a:lnTo>
                  <a:pt x="1350" y="30"/>
                </a:lnTo>
                <a:lnTo>
                  <a:pt x="1356" y="60"/>
                </a:lnTo>
                <a:lnTo>
                  <a:pt x="1356" y="90"/>
                </a:lnTo>
                <a:lnTo>
                  <a:pt x="1362" y="90"/>
                </a:lnTo>
                <a:lnTo>
                  <a:pt x="1362" y="126"/>
                </a:lnTo>
                <a:lnTo>
                  <a:pt x="1368" y="90"/>
                </a:lnTo>
                <a:lnTo>
                  <a:pt x="1368" y="126"/>
                </a:lnTo>
                <a:lnTo>
                  <a:pt x="1374" y="126"/>
                </a:lnTo>
                <a:lnTo>
                  <a:pt x="1374" y="156"/>
                </a:lnTo>
                <a:lnTo>
                  <a:pt x="1380" y="156"/>
                </a:lnTo>
                <a:lnTo>
                  <a:pt x="1380" y="186"/>
                </a:lnTo>
                <a:lnTo>
                  <a:pt x="1386" y="216"/>
                </a:lnTo>
                <a:lnTo>
                  <a:pt x="1386" y="186"/>
                </a:lnTo>
                <a:lnTo>
                  <a:pt x="1392" y="216"/>
                </a:lnTo>
                <a:lnTo>
                  <a:pt x="1392" y="246"/>
                </a:lnTo>
                <a:lnTo>
                  <a:pt x="1392" y="216"/>
                </a:lnTo>
                <a:lnTo>
                  <a:pt x="1398" y="246"/>
                </a:lnTo>
                <a:lnTo>
                  <a:pt x="1398" y="282"/>
                </a:lnTo>
                <a:lnTo>
                  <a:pt x="1398" y="246"/>
                </a:lnTo>
                <a:lnTo>
                  <a:pt x="1404" y="2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7372440" y="4200480"/>
            <a:ext cx="162000" cy="542880"/>
          </a:xfrm>
          <a:custGeom>
            <a:avLst/>
            <a:gdLst/>
            <a:ahLst/>
            <a:rect l="l" t="t" r="r" b="b"/>
            <a:pathLst>
              <a:path w="102" h="342">
                <a:moveTo>
                  <a:pt x="0" y="0"/>
                </a:moveTo>
                <a:lnTo>
                  <a:pt x="6" y="30"/>
                </a:lnTo>
                <a:lnTo>
                  <a:pt x="12" y="30"/>
                </a:lnTo>
                <a:lnTo>
                  <a:pt x="12" y="60"/>
                </a:lnTo>
                <a:lnTo>
                  <a:pt x="18" y="60"/>
                </a:lnTo>
                <a:lnTo>
                  <a:pt x="18" y="90"/>
                </a:lnTo>
                <a:lnTo>
                  <a:pt x="24" y="90"/>
                </a:lnTo>
                <a:lnTo>
                  <a:pt x="24" y="126"/>
                </a:lnTo>
                <a:lnTo>
                  <a:pt x="30" y="126"/>
                </a:lnTo>
                <a:lnTo>
                  <a:pt x="30" y="156"/>
                </a:lnTo>
                <a:lnTo>
                  <a:pt x="30" y="126"/>
                </a:lnTo>
                <a:lnTo>
                  <a:pt x="36" y="156"/>
                </a:lnTo>
                <a:lnTo>
                  <a:pt x="42" y="186"/>
                </a:lnTo>
                <a:lnTo>
                  <a:pt x="42" y="156"/>
                </a:lnTo>
                <a:lnTo>
                  <a:pt x="42" y="186"/>
                </a:lnTo>
                <a:lnTo>
                  <a:pt x="48" y="186"/>
                </a:lnTo>
                <a:lnTo>
                  <a:pt x="48" y="216"/>
                </a:lnTo>
                <a:lnTo>
                  <a:pt x="48" y="186"/>
                </a:lnTo>
                <a:lnTo>
                  <a:pt x="54" y="186"/>
                </a:lnTo>
                <a:lnTo>
                  <a:pt x="54" y="246"/>
                </a:lnTo>
                <a:lnTo>
                  <a:pt x="60" y="246"/>
                </a:lnTo>
                <a:lnTo>
                  <a:pt x="60" y="216"/>
                </a:lnTo>
                <a:lnTo>
                  <a:pt x="60" y="246"/>
                </a:lnTo>
                <a:lnTo>
                  <a:pt x="66" y="246"/>
                </a:lnTo>
                <a:lnTo>
                  <a:pt x="66" y="282"/>
                </a:lnTo>
                <a:lnTo>
                  <a:pt x="72" y="246"/>
                </a:lnTo>
                <a:lnTo>
                  <a:pt x="72" y="282"/>
                </a:lnTo>
                <a:lnTo>
                  <a:pt x="78" y="282"/>
                </a:lnTo>
                <a:lnTo>
                  <a:pt x="78" y="312"/>
                </a:lnTo>
                <a:lnTo>
                  <a:pt x="78" y="282"/>
                </a:lnTo>
                <a:lnTo>
                  <a:pt x="84" y="282"/>
                </a:lnTo>
                <a:lnTo>
                  <a:pt x="84" y="312"/>
                </a:lnTo>
                <a:lnTo>
                  <a:pt x="90" y="312"/>
                </a:lnTo>
                <a:lnTo>
                  <a:pt x="90" y="342"/>
                </a:lnTo>
                <a:lnTo>
                  <a:pt x="90" y="312"/>
                </a:lnTo>
                <a:lnTo>
                  <a:pt x="96" y="312"/>
                </a:lnTo>
                <a:lnTo>
                  <a:pt x="96" y="342"/>
                </a:lnTo>
                <a:lnTo>
                  <a:pt x="102" y="3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5143680" y="5191200"/>
            <a:ext cx="2390760" cy="1440"/>
          </a:xfrm>
          <a:custGeom>
            <a:avLst/>
            <a:gdLst/>
            <a:ahLst/>
            <a:rect l="l" t="t" r="r" b="b"/>
            <a:pathLst>
              <a:path w="1506" h="0">
                <a:moveTo>
                  <a:pt x="0" y="0"/>
                </a:moveTo>
                <a:lnTo>
                  <a:pt x="192" y="0"/>
                </a:lnTo>
                <a:lnTo>
                  <a:pt x="312" y="0"/>
                </a:lnTo>
                <a:lnTo>
                  <a:pt x="390" y="0"/>
                </a:lnTo>
                <a:lnTo>
                  <a:pt x="456" y="0"/>
                </a:lnTo>
                <a:lnTo>
                  <a:pt x="504" y="0"/>
                </a:lnTo>
                <a:lnTo>
                  <a:pt x="552" y="0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0"/>
                </a:lnTo>
                <a:lnTo>
                  <a:pt x="702" y="0"/>
                </a:lnTo>
                <a:lnTo>
                  <a:pt x="726" y="0"/>
                </a:lnTo>
                <a:lnTo>
                  <a:pt x="750" y="0"/>
                </a:lnTo>
                <a:lnTo>
                  <a:pt x="768" y="0"/>
                </a:lnTo>
                <a:lnTo>
                  <a:pt x="786" y="0"/>
                </a:lnTo>
                <a:lnTo>
                  <a:pt x="804" y="0"/>
                </a:lnTo>
                <a:lnTo>
                  <a:pt x="816" y="0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54" y="0"/>
                </a:lnTo>
                <a:lnTo>
                  <a:pt x="966" y="0"/>
                </a:lnTo>
                <a:lnTo>
                  <a:pt x="972" y="0"/>
                </a:lnTo>
                <a:lnTo>
                  <a:pt x="984" y="0"/>
                </a:lnTo>
                <a:lnTo>
                  <a:pt x="990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  <a:lnTo>
                  <a:pt x="1320" y="0"/>
                </a:lnTo>
                <a:lnTo>
                  <a:pt x="1326" y="0"/>
                </a:lnTo>
                <a:lnTo>
                  <a:pt x="1332" y="0"/>
                </a:lnTo>
                <a:lnTo>
                  <a:pt x="1338" y="0"/>
                </a:lnTo>
                <a:lnTo>
                  <a:pt x="1344" y="0"/>
                </a:lnTo>
                <a:lnTo>
                  <a:pt x="1350" y="0"/>
                </a:lnTo>
                <a:lnTo>
                  <a:pt x="1356" y="0"/>
                </a:lnTo>
                <a:lnTo>
                  <a:pt x="1362" y="0"/>
                </a:lnTo>
                <a:lnTo>
                  <a:pt x="1368" y="0"/>
                </a:lnTo>
                <a:lnTo>
                  <a:pt x="1374" y="0"/>
                </a:lnTo>
                <a:lnTo>
                  <a:pt x="1380" y="0"/>
                </a:lnTo>
                <a:lnTo>
                  <a:pt x="1386" y="0"/>
                </a:lnTo>
                <a:lnTo>
                  <a:pt x="1392" y="0"/>
                </a:lnTo>
                <a:lnTo>
                  <a:pt x="1398" y="0"/>
                </a:lnTo>
                <a:lnTo>
                  <a:pt x="1404" y="0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0"/>
                </a:lnTo>
                <a:lnTo>
                  <a:pt x="1458" y="0"/>
                </a:lnTo>
                <a:lnTo>
                  <a:pt x="1464" y="0"/>
                </a:lnTo>
                <a:lnTo>
                  <a:pt x="1470" y="0"/>
                </a:lnTo>
                <a:lnTo>
                  <a:pt x="1476" y="0"/>
                </a:lnTo>
                <a:lnTo>
                  <a:pt x="1482" y="0"/>
                </a:lnTo>
                <a:lnTo>
                  <a:pt x="1488" y="0"/>
                </a:lnTo>
                <a:lnTo>
                  <a:pt x="1494" y="0"/>
                </a:lnTo>
                <a:lnTo>
                  <a:pt x="1500" y="0"/>
                </a:lnTo>
                <a:lnTo>
                  <a:pt x="150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 rot="16200000">
            <a:off x="385236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733000" y="3467160"/>
            <a:ext cx="121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mass after 5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2992320" y="22860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 flipV="1">
            <a:off x="2171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2171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2124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124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 flipV="1">
            <a:off x="20764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20764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 flipV="1">
            <a:off x="2009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2009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 flipV="1">
            <a:off x="1943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943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 flipV="1">
            <a:off x="21718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21718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20664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22006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2486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2486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2666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2666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 flipV="1">
            <a:off x="2800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2800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 flipV="1">
            <a:off x="2905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905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29811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29811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3114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3114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3162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3162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3209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3209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 flipV="1">
            <a:off x="32097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2097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1046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3238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 flipV="1">
            <a:off x="3524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3524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 flipV="1">
            <a:off x="37051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37051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3838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838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 flipV="1">
            <a:off x="3943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3943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 flipV="1">
            <a:off x="4019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4019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4095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4095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4152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4152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4210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4210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17460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676160" y="2523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1676160" y="2143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676160" y="177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1676160" y="1390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167616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2171880" y="2286000"/>
            <a:ext cx="2085840" cy="666720"/>
          </a:xfrm>
          <a:custGeom>
            <a:avLst/>
            <a:gdLst/>
            <a:ahLst/>
            <a:rect l="l" t="t" r="r" b="b"/>
            <a:pathLst>
              <a:path w="1314" h="420">
                <a:moveTo>
                  <a:pt x="0" y="420"/>
                </a:moveTo>
                <a:lnTo>
                  <a:pt x="120" y="420"/>
                </a:lnTo>
                <a:lnTo>
                  <a:pt x="198" y="420"/>
                </a:lnTo>
                <a:lnTo>
                  <a:pt x="264" y="420"/>
                </a:lnTo>
                <a:lnTo>
                  <a:pt x="312" y="420"/>
                </a:lnTo>
                <a:lnTo>
                  <a:pt x="360" y="420"/>
                </a:lnTo>
                <a:lnTo>
                  <a:pt x="396" y="420"/>
                </a:lnTo>
                <a:lnTo>
                  <a:pt x="432" y="420"/>
                </a:lnTo>
                <a:lnTo>
                  <a:pt x="462" y="420"/>
                </a:lnTo>
                <a:lnTo>
                  <a:pt x="486" y="414"/>
                </a:lnTo>
                <a:lnTo>
                  <a:pt x="510" y="414"/>
                </a:lnTo>
                <a:lnTo>
                  <a:pt x="534" y="414"/>
                </a:lnTo>
                <a:lnTo>
                  <a:pt x="558" y="414"/>
                </a:lnTo>
                <a:lnTo>
                  <a:pt x="576" y="414"/>
                </a:lnTo>
                <a:lnTo>
                  <a:pt x="594" y="414"/>
                </a:lnTo>
                <a:lnTo>
                  <a:pt x="612" y="414"/>
                </a:lnTo>
                <a:lnTo>
                  <a:pt x="624" y="414"/>
                </a:lnTo>
                <a:lnTo>
                  <a:pt x="642" y="414"/>
                </a:lnTo>
                <a:lnTo>
                  <a:pt x="654" y="414"/>
                </a:lnTo>
                <a:lnTo>
                  <a:pt x="672" y="408"/>
                </a:lnTo>
                <a:lnTo>
                  <a:pt x="684" y="408"/>
                </a:lnTo>
                <a:lnTo>
                  <a:pt x="696" y="408"/>
                </a:lnTo>
                <a:lnTo>
                  <a:pt x="708" y="408"/>
                </a:lnTo>
                <a:lnTo>
                  <a:pt x="720" y="408"/>
                </a:lnTo>
                <a:lnTo>
                  <a:pt x="732" y="408"/>
                </a:lnTo>
                <a:lnTo>
                  <a:pt x="744" y="408"/>
                </a:lnTo>
                <a:lnTo>
                  <a:pt x="750" y="408"/>
                </a:lnTo>
                <a:lnTo>
                  <a:pt x="762" y="402"/>
                </a:lnTo>
                <a:lnTo>
                  <a:pt x="774" y="402"/>
                </a:lnTo>
                <a:lnTo>
                  <a:pt x="780" y="402"/>
                </a:lnTo>
                <a:lnTo>
                  <a:pt x="792" y="402"/>
                </a:lnTo>
                <a:lnTo>
                  <a:pt x="798" y="402"/>
                </a:lnTo>
                <a:lnTo>
                  <a:pt x="810" y="402"/>
                </a:lnTo>
                <a:lnTo>
                  <a:pt x="816" y="396"/>
                </a:lnTo>
                <a:lnTo>
                  <a:pt x="822" y="396"/>
                </a:lnTo>
                <a:lnTo>
                  <a:pt x="834" y="396"/>
                </a:lnTo>
                <a:lnTo>
                  <a:pt x="840" y="396"/>
                </a:lnTo>
                <a:lnTo>
                  <a:pt x="846" y="396"/>
                </a:lnTo>
                <a:lnTo>
                  <a:pt x="852" y="390"/>
                </a:lnTo>
                <a:lnTo>
                  <a:pt x="858" y="390"/>
                </a:lnTo>
                <a:lnTo>
                  <a:pt x="870" y="390"/>
                </a:lnTo>
                <a:lnTo>
                  <a:pt x="876" y="390"/>
                </a:lnTo>
                <a:lnTo>
                  <a:pt x="882" y="384"/>
                </a:lnTo>
                <a:lnTo>
                  <a:pt x="888" y="384"/>
                </a:lnTo>
                <a:lnTo>
                  <a:pt x="894" y="384"/>
                </a:lnTo>
                <a:lnTo>
                  <a:pt x="900" y="384"/>
                </a:lnTo>
                <a:lnTo>
                  <a:pt x="906" y="378"/>
                </a:lnTo>
                <a:lnTo>
                  <a:pt x="912" y="378"/>
                </a:lnTo>
                <a:lnTo>
                  <a:pt x="918" y="378"/>
                </a:lnTo>
                <a:lnTo>
                  <a:pt x="924" y="372"/>
                </a:lnTo>
                <a:lnTo>
                  <a:pt x="930" y="372"/>
                </a:lnTo>
                <a:lnTo>
                  <a:pt x="936" y="372"/>
                </a:lnTo>
                <a:lnTo>
                  <a:pt x="942" y="366"/>
                </a:lnTo>
                <a:lnTo>
                  <a:pt x="948" y="366"/>
                </a:lnTo>
                <a:lnTo>
                  <a:pt x="954" y="360"/>
                </a:lnTo>
                <a:lnTo>
                  <a:pt x="960" y="360"/>
                </a:lnTo>
                <a:lnTo>
                  <a:pt x="966" y="354"/>
                </a:lnTo>
                <a:lnTo>
                  <a:pt x="972" y="354"/>
                </a:lnTo>
                <a:lnTo>
                  <a:pt x="978" y="348"/>
                </a:lnTo>
                <a:lnTo>
                  <a:pt x="984" y="348"/>
                </a:lnTo>
                <a:lnTo>
                  <a:pt x="990" y="342"/>
                </a:lnTo>
                <a:lnTo>
                  <a:pt x="996" y="342"/>
                </a:lnTo>
                <a:lnTo>
                  <a:pt x="1002" y="336"/>
                </a:lnTo>
                <a:lnTo>
                  <a:pt x="1008" y="330"/>
                </a:lnTo>
                <a:lnTo>
                  <a:pt x="1014" y="324"/>
                </a:lnTo>
                <a:lnTo>
                  <a:pt x="1020" y="318"/>
                </a:lnTo>
                <a:lnTo>
                  <a:pt x="1026" y="312"/>
                </a:lnTo>
                <a:lnTo>
                  <a:pt x="1032" y="312"/>
                </a:lnTo>
                <a:lnTo>
                  <a:pt x="1038" y="300"/>
                </a:lnTo>
                <a:lnTo>
                  <a:pt x="1044" y="294"/>
                </a:lnTo>
                <a:lnTo>
                  <a:pt x="1050" y="288"/>
                </a:lnTo>
                <a:lnTo>
                  <a:pt x="1056" y="282"/>
                </a:lnTo>
                <a:lnTo>
                  <a:pt x="1068" y="270"/>
                </a:lnTo>
                <a:lnTo>
                  <a:pt x="1062" y="270"/>
                </a:lnTo>
                <a:lnTo>
                  <a:pt x="1068" y="270"/>
                </a:lnTo>
                <a:lnTo>
                  <a:pt x="1074" y="264"/>
                </a:lnTo>
                <a:lnTo>
                  <a:pt x="1074" y="258"/>
                </a:lnTo>
                <a:lnTo>
                  <a:pt x="1086" y="246"/>
                </a:lnTo>
                <a:lnTo>
                  <a:pt x="1086" y="240"/>
                </a:lnTo>
                <a:lnTo>
                  <a:pt x="1092" y="234"/>
                </a:lnTo>
                <a:lnTo>
                  <a:pt x="1092" y="228"/>
                </a:lnTo>
                <a:lnTo>
                  <a:pt x="1098" y="222"/>
                </a:lnTo>
                <a:lnTo>
                  <a:pt x="1098" y="216"/>
                </a:lnTo>
                <a:lnTo>
                  <a:pt x="1104" y="210"/>
                </a:lnTo>
                <a:lnTo>
                  <a:pt x="1110" y="204"/>
                </a:lnTo>
                <a:lnTo>
                  <a:pt x="1110" y="198"/>
                </a:lnTo>
                <a:lnTo>
                  <a:pt x="1116" y="192"/>
                </a:lnTo>
                <a:lnTo>
                  <a:pt x="1116" y="186"/>
                </a:lnTo>
                <a:lnTo>
                  <a:pt x="1122" y="180"/>
                </a:lnTo>
                <a:lnTo>
                  <a:pt x="1122" y="174"/>
                </a:lnTo>
                <a:lnTo>
                  <a:pt x="1128" y="168"/>
                </a:lnTo>
                <a:lnTo>
                  <a:pt x="1128" y="156"/>
                </a:lnTo>
                <a:lnTo>
                  <a:pt x="1134" y="150"/>
                </a:lnTo>
                <a:lnTo>
                  <a:pt x="1134" y="144"/>
                </a:lnTo>
                <a:lnTo>
                  <a:pt x="1140" y="138"/>
                </a:lnTo>
                <a:lnTo>
                  <a:pt x="1146" y="132"/>
                </a:lnTo>
                <a:lnTo>
                  <a:pt x="1146" y="120"/>
                </a:lnTo>
                <a:lnTo>
                  <a:pt x="1152" y="114"/>
                </a:lnTo>
                <a:lnTo>
                  <a:pt x="1152" y="108"/>
                </a:lnTo>
                <a:lnTo>
                  <a:pt x="1164" y="96"/>
                </a:lnTo>
                <a:lnTo>
                  <a:pt x="1164" y="84"/>
                </a:lnTo>
                <a:lnTo>
                  <a:pt x="1170" y="78"/>
                </a:lnTo>
                <a:lnTo>
                  <a:pt x="1170" y="72"/>
                </a:lnTo>
                <a:lnTo>
                  <a:pt x="1182" y="60"/>
                </a:lnTo>
                <a:lnTo>
                  <a:pt x="1182" y="48"/>
                </a:lnTo>
                <a:lnTo>
                  <a:pt x="1188" y="42"/>
                </a:lnTo>
                <a:lnTo>
                  <a:pt x="1194" y="36"/>
                </a:lnTo>
                <a:lnTo>
                  <a:pt x="1206" y="24"/>
                </a:lnTo>
                <a:lnTo>
                  <a:pt x="1206" y="18"/>
                </a:lnTo>
                <a:lnTo>
                  <a:pt x="1212" y="12"/>
                </a:lnTo>
                <a:lnTo>
                  <a:pt x="1218" y="6"/>
                </a:lnTo>
                <a:lnTo>
                  <a:pt x="1224" y="6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6"/>
                </a:lnTo>
                <a:lnTo>
                  <a:pt x="1266" y="6"/>
                </a:lnTo>
                <a:lnTo>
                  <a:pt x="1272" y="12"/>
                </a:lnTo>
                <a:lnTo>
                  <a:pt x="1278" y="18"/>
                </a:lnTo>
                <a:lnTo>
                  <a:pt x="1284" y="24"/>
                </a:lnTo>
                <a:lnTo>
                  <a:pt x="1290" y="30"/>
                </a:lnTo>
                <a:lnTo>
                  <a:pt x="1296" y="36"/>
                </a:lnTo>
                <a:lnTo>
                  <a:pt x="1302" y="42"/>
                </a:lnTo>
                <a:lnTo>
                  <a:pt x="1308" y="48"/>
                </a:lnTo>
                <a:lnTo>
                  <a:pt x="1314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2171880" y="1438200"/>
            <a:ext cx="1933560" cy="1524240"/>
          </a:xfrm>
          <a:custGeom>
            <a:avLst/>
            <a:gdLst/>
            <a:ahLst/>
            <a:rect l="l" t="t" r="r" b="b"/>
            <a:pathLst>
              <a:path w="1218" h="960">
                <a:moveTo>
                  <a:pt x="0" y="960"/>
                </a:moveTo>
                <a:lnTo>
                  <a:pt x="120" y="960"/>
                </a:lnTo>
                <a:lnTo>
                  <a:pt x="198" y="960"/>
                </a:lnTo>
                <a:lnTo>
                  <a:pt x="264" y="960"/>
                </a:lnTo>
                <a:lnTo>
                  <a:pt x="312" y="960"/>
                </a:lnTo>
                <a:lnTo>
                  <a:pt x="360" y="960"/>
                </a:lnTo>
                <a:lnTo>
                  <a:pt x="396" y="960"/>
                </a:lnTo>
                <a:lnTo>
                  <a:pt x="432" y="960"/>
                </a:lnTo>
                <a:lnTo>
                  <a:pt x="462" y="960"/>
                </a:lnTo>
                <a:lnTo>
                  <a:pt x="486" y="954"/>
                </a:lnTo>
                <a:lnTo>
                  <a:pt x="510" y="954"/>
                </a:lnTo>
                <a:lnTo>
                  <a:pt x="534" y="954"/>
                </a:lnTo>
                <a:lnTo>
                  <a:pt x="558" y="954"/>
                </a:lnTo>
                <a:lnTo>
                  <a:pt x="576" y="954"/>
                </a:lnTo>
                <a:lnTo>
                  <a:pt x="594" y="954"/>
                </a:lnTo>
                <a:lnTo>
                  <a:pt x="612" y="954"/>
                </a:lnTo>
                <a:lnTo>
                  <a:pt x="624" y="954"/>
                </a:lnTo>
                <a:lnTo>
                  <a:pt x="642" y="954"/>
                </a:lnTo>
                <a:lnTo>
                  <a:pt x="654" y="948"/>
                </a:lnTo>
                <a:lnTo>
                  <a:pt x="672" y="948"/>
                </a:lnTo>
                <a:lnTo>
                  <a:pt x="684" y="948"/>
                </a:lnTo>
                <a:lnTo>
                  <a:pt x="696" y="948"/>
                </a:lnTo>
                <a:lnTo>
                  <a:pt x="708" y="948"/>
                </a:lnTo>
                <a:lnTo>
                  <a:pt x="720" y="948"/>
                </a:lnTo>
                <a:lnTo>
                  <a:pt x="732" y="948"/>
                </a:lnTo>
                <a:lnTo>
                  <a:pt x="744" y="942"/>
                </a:lnTo>
                <a:lnTo>
                  <a:pt x="750" y="942"/>
                </a:lnTo>
                <a:lnTo>
                  <a:pt x="762" y="942"/>
                </a:lnTo>
                <a:lnTo>
                  <a:pt x="774" y="942"/>
                </a:lnTo>
                <a:lnTo>
                  <a:pt x="780" y="942"/>
                </a:lnTo>
                <a:lnTo>
                  <a:pt x="792" y="936"/>
                </a:lnTo>
                <a:lnTo>
                  <a:pt x="798" y="936"/>
                </a:lnTo>
                <a:lnTo>
                  <a:pt x="810" y="936"/>
                </a:lnTo>
                <a:lnTo>
                  <a:pt x="816" y="936"/>
                </a:lnTo>
                <a:lnTo>
                  <a:pt x="822" y="930"/>
                </a:lnTo>
                <a:lnTo>
                  <a:pt x="834" y="930"/>
                </a:lnTo>
                <a:lnTo>
                  <a:pt x="840" y="930"/>
                </a:lnTo>
                <a:lnTo>
                  <a:pt x="846" y="930"/>
                </a:lnTo>
                <a:lnTo>
                  <a:pt x="852" y="924"/>
                </a:lnTo>
                <a:lnTo>
                  <a:pt x="858" y="924"/>
                </a:lnTo>
                <a:lnTo>
                  <a:pt x="870" y="924"/>
                </a:lnTo>
                <a:lnTo>
                  <a:pt x="876" y="924"/>
                </a:lnTo>
                <a:lnTo>
                  <a:pt x="882" y="918"/>
                </a:lnTo>
                <a:lnTo>
                  <a:pt x="888" y="918"/>
                </a:lnTo>
                <a:lnTo>
                  <a:pt x="894" y="918"/>
                </a:lnTo>
                <a:lnTo>
                  <a:pt x="900" y="912"/>
                </a:lnTo>
                <a:lnTo>
                  <a:pt x="906" y="912"/>
                </a:lnTo>
                <a:lnTo>
                  <a:pt x="912" y="912"/>
                </a:lnTo>
                <a:lnTo>
                  <a:pt x="918" y="906"/>
                </a:lnTo>
                <a:lnTo>
                  <a:pt x="924" y="906"/>
                </a:lnTo>
                <a:lnTo>
                  <a:pt x="930" y="900"/>
                </a:lnTo>
                <a:lnTo>
                  <a:pt x="936" y="894"/>
                </a:lnTo>
                <a:lnTo>
                  <a:pt x="942" y="894"/>
                </a:lnTo>
                <a:lnTo>
                  <a:pt x="948" y="894"/>
                </a:lnTo>
                <a:lnTo>
                  <a:pt x="954" y="888"/>
                </a:lnTo>
                <a:lnTo>
                  <a:pt x="960" y="888"/>
                </a:lnTo>
                <a:lnTo>
                  <a:pt x="966" y="876"/>
                </a:lnTo>
                <a:lnTo>
                  <a:pt x="972" y="876"/>
                </a:lnTo>
                <a:lnTo>
                  <a:pt x="978" y="870"/>
                </a:lnTo>
                <a:lnTo>
                  <a:pt x="984" y="870"/>
                </a:lnTo>
                <a:lnTo>
                  <a:pt x="990" y="858"/>
                </a:lnTo>
                <a:lnTo>
                  <a:pt x="996" y="858"/>
                </a:lnTo>
                <a:lnTo>
                  <a:pt x="1002" y="846"/>
                </a:lnTo>
                <a:lnTo>
                  <a:pt x="1008" y="840"/>
                </a:lnTo>
                <a:lnTo>
                  <a:pt x="1014" y="834"/>
                </a:lnTo>
                <a:lnTo>
                  <a:pt x="1020" y="828"/>
                </a:lnTo>
                <a:lnTo>
                  <a:pt x="1026" y="822"/>
                </a:lnTo>
                <a:lnTo>
                  <a:pt x="1026" y="816"/>
                </a:lnTo>
                <a:lnTo>
                  <a:pt x="1032" y="810"/>
                </a:lnTo>
                <a:lnTo>
                  <a:pt x="1038" y="804"/>
                </a:lnTo>
                <a:lnTo>
                  <a:pt x="1038" y="798"/>
                </a:lnTo>
                <a:lnTo>
                  <a:pt x="1044" y="792"/>
                </a:lnTo>
                <a:lnTo>
                  <a:pt x="1044" y="786"/>
                </a:lnTo>
                <a:lnTo>
                  <a:pt x="1050" y="780"/>
                </a:lnTo>
                <a:lnTo>
                  <a:pt x="1056" y="768"/>
                </a:lnTo>
                <a:lnTo>
                  <a:pt x="1056" y="762"/>
                </a:lnTo>
                <a:lnTo>
                  <a:pt x="1062" y="756"/>
                </a:lnTo>
                <a:lnTo>
                  <a:pt x="1062" y="744"/>
                </a:lnTo>
                <a:lnTo>
                  <a:pt x="1068" y="738"/>
                </a:lnTo>
                <a:lnTo>
                  <a:pt x="1074" y="726"/>
                </a:lnTo>
                <a:lnTo>
                  <a:pt x="1074" y="720"/>
                </a:lnTo>
                <a:lnTo>
                  <a:pt x="1080" y="708"/>
                </a:lnTo>
                <a:lnTo>
                  <a:pt x="1080" y="696"/>
                </a:lnTo>
                <a:lnTo>
                  <a:pt x="1086" y="684"/>
                </a:lnTo>
                <a:lnTo>
                  <a:pt x="1086" y="672"/>
                </a:lnTo>
                <a:lnTo>
                  <a:pt x="1092" y="660"/>
                </a:lnTo>
                <a:lnTo>
                  <a:pt x="1092" y="648"/>
                </a:lnTo>
                <a:lnTo>
                  <a:pt x="1098" y="636"/>
                </a:lnTo>
                <a:lnTo>
                  <a:pt x="1098" y="624"/>
                </a:lnTo>
                <a:lnTo>
                  <a:pt x="1104" y="606"/>
                </a:lnTo>
                <a:lnTo>
                  <a:pt x="1104" y="588"/>
                </a:lnTo>
                <a:lnTo>
                  <a:pt x="1110" y="576"/>
                </a:lnTo>
                <a:lnTo>
                  <a:pt x="1110" y="558"/>
                </a:lnTo>
                <a:lnTo>
                  <a:pt x="1116" y="540"/>
                </a:lnTo>
                <a:lnTo>
                  <a:pt x="1116" y="522"/>
                </a:lnTo>
                <a:lnTo>
                  <a:pt x="1122" y="498"/>
                </a:lnTo>
                <a:lnTo>
                  <a:pt x="1122" y="480"/>
                </a:lnTo>
                <a:lnTo>
                  <a:pt x="1128" y="456"/>
                </a:lnTo>
                <a:lnTo>
                  <a:pt x="1128" y="408"/>
                </a:lnTo>
                <a:lnTo>
                  <a:pt x="1134" y="384"/>
                </a:lnTo>
                <a:lnTo>
                  <a:pt x="1134" y="360"/>
                </a:lnTo>
                <a:lnTo>
                  <a:pt x="1140" y="330"/>
                </a:lnTo>
                <a:lnTo>
                  <a:pt x="1140" y="306"/>
                </a:lnTo>
                <a:lnTo>
                  <a:pt x="1146" y="276"/>
                </a:lnTo>
                <a:lnTo>
                  <a:pt x="1146" y="216"/>
                </a:lnTo>
                <a:lnTo>
                  <a:pt x="1152" y="186"/>
                </a:lnTo>
                <a:lnTo>
                  <a:pt x="1152" y="156"/>
                </a:lnTo>
                <a:lnTo>
                  <a:pt x="1158" y="126"/>
                </a:lnTo>
                <a:lnTo>
                  <a:pt x="1158" y="96"/>
                </a:lnTo>
                <a:lnTo>
                  <a:pt x="1164" y="72"/>
                </a:lnTo>
                <a:lnTo>
                  <a:pt x="1164" y="30"/>
                </a:lnTo>
                <a:lnTo>
                  <a:pt x="1170" y="12"/>
                </a:lnTo>
                <a:lnTo>
                  <a:pt x="1170" y="0"/>
                </a:lnTo>
                <a:lnTo>
                  <a:pt x="1176" y="6"/>
                </a:lnTo>
                <a:lnTo>
                  <a:pt x="1182" y="24"/>
                </a:lnTo>
                <a:lnTo>
                  <a:pt x="1182" y="60"/>
                </a:lnTo>
                <a:lnTo>
                  <a:pt x="1188" y="90"/>
                </a:lnTo>
                <a:lnTo>
                  <a:pt x="1188" y="138"/>
                </a:lnTo>
                <a:lnTo>
                  <a:pt x="1194" y="168"/>
                </a:lnTo>
                <a:lnTo>
                  <a:pt x="1194" y="192"/>
                </a:lnTo>
                <a:lnTo>
                  <a:pt x="1200" y="216"/>
                </a:lnTo>
                <a:lnTo>
                  <a:pt x="1200" y="264"/>
                </a:lnTo>
                <a:lnTo>
                  <a:pt x="1206" y="288"/>
                </a:lnTo>
                <a:lnTo>
                  <a:pt x="1206" y="324"/>
                </a:lnTo>
                <a:lnTo>
                  <a:pt x="1212" y="342"/>
                </a:lnTo>
                <a:lnTo>
                  <a:pt x="1212" y="372"/>
                </a:lnTo>
                <a:lnTo>
                  <a:pt x="1218" y="390"/>
                </a:lnTo>
                <a:lnTo>
                  <a:pt x="1218" y="41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4105440" y="2095560"/>
            <a:ext cx="152280" cy="419040"/>
          </a:xfrm>
          <a:custGeom>
            <a:avLst/>
            <a:gdLst/>
            <a:ahLst/>
            <a:rect l="l" t="t" r="r" b="b"/>
            <a:pathLst>
              <a:path w="96" h="264">
                <a:moveTo>
                  <a:pt x="0" y="0"/>
                </a:moveTo>
                <a:lnTo>
                  <a:pt x="6" y="12"/>
                </a:lnTo>
                <a:lnTo>
                  <a:pt x="6" y="36"/>
                </a:lnTo>
                <a:lnTo>
                  <a:pt x="12" y="42"/>
                </a:lnTo>
                <a:lnTo>
                  <a:pt x="12" y="72"/>
                </a:lnTo>
                <a:lnTo>
                  <a:pt x="18" y="78"/>
                </a:lnTo>
                <a:lnTo>
                  <a:pt x="18" y="96"/>
                </a:lnTo>
                <a:lnTo>
                  <a:pt x="24" y="102"/>
                </a:lnTo>
                <a:lnTo>
                  <a:pt x="24" y="114"/>
                </a:lnTo>
                <a:lnTo>
                  <a:pt x="30" y="120"/>
                </a:lnTo>
                <a:lnTo>
                  <a:pt x="30" y="132"/>
                </a:lnTo>
                <a:lnTo>
                  <a:pt x="36" y="138"/>
                </a:lnTo>
                <a:lnTo>
                  <a:pt x="36" y="156"/>
                </a:lnTo>
                <a:lnTo>
                  <a:pt x="42" y="162"/>
                </a:lnTo>
                <a:lnTo>
                  <a:pt x="42" y="168"/>
                </a:lnTo>
                <a:lnTo>
                  <a:pt x="48" y="174"/>
                </a:lnTo>
                <a:lnTo>
                  <a:pt x="48" y="186"/>
                </a:lnTo>
                <a:lnTo>
                  <a:pt x="54" y="192"/>
                </a:lnTo>
                <a:lnTo>
                  <a:pt x="54" y="198"/>
                </a:lnTo>
                <a:lnTo>
                  <a:pt x="60" y="204"/>
                </a:lnTo>
                <a:lnTo>
                  <a:pt x="60" y="210"/>
                </a:lnTo>
                <a:lnTo>
                  <a:pt x="66" y="216"/>
                </a:lnTo>
                <a:lnTo>
                  <a:pt x="66" y="222"/>
                </a:lnTo>
                <a:lnTo>
                  <a:pt x="78" y="234"/>
                </a:lnTo>
                <a:lnTo>
                  <a:pt x="78" y="246"/>
                </a:lnTo>
                <a:lnTo>
                  <a:pt x="84" y="252"/>
                </a:lnTo>
                <a:lnTo>
                  <a:pt x="96" y="264"/>
                </a:lnTo>
                <a:lnTo>
                  <a:pt x="90" y="26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rot="16200000">
            <a:off x="685440" y="1977120"/>
            <a:ext cx="167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 flipV="1">
            <a:off x="5448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5448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V="1">
            <a:off x="5400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400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V="1">
            <a:off x="5353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353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5286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5286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5219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5219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 flipV="1">
            <a:off x="5448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5448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534312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54774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V="1">
            <a:off x="5762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5762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 flipV="1">
            <a:off x="5943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5943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 flipV="1">
            <a:off x="6076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6076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 flipV="1">
            <a:off x="6181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6181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 flipV="1">
            <a:off x="6257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6257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 flipV="1">
            <a:off x="639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639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 flipV="1">
            <a:off x="6438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6438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 flipV="1">
            <a:off x="6486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6486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 flipV="1">
            <a:off x="6486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6486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6381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6515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V="1">
            <a:off x="6800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6800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 flipV="1">
            <a:off x="698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698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V="1">
            <a:off x="7115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7115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 flipV="1">
            <a:off x="7219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7219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7296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7296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 flipV="1">
            <a:off x="7372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7372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7429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7429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7486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7486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483804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5448240" y="2514600"/>
            <a:ext cx="2086200" cy="447840"/>
          </a:xfrm>
          <a:custGeom>
            <a:avLst/>
            <a:gdLst/>
            <a:ahLst/>
            <a:rect l="l" t="t" r="r" b="b"/>
            <a:pathLst>
              <a:path w="1314" h="282">
                <a:moveTo>
                  <a:pt x="0" y="282"/>
                </a:moveTo>
                <a:lnTo>
                  <a:pt x="120" y="282"/>
                </a:lnTo>
                <a:lnTo>
                  <a:pt x="198" y="282"/>
                </a:lnTo>
                <a:lnTo>
                  <a:pt x="264" y="282"/>
                </a:lnTo>
                <a:lnTo>
                  <a:pt x="312" y="282"/>
                </a:lnTo>
                <a:lnTo>
                  <a:pt x="360" y="282"/>
                </a:lnTo>
                <a:lnTo>
                  <a:pt x="396" y="282"/>
                </a:lnTo>
                <a:lnTo>
                  <a:pt x="432" y="282"/>
                </a:lnTo>
                <a:lnTo>
                  <a:pt x="462" y="282"/>
                </a:lnTo>
                <a:lnTo>
                  <a:pt x="486" y="276"/>
                </a:lnTo>
                <a:lnTo>
                  <a:pt x="510" y="276"/>
                </a:lnTo>
                <a:lnTo>
                  <a:pt x="534" y="276"/>
                </a:lnTo>
                <a:lnTo>
                  <a:pt x="558" y="276"/>
                </a:lnTo>
                <a:lnTo>
                  <a:pt x="576" y="276"/>
                </a:lnTo>
                <a:lnTo>
                  <a:pt x="594" y="276"/>
                </a:lnTo>
                <a:lnTo>
                  <a:pt x="612" y="276"/>
                </a:lnTo>
                <a:lnTo>
                  <a:pt x="624" y="276"/>
                </a:lnTo>
                <a:lnTo>
                  <a:pt x="642" y="276"/>
                </a:lnTo>
                <a:lnTo>
                  <a:pt x="654" y="276"/>
                </a:lnTo>
                <a:lnTo>
                  <a:pt x="672" y="276"/>
                </a:lnTo>
                <a:lnTo>
                  <a:pt x="684" y="276"/>
                </a:lnTo>
                <a:lnTo>
                  <a:pt x="696" y="276"/>
                </a:lnTo>
                <a:lnTo>
                  <a:pt x="708" y="276"/>
                </a:lnTo>
                <a:lnTo>
                  <a:pt x="720" y="270"/>
                </a:lnTo>
                <a:lnTo>
                  <a:pt x="732" y="270"/>
                </a:lnTo>
                <a:lnTo>
                  <a:pt x="744" y="270"/>
                </a:lnTo>
                <a:lnTo>
                  <a:pt x="750" y="270"/>
                </a:lnTo>
                <a:lnTo>
                  <a:pt x="762" y="270"/>
                </a:lnTo>
                <a:lnTo>
                  <a:pt x="774" y="270"/>
                </a:lnTo>
                <a:lnTo>
                  <a:pt x="780" y="270"/>
                </a:lnTo>
                <a:lnTo>
                  <a:pt x="792" y="270"/>
                </a:lnTo>
                <a:lnTo>
                  <a:pt x="798" y="270"/>
                </a:lnTo>
                <a:lnTo>
                  <a:pt x="810" y="270"/>
                </a:lnTo>
                <a:lnTo>
                  <a:pt x="816" y="264"/>
                </a:lnTo>
                <a:lnTo>
                  <a:pt x="822" y="264"/>
                </a:lnTo>
                <a:lnTo>
                  <a:pt x="834" y="264"/>
                </a:lnTo>
                <a:lnTo>
                  <a:pt x="840" y="264"/>
                </a:lnTo>
                <a:lnTo>
                  <a:pt x="846" y="264"/>
                </a:lnTo>
                <a:lnTo>
                  <a:pt x="852" y="264"/>
                </a:lnTo>
                <a:lnTo>
                  <a:pt x="858" y="264"/>
                </a:lnTo>
                <a:lnTo>
                  <a:pt x="870" y="258"/>
                </a:lnTo>
                <a:lnTo>
                  <a:pt x="876" y="258"/>
                </a:lnTo>
                <a:lnTo>
                  <a:pt x="882" y="258"/>
                </a:lnTo>
                <a:lnTo>
                  <a:pt x="888" y="258"/>
                </a:lnTo>
                <a:lnTo>
                  <a:pt x="894" y="258"/>
                </a:lnTo>
                <a:lnTo>
                  <a:pt x="900" y="258"/>
                </a:lnTo>
                <a:lnTo>
                  <a:pt x="906" y="252"/>
                </a:lnTo>
                <a:lnTo>
                  <a:pt x="912" y="252"/>
                </a:lnTo>
                <a:lnTo>
                  <a:pt x="918" y="252"/>
                </a:lnTo>
                <a:lnTo>
                  <a:pt x="924" y="252"/>
                </a:lnTo>
                <a:lnTo>
                  <a:pt x="930" y="252"/>
                </a:lnTo>
                <a:lnTo>
                  <a:pt x="936" y="246"/>
                </a:lnTo>
                <a:lnTo>
                  <a:pt x="942" y="246"/>
                </a:lnTo>
                <a:lnTo>
                  <a:pt x="948" y="246"/>
                </a:lnTo>
                <a:lnTo>
                  <a:pt x="954" y="240"/>
                </a:lnTo>
                <a:lnTo>
                  <a:pt x="960" y="240"/>
                </a:lnTo>
                <a:lnTo>
                  <a:pt x="966" y="240"/>
                </a:lnTo>
                <a:lnTo>
                  <a:pt x="972" y="234"/>
                </a:lnTo>
                <a:lnTo>
                  <a:pt x="978" y="234"/>
                </a:lnTo>
                <a:lnTo>
                  <a:pt x="984" y="234"/>
                </a:lnTo>
                <a:lnTo>
                  <a:pt x="990" y="228"/>
                </a:lnTo>
                <a:lnTo>
                  <a:pt x="996" y="228"/>
                </a:lnTo>
                <a:lnTo>
                  <a:pt x="1002" y="222"/>
                </a:lnTo>
                <a:lnTo>
                  <a:pt x="1008" y="222"/>
                </a:lnTo>
                <a:lnTo>
                  <a:pt x="1014" y="216"/>
                </a:lnTo>
                <a:lnTo>
                  <a:pt x="1020" y="216"/>
                </a:lnTo>
                <a:lnTo>
                  <a:pt x="1026" y="210"/>
                </a:lnTo>
                <a:lnTo>
                  <a:pt x="1032" y="210"/>
                </a:lnTo>
                <a:lnTo>
                  <a:pt x="1038" y="204"/>
                </a:lnTo>
                <a:lnTo>
                  <a:pt x="1044" y="198"/>
                </a:lnTo>
                <a:lnTo>
                  <a:pt x="1050" y="192"/>
                </a:lnTo>
                <a:lnTo>
                  <a:pt x="1056" y="186"/>
                </a:lnTo>
                <a:lnTo>
                  <a:pt x="1062" y="180"/>
                </a:lnTo>
                <a:lnTo>
                  <a:pt x="1068" y="180"/>
                </a:lnTo>
                <a:lnTo>
                  <a:pt x="1074" y="174"/>
                </a:lnTo>
                <a:lnTo>
                  <a:pt x="1080" y="168"/>
                </a:lnTo>
                <a:lnTo>
                  <a:pt x="1086" y="162"/>
                </a:lnTo>
                <a:lnTo>
                  <a:pt x="1092" y="156"/>
                </a:lnTo>
                <a:lnTo>
                  <a:pt x="1098" y="144"/>
                </a:lnTo>
                <a:lnTo>
                  <a:pt x="1104" y="138"/>
                </a:lnTo>
                <a:lnTo>
                  <a:pt x="1110" y="132"/>
                </a:lnTo>
                <a:lnTo>
                  <a:pt x="1116" y="126"/>
                </a:lnTo>
                <a:lnTo>
                  <a:pt x="1128" y="114"/>
                </a:lnTo>
                <a:lnTo>
                  <a:pt x="1128" y="108"/>
                </a:lnTo>
                <a:lnTo>
                  <a:pt x="1140" y="96"/>
                </a:lnTo>
                <a:lnTo>
                  <a:pt x="1140" y="90"/>
                </a:lnTo>
                <a:lnTo>
                  <a:pt x="1152" y="78"/>
                </a:lnTo>
                <a:lnTo>
                  <a:pt x="1152" y="72"/>
                </a:lnTo>
                <a:lnTo>
                  <a:pt x="1158" y="66"/>
                </a:lnTo>
                <a:lnTo>
                  <a:pt x="1164" y="60"/>
                </a:lnTo>
                <a:lnTo>
                  <a:pt x="1176" y="48"/>
                </a:lnTo>
                <a:lnTo>
                  <a:pt x="1176" y="42"/>
                </a:lnTo>
                <a:lnTo>
                  <a:pt x="1182" y="36"/>
                </a:lnTo>
                <a:lnTo>
                  <a:pt x="1188" y="30"/>
                </a:lnTo>
                <a:lnTo>
                  <a:pt x="1194" y="24"/>
                </a:lnTo>
                <a:lnTo>
                  <a:pt x="1200" y="18"/>
                </a:lnTo>
                <a:lnTo>
                  <a:pt x="1206" y="12"/>
                </a:lnTo>
                <a:lnTo>
                  <a:pt x="1212" y="12"/>
                </a:lnTo>
                <a:lnTo>
                  <a:pt x="1218" y="6"/>
                </a:lnTo>
                <a:lnTo>
                  <a:pt x="1224" y="6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6"/>
                </a:lnTo>
                <a:lnTo>
                  <a:pt x="1266" y="6"/>
                </a:lnTo>
                <a:lnTo>
                  <a:pt x="1272" y="12"/>
                </a:lnTo>
                <a:lnTo>
                  <a:pt x="1278" y="12"/>
                </a:lnTo>
                <a:lnTo>
                  <a:pt x="1284" y="18"/>
                </a:lnTo>
                <a:lnTo>
                  <a:pt x="1290" y="18"/>
                </a:lnTo>
                <a:lnTo>
                  <a:pt x="1296" y="24"/>
                </a:lnTo>
                <a:lnTo>
                  <a:pt x="1302" y="30"/>
                </a:lnTo>
                <a:lnTo>
                  <a:pt x="1308" y="36"/>
                </a:lnTo>
                <a:lnTo>
                  <a:pt x="1314" y="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5448240" y="1343160"/>
            <a:ext cx="1933560" cy="1628640"/>
          </a:xfrm>
          <a:custGeom>
            <a:avLst/>
            <a:gdLst/>
            <a:ahLst/>
            <a:rect l="l" t="t" r="r" b="b"/>
            <a:pathLst>
              <a:path w="1218" h="1026">
                <a:moveTo>
                  <a:pt x="0" y="1026"/>
                </a:moveTo>
                <a:lnTo>
                  <a:pt x="120" y="1026"/>
                </a:lnTo>
                <a:lnTo>
                  <a:pt x="198" y="1026"/>
                </a:lnTo>
                <a:lnTo>
                  <a:pt x="264" y="1026"/>
                </a:lnTo>
                <a:lnTo>
                  <a:pt x="312" y="1026"/>
                </a:lnTo>
                <a:lnTo>
                  <a:pt x="360" y="1026"/>
                </a:lnTo>
                <a:lnTo>
                  <a:pt x="396" y="1026"/>
                </a:lnTo>
                <a:lnTo>
                  <a:pt x="432" y="1026"/>
                </a:lnTo>
                <a:lnTo>
                  <a:pt x="462" y="1026"/>
                </a:lnTo>
                <a:lnTo>
                  <a:pt x="486" y="1020"/>
                </a:lnTo>
                <a:lnTo>
                  <a:pt x="510" y="1020"/>
                </a:lnTo>
                <a:lnTo>
                  <a:pt x="534" y="1020"/>
                </a:lnTo>
                <a:lnTo>
                  <a:pt x="558" y="1020"/>
                </a:lnTo>
                <a:lnTo>
                  <a:pt x="576" y="1020"/>
                </a:lnTo>
                <a:lnTo>
                  <a:pt x="594" y="1020"/>
                </a:lnTo>
                <a:lnTo>
                  <a:pt x="612" y="1020"/>
                </a:lnTo>
                <a:lnTo>
                  <a:pt x="624" y="1020"/>
                </a:lnTo>
                <a:lnTo>
                  <a:pt x="642" y="1020"/>
                </a:lnTo>
                <a:lnTo>
                  <a:pt x="654" y="1014"/>
                </a:lnTo>
                <a:lnTo>
                  <a:pt x="672" y="1014"/>
                </a:lnTo>
                <a:lnTo>
                  <a:pt x="684" y="1014"/>
                </a:lnTo>
                <a:lnTo>
                  <a:pt x="696" y="1014"/>
                </a:lnTo>
                <a:lnTo>
                  <a:pt x="708" y="1014"/>
                </a:lnTo>
                <a:lnTo>
                  <a:pt x="720" y="1014"/>
                </a:lnTo>
                <a:lnTo>
                  <a:pt x="732" y="1014"/>
                </a:lnTo>
                <a:lnTo>
                  <a:pt x="744" y="1008"/>
                </a:lnTo>
                <a:lnTo>
                  <a:pt x="750" y="1008"/>
                </a:lnTo>
                <a:lnTo>
                  <a:pt x="762" y="1008"/>
                </a:lnTo>
                <a:lnTo>
                  <a:pt x="774" y="1008"/>
                </a:lnTo>
                <a:lnTo>
                  <a:pt x="780" y="1008"/>
                </a:lnTo>
                <a:lnTo>
                  <a:pt x="792" y="1008"/>
                </a:lnTo>
                <a:lnTo>
                  <a:pt x="798" y="1002"/>
                </a:lnTo>
                <a:lnTo>
                  <a:pt x="810" y="1002"/>
                </a:lnTo>
                <a:lnTo>
                  <a:pt x="816" y="1002"/>
                </a:lnTo>
                <a:lnTo>
                  <a:pt x="822" y="1002"/>
                </a:lnTo>
                <a:lnTo>
                  <a:pt x="834" y="1002"/>
                </a:lnTo>
                <a:lnTo>
                  <a:pt x="840" y="996"/>
                </a:lnTo>
                <a:lnTo>
                  <a:pt x="846" y="996"/>
                </a:lnTo>
                <a:lnTo>
                  <a:pt x="852" y="996"/>
                </a:lnTo>
                <a:lnTo>
                  <a:pt x="858" y="996"/>
                </a:lnTo>
                <a:lnTo>
                  <a:pt x="870" y="990"/>
                </a:lnTo>
                <a:lnTo>
                  <a:pt x="876" y="990"/>
                </a:lnTo>
                <a:lnTo>
                  <a:pt x="882" y="990"/>
                </a:lnTo>
                <a:lnTo>
                  <a:pt x="888" y="990"/>
                </a:lnTo>
                <a:lnTo>
                  <a:pt x="894" y="984"/>
                </a:lnTo>
                <a:lnTo>
                  <a:pt x="900" y="984"/>
                </a:lnTo>
                <a:lnTo>
                  <a:pt x="906" y="984"/>
                </a:lnTo>
                <a:lnTo>
                  <a:pt x="912" y="978"/>
                </a:lnTo>
                <a:lnTo>
                  <a:pt x="918" y="978"/>
                </a:lnTo>
                <a:lnTo>
                  <a:pt x="924" y="978"/>
                </a:lnTo>
                <a:lnTo>
                  <a:pt x="930" y="972"/>
                </a:lnTo>
                <a:lnTo>
                  <a:pt x="936" y="966"/>
                </a:lnTo>
                <a:lnTo>
                  <a:pt x="942" y="966"/>
                </a:lnTo>
                <a:lnTo>
                  <a:pt x="948" y="966"/>
                </a:lnTo>
                <a:lnTo>
                  <a:pt x="954" y="960"/>
                </a:lnTo>
                <a:lnTo>
                  <a:pt x="960" y="960"/>
                </a:lnTo>
                <a:lnTo>
                  <a:pt x="966" y="954"/>
                </a:lnTo>
                <a:lnTo>
                  <a:pt x="972" y="948"/>
                </a:lnTo>
                <a:lnTo>
                  <a:pt x="978" y="948"/>
                </a:lnTo>
                <a:lnTo>
                  <a:pt x="984" y="942"/>
                </a:lnTo>
                <a:lnTo>
                  <a:pt x="990" y="936"/>
                </a:lnTo>
                <a:lnTo>
                  <a:pt x="996" y="930"/>
                </a:lnTo>
                <a:lnTo>
                  <a:pt x="1002" y="924"/>
                </a:lnTo>
                <a:lnTo>
                  <a:pt x="1008" y="918"/>
                </a:lnTo>
                <a:lnTo>
                  <a:pt x="1014" y="912"/>
                </a:lnTo>
                <a:lnTo>
                  <a:pt x="1020" y="906"/>
                </a:lnTo>
                <a:lnTo>
                  <a:pt x="1032" y="894"/>
                </a:lnTo>
                <a:lnTo>
                  <a:pt x="1026" y="894"/>
                </a:lnTo>
                <a:lnTo>
                  <a:pt x="1032" y="894"/>
                </a:lnTo>
                <a:lnTo>
                  <a:pt x="1038" y="888"/>
                </a:lnTo>
                <a:lnTo>
                  <a:pt x="1038" y="882"/>
                </a:lnTo>
                <a:lnTo>
                  <a:pt x="1044" y="876"/>
                </a:lnTo>
                <a:lnTo>
                  <a:pt x="1044" y="870"/>
                </a:lnTo>
                <a:lnTo>
                  <a:pt x="1050" y="864"/>
                </a:lnTo>
                <a:lnTo>
                  <a:pt x="1056" y="852"/>
                </a:lnTo>
                <a:lnTo>
                  <a:pt x="1056" y="846"/>
                </a:lnTo>
                <a:lnTo>
                  <a:pt x="1062" y="840"/>
                </a:lnTo>
                <a:lnTo>
                  <a:pt x="1062" y="834"/>
                </a:lnTo>
                <a:lnTo>
                  <a:pt x="1068" y="822"/>
                </a:lnTo>
                <a:lnTo>
                  <a:pt x="1074" y="816"/>
                </a:lnTo>
                <a:lnTo>
                  <a:pt x="1074" y="804"/>
                </a:lnTo>
                <a:lnTo>
                  <a:pt x="1080" y="798"/>
                </a:lnTo>
                <a:lnTo>
                  <a:pt x="1080" y="786"/>
                </a:lnTo>
                <a:lnTo>
                  <a:pt x="1086" y="774"/>
                </a:lnTo>
                <a:lnTo>
                  <a:pt x="1086" y="768"/>
                </a:lnTo>
                <a:lnTo>
                  <a:pt x="1092" y="756"/>
                </a:lnTo>
                <a:lnTo>
                  <a:pt x="1092" y="744"/>
                </a:lnTo>
                <a:lnTo>
                  <a:pt x="1098" y="732"/>
                </a:lnTo>
                <a:lnTo>
                  <a:pt x="1098" y="714"/>
                </a:lnTo>
                <a:lnTo>
                  <a:pt x="1104" y="702"/>
                </a:lnTo>
                <a:lnTo>
                  <a:pt x="1104" y="684"/>
                </a:lnTo>
                <a:lnTo>
                  <a:pt x="1110" y="672"/>
                </a:lnTo>
                <a:lnTo>
                  <a:pt x="1110" y="654"/>
                </a:lnTo>
                <a:lnTo>
                  <a:pt x="1116" y="636"/>
                </a:lnTo>
                <a:lnTo>
                  <a:pt x="1116" y="618"/>
                </a:lnTo>
                <a:lnTo>
                  <a:pt x="1122" y="600"/>
                </a:lnTo>
                <a:lnTo>
                  <a:pt x="1122" y="576"/>
                </a:lnTo>
                <a:lnTo>
                  <a:pt x="1128" y="552"/>
                </a:lnTo>
                <a:lnTo>
                  <a:pt x="1128" y="504"/>
                </a:lnTo>
                <a:lnTo>
                  <a:pt x="1134" y="480"/>
                </a:lnTo>
                <a:lnTo>
                  <a:pt x="1134" y="450"/>
                </a:lnTo>
                <a:lnTo>
                  <a:pt x="1140" y="420"/>
                </a:lnTo>
                <a:lnTo>
                  <a:pt x="1140" y="390"/>
                </a:lnTo>
                <a:lnTo>
                  <a:pt x="1146" y="360"/>
                </a:lnTo>
                <a:lnTo>
                  <a:pt x="1146" y="294"/>
                </a:lnTo>
                <a:lnTo>
                  <a:pt x="1152" y="258"/>
                </a:lnTo>
                <a:lnTo>
                  <a:pt x="1152" y="222"/>
                </a:lnTo>
                <a:lnTo>
                  <a:pt x="1158" y="186"/>
                </a:lnTo>
                <a:lnTo>
                  <a:pt x="1158" y="156"/>
                </a:lnTo>
                <a:lnTo>
                  <a:pt x="1164" y="120"/>
                </a:lnTo>
                <a:lnTo>
                  <a:pt x="1164" y="60"/>
                </a:lnTo>
                <a:lnTo>
                  <a:pt x="1170" y="36"/>
                </a:lnTo>
                <a:lnTo>
                  <a:pt x="1170" y="6"/>
                </a:lnTo>
                <a:lnTo>
                  <a:pt x="1176" y="0"/>
                </a:lnTo>
                <a:lnTo>
                  <a:pt x="1182" y="6"/>
                </a:lnTo>
                <a:lnTo>
                  <a:pt x="1182" y="36"/>
                </a:lnTo>
                <a:lnTo>
                  <a:pt x="1188" y="54"/>
                </a:lnTo>
                <a:lnTo>
                  <a:pt x="1188" y="102"/>
                </a:lnTo>
                <a:lnTo>
                  <a:pt x="1194" y="126"/>
                </a:lnTo>
                <a:lnTo>
                  <a:pt x="1194" y="150"/>
                </a:lnTo>
                <a:lnTo>
                  <a:pt x="1200" y="174"/>
                </a:lnTo>
                <a:lnTo>
                  <a:pt x="1200" y="222"/>
                </a:lnTo>
                <a:lnTo>
                  <a:pt x="1206" y="246"/>
                </a:lnTo>
                <a:lnTo>
                  <a:pt x="1206" y="282"/>
                </a:lnTo>
                <a:lnTo>
                  <a:pt x="1212" y="300"/>
                </a:lnTo>
                <a:lnTo>
                  <a:pt x="1212" y="336"/>
                </a:lnTo>
                <a:lnTo>
                  <a:pt x="1218" y="348"/>
                </a:lnTo>
                <a:lnTo>
                  <a:pt x="1218" y="37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7381800" y="1943280"/>
            <a:ext cx="152640" cy="466560"/>
          </a:xfrm>
          <a:custGeom>
            <a:avLst/>
            <a:gdLst/>
            <a:ahLst/>
            <a:rect l="l" t="t" r="r" b="b"/>
            <a:pathLst>
              <a:path w="96" h="294">
                <a:moveTo>
                  <a:pt x="0" y="0"/>
                </a:moveTo>
                <a:lnTo>
                  <a:pt x="6" y="12"/>
                </a:lnTo>
                <a:lnTo>
                  <a:pt x="6" y="36"/>
                </a:lnTo>
                <a:lnTo>
                  <a:pt x="12" y="48"/>
                </a:lnTo>
                <a:lnTo>
                  <a:pt x="12" y="78"/>
                </a:lnTo>
                <a:lnTo>
                  <a:pt x="18" y="84"/>
                </a:lnTo>
                <a:lnTo>
                  <a:pt x="18" y="102"/>
                </a:lnTo>
                <a:lnTo>
                  <a:pt x="24" y="108"/>
                </a:lnTo>
                <a:lnTo>
                  <a:pt x="24" y="126"/>
                </a:lnTo>
                <a:lnTo>
                  <a:pt x="30" y="132"/>
                </a:lnTo>
                <a:lnTo>
                  <a:pt x="30" y="144"/>
                </a:lnTo>
                <a:lnTo>
                  <a:pt x="36" y="150"/>
                </a:lnTo>
                <a:lnTo>
                  <a:pt x="36" y="168"/>
                </a:lnTo>
                <a:lnTo>
                  <a:pt x="42" y="174"/>
                </a:lnTo>
                <a:lnTo>
                  <a:pt x="42" y="186"/>
                </a:lnTo>
                <a:lnTo>
                  <a:pt x="48" y="192"/>
                </a:lnTo>
                <a:lnTo>
                  <a:pt x="48" y="204"/>
                </a:lnTo>
                <a:lnTo>
                  <a:pt x="54" y="210"/>
                </a:lnTo>
                <a:lnTo>
                  <a:pt x="54" y="216"/>
                </a:lnTo>
                <a:lnTo>
                  <a:pt x="60" y="222"/>
                </a:lnTo>
                <a:lnTo>
                  <a:pt x="60" y="228"/>
                </a:lnTo>
                <a:lnTo>
                  <a:pt x="66" y="234"/>
                </a:lnTo>
                <a:lnTo>
                  <a:pt x="66" y="246"/>
                </a:lnTo>
                <a:lnTo>
                  <a:pt x="78" y="258"/>
                </a:lnTo>
                <a:lnTo>
                  <a:pt x="78" y="270"/>
                </a:lnTo>
                <a:lnTo>
                  <a:pt x="90" y="282"/>
                </a:lnTo>
                <a:lnTo>
                  <a:pt x="90" y="288"/>
                </a:lnTo>
                <a:lnTo>
                  <a:pt x="96" y="29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rot="16200000">
            <a:off x="3966120" y="1952640"/>
            <a:ext cx="151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 flipV="1">
            <a:off x="2171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2171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 flipV="1">
            <a:off x="2124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2124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 flipV="1">
            <a:off x="20764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20764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 flipV="1">
            <a:off x="2009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2009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 flipV="1">
            <a:off x="1943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1943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 flipV="1">
            <a:off x="21718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21718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20664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22006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V="1">
            <a:off x="2486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2486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2666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2666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 flipV="1">
            <a:off x="2800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800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flipV="1">
            <a:off x="2905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2905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V="1">
            <a:off x="29811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29811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 flipV="1">
            <a:off x="3114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3114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 flipV="1">
            <a:off x="3162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3162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 flipV="1">
            <a:off x="3209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3209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 flipV="1">
            <a:off x="32097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2097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31046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3238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 flipV="1">
            <a:off x="3524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524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V="1">
            <a:off x="37051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37051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 flipV="1">
            <a:off x="3838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3838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 flipV="1">
            <a:off x="3943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3943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 flipV="1">
            <a:off x="4019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4019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 flipV="1">
            <a:off x="4095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4095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 flipV="1">
            <a:off x="4152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4152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V="1">
            <a:off x="4210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4210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156132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156132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56132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56132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1494360" y="36100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2171880" y="4772160"/>
            <a:ext cx="2009520" cy="790560"/>
          </a:xfrm>
          <a:custGeom>
            <a:avLst/>
            <a:gdLst/>
            <a:ahLst/>
            <a:rect l="l" t="t" r="r" b="b"/>
            <a:pathLst>
              <a:path w="1266" h="498">
                <a:moveTo>
                  <a:pt x="0" y="498"/>
                </a:moveTo>
                <a:lnTo>
                  <a:pt x="120" y="498"/>
                </a:lnTo>
                <a:lnTo>
                  <a:pt x="198" y="498"/>
                </a:lnTo>
                <a:lnTo>
                  <a:pt x="264" y="498"/>
                </a:lnTo>
                <a:lnTo>
                  <a:pt x="312" y="498"/>
                </a:lnTo>
                <a:lnTo>
                  <a:pt x="360" y="498"/>
                </a:lnTo>
                <a:lnTo>
                  <a:pt x="396" y="498"/>
                </a:lnTo>
                <a:lnTo>
                  <a:pt x="432" y="498"/>
                </a:lnTo>
                <a:lnTo>
                  <a:pt x="462" y="498"/>
                </a:lnTo>
                <a:lnTo>
                  <a:pt x="486" y="498"/>
                </a:lnTo>
                <a:lnTo>
                  <a:pt x="510" y="498"/>
                </a:lnTo>
                <a:lnTo>
                  <a:pt x="534" y="492"/>
                </a:lnTo>
                <a:lnTo>
                  <a:pt x="558" y="492"/>
                </a:lnTo>
                <a:lnTo>
                  <a:pt x="576" y="492"/>
                </a:lnTo>
                <a:lnTo>
                  <a:pt x="594" y="492"/>
                </a:lnTo>
                <a:lnTo>
                  <a:pt x="612" y="492"/>
                </a:lnTo>
                <a:lnTo>
                  <a:pt x="624" y="492"/>
                </a:lnTo>
                <a:lnTo>
                  <a:pt x="642" y="492"/>
                </a:lnTo>
                <a:lnTo>
                  <a:pt x="654" y="492"/>
                </a:lnTo>
                <a:lnTo>
                  <a:pt x="672" y="486"/>
                </a:lnTo>
                <a:lnTo>
                  <a:pt x="684" y="486"/>
                </a:lnTo>
                <a:lnTo>
                  <a:pt x="696" y="486"/>
                </a:lnTo>
                <a:lnTo>
                  <a:pt x="708" y="486"/>
                </a:lnTo>
                <a:lnTo>
                  <a:pt x="720" y="486"/>
                </a:lnTo>
                <a:lnTo>
                  <a:pt x="732" y="480"/>
                </a:lnTo>
                <a:lnTo>
                  <a:pt x="744" y="480"/>
                </a:lnTo>
                <a:lnTo>
                  <a:pt x="750" y="480"/>
                </a:lnTo>
                <a:lnTo>
                  <a:pt x="762" y="480"/>
                </a:lnTo>
                <a:lnTo>
                  <a:pt x="774" y="474"/>
                </a:lnTo>
                <a:lnTo>
                  <a:pt x="780" y="474"/>
                </a:lnTo>
                <a:lnTo>
                  <a:pt x="792" y="474"/>
                </a:lnTo>
                <a:lnTo>
                  <a:pt x="798" y="474"/>
                </a:lnTo>
                <a:lnTo>
                  <a:pt x="810" y="468"/>
                </a:lnTo>
                <a:lnTo>
                  <a:pt x="816" y="468"/>
                </a:lnTo>
                <a:lnTo>
                  <a:pt x="822" y="468"/>
                </a:lnTo>
                <a:lnTo>
                  <a:pt x="834" y="468"/>
                </a:lnTo>
                <a:lnTo>
                  <a:pt x="840" y="462"/>
                </a:lnTo>
                <a:lnTo>
                  <a:pt x="846" y="462"/>
                </a:lnTo>
                <a:lnTo>
                  <a:pt x="852" y="462"/>
                </a:lnTo>
                <a:lnTo>
                  <a:pt x="858" y="456"/>
                </a:lnTo>
                <a:lnTo>
                  <a:pt x="870" y="456"/>
                </a:lnTo>
                <a:lnTo>
                  <a:pt x="876" y="450"/>
                </a:lnTo>
                <a:lnTo>
                  <a:pt x="882" y="450"/>
                </a:lnTo>
                <a:lnTo>
                  <a:pt x="888" y="450"/>
                </a:lnTo>
                <a:lnTo>
                  <a:pt x="894" y="444"/>
                </a:lnTo>
                <a:lnTo>
                  <a:pt x="900" y="444"/>
                </a:lnTo>
                <a:lnTo>
                  <a:pt x="906" y="438"/>
                </a:lnTo>
                <a:lnTo>
                  <a:pt x="912" y="438"/>
                </a:lnTo>
                <a:lnTo>
                  <a:pt x="918" y="432"/>
                </a:lnTo>
                <a:lnTo>
                  <a:pt x="924" y="432"/>
                </a:lnTo>
                <a:lnTo>
                  <a:pt x="930" y="426"/>
                </a:lnTo>
                <a:lnTo>
                  <a:pt x="936" y="420"/>
                </a:lnTo>
                <a:lnTo>
                  <a:pt x="942" y="420"/>
                </a:lnTo>
                <a:lnTo>
                  <a:pt x="948" y="414"/>
                </a:lnTo>
                <a:lnTo>
                  <a:pt x="954" y="414"/>
                </a:lnTo>
                <a:lnTo>
                  <a:pt x="960" y="408"/>
                </a:lnTo>
                <a:lnTo>
                  <a:pt x="966" y="402"/>
                </a:lnTo>
                <a:lnTo>
                  <a:pt x="972" y="396"/>
                </a:lnTo>
                <a:lnTo>
                  <a:pt x="978" y="390"/>
                </a:lnTo>
                <a:lnTo>
                  <a:pt x="984" y="390"/>
                </a:lnTo>
                <a:lnTo>
                  <a:pt x="990" y="378"/>
                </a:lnTo>
                <a:lnTo>
                  <a:pt x="996" y="372"/>
                </a:lnTo>
                <a:lnTo>
                  <a:pt x="1002" y="366"/>
                </a:lnTo>
                <a:lnTo>
                  <a:pt x="1008" y="360"/>
                </a:lnTo>
                <a:lnTo>
                  <a:pt x="1020" y="348"/>
                </a:lnTo>
                <a:lnTo>
                  <a:pt x="1014" y="348"/>
                </a:lnTo>
                <a:lnTo>
                  <a:pt x="1020" y="348"/>
                </a:lnTo>
                <a:lnTo>
                  <a:pt x="1026" y="342"/>
                </a:lnTo>
                <a:lnTo>
                  <a:pt x="1026" y="336"/>
                </a:lnTo>
                <a:lnTo>
                  <a:pt x="1032" y="330"/>
                </a:lnTo>
                <a:lnTo>
                  <a:pt x="1038" y="324"/>
                </a:lnTo>
                <a:lnTo>
                  <a:pt x="1038" y="318"/>
                </a:lnTo>
                <a:lnTo>
                  <a:pt x="1044" y="312"/>
                </a:lnTo>
                <a:lnTo>
                  <a:pt x="1044" y="306"/>
                </a:lnTo>
                <a:lnTo>
                  <a:pt x="1050" y="300"/>
                </a:lnTo>
                <a:lnTo>
                  <a:pt x="1056" y="294"/>
                </a:lnTo>
                <a:lnTo>
                  <a:pt x="1056" y="288"/>
                </a:lnTo>
                <a:lnTo>
                  <a:pt x="1062" y="282"/>
                </a:lnTo>
                <a:lnTo>
                  <a:pt x="1062" y="276"/>
                </a:lnTo>
                <a:lnTo>
                  <a:pt x="1068" y="270"/>
                </a:lnTo>
                <a:lnTo>
                  <a:pt x="1074" y="264"/>
                </a:lnTo>
                <a:lnTo>
                  <a:pt x="1074" y="258"/>
                </a:lnTo>
                <a:lnTo>
                  <a:pt x="1080" y="252"/>
                </a:lnTo>
                <a:lnTo>
                  <a:pt x="1080" y="240"/>
                </a:lnTo>
                <a:lnTo>
                  <a:pt x="1086" y="234"/>
                </a:lnTo>
                <a:lnTo>
                  <a:pt x="1086" y="228"/>
                </a:lnTo>
                <a:lnTo>
                  <a:pt x="1092" y="222"/>
                </a:lnTo>
                <a:lnTo>
                  <a:pt x="1092" y="216"/>
                </a:lnTo>
                <a:lnTo>
                  <a:pt x="1098" y="210"/>
                </a:lnTo>
                <a:lnTo>
                  <a:pt x="1098" y="204"/>
                </a:lnTo>
                <a:lnTo>
                  <a:pt x="1104" y="192"/>
                </a:lnTo>
                <a:lnTo>
                  <a:pt x="1104" y="186"/>
                </a:lnTo>
                <a:lnTo>
                  <a:pt x="1110" y="180"/>
                </a:lnTo>
                <a:lnTo>
                  <a:pt x="1110" y="174"/>
                </a:lnTo>
                <a:lnTo>
                  <a:pt x="1116" y="168"/>
                </a:lnTo>
                <a:lnTo>
                  <a:pt x="1116" y="162"/>
                </a:lnTo>
                <a:lnTo>
                  <a:pt x="1122" y="156"/>
                </a:lnTo>
                <a:lnTo>
                  <a:pt x="1122" y="144"/>
                </a:lnTo>
                <a:lnTo>
                  <a:pt x="1128" y="138"/>
                </a:lnTo>
                <a:lnTo>
                  <a:pt x="1128" y="126"/>
                </a:lnTo>
                <a:lnTo>
                  <a:pt x="1134" y="120"/>
                </a:lnTo>
                <a:lnTo>
                  <a:pt x="1134" y="114"/>
                </a:lnTo>
                <a:lnTo>
                  <a:pt x="1140" y="108"/>
                </a:lnTo>
                <a:lnTo>
                  <a:pt x="1140" y="102"/>
                </a:lnTo>
                <a:lnTo>
                  <a:pt x="1146" y="96"/>
                </a:lnTo>
                <a:lnTo>
                  <a:pt x="1146" y="84"/>
                </a:lnTo>
                <a:lnTo>
                  <a:pt x="1158" y="72"/>
                </a:lnTo>
                <a:lnTo>
                  <a:pt x="1158" y="66"/>
                </a:lnTo>
                <a:lnTo>
                  <a:pt x="1164" y="60"/>
                </a:lnTo>
                <a:lnTo>
                  <a:pt x="1164" y="48"/>
                </a:lnTo>
                <a:lnTo>
                  <a:pt x="1176" y="36"/>
                </a:lnTo>
                <a:lnTo>
                  <a:pt x="1176" y="30"/>
                </a:lnTo>
                <a:lnTo>
                  <a:pt x="1182" y="24"/>
                </a:lnTo>
                <a:lnTo>
                  <a:pt x="1194" y="12"/>
                </a:lnTo>
                <a:lnTo>
                  <a:pt x="1188" y="12"/>
                </a:lnTo>
                <a:lnTo>
                  <a:pt x="1194" y="12"/>
                </a:lnTo>
                <a:lnTo>
                  <a:pt x="1200" y="6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6"/>
                </a:lnTo>
                <a:lnTo>
                  <a:pt x="1236" y="12"/>
                </a:lnTo>
                <a:lnTo>
                  <a:pt x="1242" y="12"/>
                </a:lnTo>
                <a:lnTo>
                  <a:pt x="1248" y="18"/>
                </a:lnTo>
                <a:lnTo>
                  <a:pt x="1254" y="30"/>
                </a:lnTo>
                <a:lnTo>
                  <a:pt x="1260" y="36"/>
                </a:lnTo>
                <a:lnTo>
                  <a:pt x="1266" y="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4181400" y="4838760"/>
            <a:ext cx="76320" cy="123840"/>
          </a:xfrm>
          <a:custGeom>
            <a:avLst/>
            <a:gdLst/>
            <a:ahLst/>
            <a:rect l="l" t="t" r="r" b="b"/>
            <a:pathLst>
              <a:path w="48" h="78">
                <a:moveTo>
                  <a:pt x="0" y="0"/>
                </a:moveTo>
                <a:lnTo>
                  <a:pt x="12" y="12"/>
                </a:lnTo>
                <a:lnTo>
                  <a:pt x="12" y="18"/>
                </a:lnTo>
                <a:lnTo>
                  <a:pt x="18" y="24"/>
                </a:lnTo>
                <a:lnTo>
                  <a:pt x="18" y="30"/>
                </a:lnTo>
                <a:lnTo>
                  <a:pt x="30" y="42"/>
                </a:lnTo>
                <a:lnTo>
                  <a:pt x="30" y="54"/>
                </a:lnTo>
                <a:lnTo>
                  <a:pt x="42" y="66"/>
                </a:lnTo>
                <a:lnTo>
                  <a:pt x="42" y="78"/>
                </a:lnTo>
                <a:lnTo>
                  <a:pt x="48" y="7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2171880" y="4048200"/>
            <a:ext cx="1923840" cy="1514520"/>
          </a:xfrm>
          <a:custGeom>
            <a:avLst/>
            <a:gdLst/>
            <a:ahLst/>
            <a:rect l="l" t="t" r="r" b="b"/>
            <a:pathLst>
              <a:path w="1212" h="954">
                <a:moveTo>
                  <a:pt x="0" y="954"/>
                </a:moveTo>
                <a:lnTo>
                  <a:pt x="120" y="954"/>
                </a:lnTo>
                <a:lnTo>
                  <a:pt x="198" y="954"/>
                </a:lnTo>
                <a:lnTo>
                  <a:pt x="264" y="954"/>
                </a:lnTo>
                <a:lnTo>
                  <a:pt x="312" y="954"/>
                </a:lnTo>
                <a:lnTo>
                  <a:pt x="360" y="954"/>
                </a:lnTo>
                <a:lnTo>
                  <a:pt x="396" y="954"/>
                </a:lnTo>
                <a:lnTo>
                  <a:pt x="432" y="954"/>
                </a:lnTo>
                <a:lnTo>
                  <a:pt x="462" y="954"/>
                </a:lnTo>
                <a:lnTo>
                  <a:pt x="486" y="954"/>
                </a:lnTo>
                <a:lnTo>
                  <a:pt x="510" y="954"/>
                </a:lnTo>
                <a:lnTo>
                  <a:pt x="534" y="954"/>
                </a:lnTo>
                <a:lnTo>
                  <a:pt x="558" y="954"/>
                </a:lnTo>
                <a:lnTo>
                  <a:pt x="576" y="954"/>
                </a:lnTo>
                <a:lnTo>
                  <a:pt x="594" y="954"/>
                </a:lnTo>
                <a:lnTo>
                  <a:pt x="612" y="948"/>
                </a:lnTo>
                <a:lnTo>
                  <a:pt x="624" y="948"/>
                </a:lnTo>
                <a:lnTo>
                  <a:pt x="642" y="948"/>
                </a:lnTo>
                <a:lnTo>
                  <a:pt x="654" y="948"/>
                </a:lnTo>
                <a:lnTo>
                  <a:pt x="672" y="948"/>
                </a:lnTo>
                <a:lnTo>
                  <a:pt x="684" y="948"/>
                </a:lnTo>
                <a:lnTo>
                  <a:pt x="696" y="948"/>
                </a:lnTo>
                <a:lnTo>
                  <a:pt x="708" y="948"/>
                </a:lnTo>
                <a:lnTo>
                  <a:pt x="720" y="942"/>
                </a:lnTo>
                <a:lnTo>
                  <a:pt x="732" y="942"/>
                </a:lnTo>
                <a:lnTo>
                  <a:pt x="744" y="942"/>
                </a:lnTo>
                <a:lnTo>
                  <a:pt x="750" y="942"/>
                </a:lnTo>
                <a:lnTo>
                  <a:pt x="762" y="942"/>
                </a:lnTo>
                <a:lnTo>
                  <a:pt x="774" y="942"/>
                </a:lnTo>
                <a:lnTo>
                  <a:pt x="780" y="936"/>
                </a:lnTo>
                <a:lnTo>
                  <a:pt x="792" y="936"/>
                </a:lnTo>
                <a:lnTo>
                  <a:pt x="798" y="936"/>
                </a:lnTo>
                <a:lnTo>
                  <a:pt x="810" y="936"/>
                </a:lnTo>
                <a:lnTo>
                  <a:pt x="816" y="936"/>
                </a:lnTo>
                <a:lnTo>
                  <a:pt x="822" y="930"/>
                </a:lnTo>
                <a:lnTo>
                  <a:pt x="834" y="930"/>
                </a:lnTo>
                <a:lnTo>
                  <a:pt x="840" y="930"/>
                </a:lnTo>
                <a:lnTo>
                  <a:pt x="846" y="930"/>
                </a:lnTo>
                <a:lnTo>
                  <a:pt x="852" y="924"/>
                </a:lnTo>
                <a:lnTo>
                  <a:pt x="858" y="924"/>
                </a:lnTo>
                <a:lnTo>
                  <a:pt x="870" y="924"/>
                </a:lnTo>
                <a:lnTo>
                  <a:pt x="876" y="918"/>
                </a:lnTo>
                <a:lnTo>
                  <a:pt x="882" y="918"/>
                </a:lnTo>
                <a:lnTo>
                  <a:pt x="888" y="918"/>
                </a:lnTo>
                <a:lnTo>
                  <a:pt x="894" y="912"/>
                </a:lnTo>
                <a:lnTo>
                  <a:pt x="900" y="912"/>
                </a:lnTo>
                <a:lnTo>
                  <a:pt x="906" y="906"/>
                </a:lnTo>
                <a:lnTo>
                  <a:pt x="912" y="906"/>
                </a:lnTo>
                <a:lnTo>
                  <a:pt x="918" y="906"/>
                </a:lnTo>
                <a:lnTo>
                  <a:pt x="924" y="900"/>
                </a:lnTo>
                <a:lnTo>
                  <a:pt x="930" y="900"/>
                </a:lnTo>
                <a:lnTo>
                  <a:pt x="936" y="894"/>
                </a:lnTo>
                <a:lnTo>
                  <a:pt x="942" y="888"/>
                </a:lnTo>
                <a:lnTo>
                  <a:pt x="948" y="888"/>
                </a:lnTo>
                <a:lnTo>
                  <a:pt x="954" y="882"/>
                </a:lnTo>
                <a:lnTo>
                  <a:pt x="960" y="876"/>
                </a:lnTo>
                <a:lnTo>
                  <a:pt x="966" y="870"/>
                </a:lnTo>
                <a:lnTo>
                  <a:pt x="972" y="864"/>
                </a:lnTo>
                <a:lnTo>
                  <a:pt x="978" y="864"/>
                </a:lnTo>
                <a:lnTo>
                  <a:pt x="984" y="858"/>
                </a:lnTo>
                <a:lnTo>
                  <a:pt x="990" y="846"/>
                </a:lnTo>
                <a:lnTo>
                  <a:pt x="996" y="840"/>
                </a:lnTo>
                <a:lnTo>
                  <a:pt x="1002" y="834"/>
                </a:lnTo>
                <a:lnTo>
                  <a:pt x="1008" y="828"/>
                </a:lnTo>
                <a:lnTo>
                  <a:pt x="1014" y="822"/>
                </a:lnTo>
                <a:lnTo>
                  <a:pt x="1014" y="816"/>
                </a:lnTo>
                <a:lnTo>
                  <a:pt x="1020" y="810"/>
                </a:lnTo>
                <a:lnTo>
                  <a:pt x="1026" y="798"/>
                </a:lnTo>
                <a:lnTo>
                  <a:pt x="1026" y="792"/>
                </a:lnTo>
                <a:lnTo>
                  <a:pt x="1032" y="786"/>
                </a:lnTo>
                <a:lnTo>
                  <a:pt x="1038" y="780"/>
                </a:lnTo>
                <a:lnTo>
                  <a:pt x="1038" y="768"/>
                </a:lnTo>
                <a:lnTo>
                  <a:pt x="1044" y="762"/>
                </a:lnTo>
                <a:lnTo>
                  <a:pt x="1044" y="750"/>
                </a:lnTo>
                <a:lnTo>
                  <a:pt x="1050" y="744"/>
                </a:lnTo>
                <a:lnTo>
                  <a:pt x="1056" y="732"/>
                </a:lnTo>
                <a:lnTo>
                  <a:pt x="1056" y="726"/>
                </a:lnTo>
                <a:lnTo>
                  <a:pt x="1062" y="714"/>
                </a:lnTo>
                <a:lnTo>
                  <a:pt x="1062" y="702"/>
                </a:lnTo>
                <a:lnTo>
                  <a:pt x="1068" y="690"/>
                </a:lnTo>
                <a:lnTo>
                  <a:pt x="1074" y="678"/>
                </a:lnTo>
                <a:lnTo>
                  <a:pt x="1074" y="666"/>
                </a:lnTo>
                <a:lnTo>
                  <a:pt x="1080" y="654"/>
                </a:lnTo>
                <a:lnTo>
                  <a:pt x="1080" y="636"/>
                </a:lnTo>
                <a:lnTo>
                  <a:pt x="1086" y="624"/>
                </a:lnTo>
                <a:lnTo>
                  <a:pt x="1086" y="612"/>
                </a:lnTo>
                <a:lnTo>
                  <a:pt x="1092" y="594"/>
                </a:lnTo>
                <a:lnTo>
                  <a:pt x="1092" y="576"/>
                </a:lnTo>
                <a:lnTo>
                  <a:pt x="1098" y="564"/>
                </a:lnTo>
                <a:lnTo>
                  <a:pt x="1098" y="546"/>
                </a:lnTo>
                <a:lnTo>
                  <a:pt x="1104" y="528"/>
                </a:lnTo>
                <a:lnTo>
                  <a:pt x="1104" y="504"/>
                </a:lnTo>
                <a:lnTo>
                  <a:pt x="1110" y="486"/>
                </a:lnTo>
                <a:lnTo>
                  <a:pt x="1110" y="468"/>
                </a:lnTo>
                <a:lnTo>
                  <a:pt x="1116" y="444"/>
                </a:lnTo>
                <a:lnTo>
                  <a:pt x="1116" y="420"/>
                </a:lnTo>
                <a:lnTo>
                  <a:pt x="1122" y="396"/>
                </a:lnTo>
                <a:lnTo>
                  <a:pt x="1122" y="372"/>
                </a:lnTo>
                <a:lnTo>
                  <a:pt x="1128" y="348"/>
                </a:lnTo>
                <a:lnTo>
                  <a:pt x="1128" y="300"/>
                </a:lnTo>
                <a:lnTo>
                  <a:pt x="1134" y="270"/>
                </a:lnTo>
                <a:lnTo>
                  <a:pt x="1134" y="246"/>
                </a:lnTo>
                <a:lnTo>
                  <a:pt x="1140" y="216"/>
                </a:lnTo>
                <a:lnTo>
                  <a:pt x="1140" y="186"/>
                </a:lnTo>
                <a:lnTo>
                  <a:pt x="1146" y="162"/>
                </a:lnTo>
                <a:lnTo>
                  <a:pt x="1146" y="108"/>
                </a:lnTo>
                <a:lnTo>
                  <a:pt x="1152" y="84"/>
                </a:lnTo>
                <a:lnTo>
                  <a:pt x="1152" y="60"/>
                </a:lnTo>
                <a:lnTo>
                  <a:pt x="1158" y="36"/>
                </a:lnTo>
                <a:lnTo>
                  <a:pt x="1158" y="18"/>
                </a:lnTo>
                <a:lnTo>
                  <a:pt x="1164" y="6"/>
                </a:lnTo>
                <a:lnTo>
                  <a:pt x="1164" y="0"/>
                </a:lnTo>
                <a:lnTo>
                  <a:pt x="1170" y="6"/>
                </a:lnTo>
                <a:lnTo>
                  <a:pt x="1170" y="36"/>
                </a:lnTo>
                <a:lnTo>
                  <a:pt x="1176" y="66"/>
                </a:lnTo>
                <a:lnTo>
                  <a:pt x="1176" y="96"/>
                </a:lnTo>
                <a:lnTo>
                  <a:pt x="1182" y="138"/>
                </a:lnTo>
                <a:lnTo>
                  <a:pt x="1182" y="216"/>
                </a:lnTo>
                <a:lnTo>
                  <a:pt x="1188" y="264"/>
                </a:lnTo>
                <a:lnTo>
                  <a:pt x="1188" y="342"/>
                </a:lnTo>
                <a:lnTo>
                  <a:pt x="1194" y="384"/>
                </a:lnTo>
                <a:lnTo>
                  <a:pt x="1194" y="414"/>
                </a:lnTo>
                <a:lnTo>
                  <a:pt x="1200" y="450"/>
                </a:lnTo>
                <a:lnTo>
                  <a:pt x="1200" y="504"/>
                </a:lnTo>
                <a:lnTo>
                  <a:pt x="1206" y="534"/>
                </a:lnTo>
                <a:lnTo>
                  <a:pt x="1206" y="576"/>
                </a:lnTo>
                <a:lnTo>
                  <a:pt x="1212" y="594"/>
                </a:lnTo>
                <a:lnTo>
                  <a:pt x="1212" y="63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4095720" y="5048280"/>
            <a:ext cx="162000" cy="390600"/>
          </a:xfrm>
          <a:custGeom>
            <a:avLst/>
            <a:gdLst/>
            <a:ahLst/>
            <a:rect l="l" t="t" r="r" b="b"/>
            <a:pathLst>
              <a:path w="102" h="246">
                <a:moveTo>
                  <a:pt x="0" y="0"/>
                </a:moveTo>
                <a:lnTo>
                  <a:pt x="6" y="12"/>
                </a:lnTo>
                <a:lnTo>
                  <a:pt x="6" y="36"/>
                </a:lnTo>
                <a:lnTo>
                  <a:pt x="12" y="48"/>
                </a:lnTo>
                <a:lnTo>
                  <a:pt x="12" y="72"/>
                </a:lnTo>
                <a:lnTo>
                  <a:pt x="18" y="78"/>
                </a:lnTo>
                <a:lnTo>
                  <a:pt x="18" y="102"/>
                </a:lnTo>
                <a:lnTo>
                  <a:pt x="24" y="114"/>
                </a:lnTo>
                <a:lnTo>
                  <a:pt x="24" y="126"/>
                </a:lnTo>
                <a:lnTo>
                  <a:pt x="30" y="132"/>
                </a:lnTo>
                <a:lnTo>
                  <a:pt x="30" y="144"/>
                </a:lnTo>
                <a:lnTo>
                  <a:pt x="36" y="150"/>
                </a:lnTo>
                <a:lnTo>
                  <a:pt x="36" y="156"/>
                </a:lnTo>
                <a:lnTo>
                  <a:pt x="42" y="162"/>
                </a:lnTo>
                <a:lnTo>
                  <a:pt x="42" y="174"/>
                </a:lnTo>
                <a:lnTo>
                  <a:pt x="48" y="180"/>
                </a:lnTo>
                <a:lnTo>
                  <a:pt x="54" y="186"/>
                </a:lnTo>
                <a:lnTo>
                  <a:pt x="54" y="192"/>
                </a:lnTo>
                <a:lnTo>
                  <a:pt x="66" y="204"/>
                </a:lnTo>
                <a:lnTo>
                  <a:pt x="66" y="210"/>
                </a:lnTo>
                <a:lnTo>
                  <a:pt x="72" y="216"/>
                </a:lnTo>
                <a:lnTo>
                  <a:pt x="84" y="228"/>
                </a:lnTo>
                <a:lnTo>
                  <a:pt x="84" y="234"/>
                </a:lnTo>
                <a:lnTo>
                  <a:pt x="90" y="240"/>
                </a:lnTo>
                <a:lnTo>
                  <a:pt x="96" y="246"/>
                </a:lnTo>
                <a:lnTo>
                  <a:pt x="102" y="24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 rot="16200000">
            <a:off x="725400" y="454644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 flipV="1">
            <a:off x="5448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5448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 flipV="1">
            <a:off x="5400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5400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flipV="1">
            <a:off x="5353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5353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V="1">
            <a:off x="5286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5286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 flipV="1">
            <a:off x="5219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5219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 flipV="1">
            <a:off x="5448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5448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534312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54774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V="1">
            <a:off x="5762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5762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 flipV="1">
            <a:off x="5943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5943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 flipV="1">
            <a:off x="6076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6076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 flipV="1">
            <a:off x="6181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6181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 flipV="1">
            <a:off x="6257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6257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 flipV="1">
            <a:off x="639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639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V="1">
            <a:off x="6438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6438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 flipV="1">
            <a:off x="6486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6486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 flipV="1">
            <a:off x="6486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6486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6381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6515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6800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6800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 flipV="1">
            <a:off x="698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698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 flipV="1">
            <a:off x="7115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7115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 flipV="1">
            <a:off x="7219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7219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 flipV="1">
            <a:off x="7296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7296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 flipV="1">
            <a:off x="7372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7372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 flipV="1">
            <a:off x="7429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7429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7486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486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483804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483804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483804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483804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4771080" y="36100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5448240" y="4705200"/>
            <a:ext cx="2009880" cy="857520"/>
          </a:xfrm>
          <a:custGeom>
            <a:avLst/>
            <a:gdLst/>
            <a:ahLst/>
            <a:rect l="l" t="t" r="r" b="b"/>
            <a:pathLst>
              <a:path w="1266" h="540">
                <a:moveTo>
                  <a:pt x="0" y="540"/>
                </a:moveTo>
                <a:lnTo>
                  <a:pt x="120" y="540"/>
                </a:lnTo>
                <a:lnTo>
                  <a:pt x="198" y="540"/>
                </a:lnTo>
                <a:lnTo>
                  <a:pt x="264" y="540"/>
                </a:lnTo>
                <a:lnTo>
                  <a:pt x="312" y="540"/>
                </a:lnTo>
                <a:lnTo>
                  <a:pt x="360" y="540"/>
                </a:lnTo>
                <a:lnTo>
                  <a:pt x="396" y="540"/>
                </a:lnTo>
                <a:lnTo>
                  <a:pt x="432" y="540"/>
                </a:lnTo>
                <a:lnTo>
                  <a:pt x="462" y="540"/>
                </a:lnTo>
                <a:lnTo>
                  <a:pt x="486" y="534"/>
                </a:lnTo>
                <a:lnTo>
                  <a:pt x="510" y="534"/>
                </a:lnTo>
                <a:lnTo>
                  <a:pt x="534" y="534"/>
                </a:lnTo>
                <a:lnTo>
                  <a:pt x="558" y="534"/>
                </a:lnTo>
                <a:lnTo>
                  <a:pt x="576" y="534"/>
                </a:lnTo>
                <a:lnTo>
                  <a:pt x="594" y="534"/>
                </a:lnTo>
                <a:lnTo>
                  <a:pt x="612" y="534"/>
                </a:lnTo>
                <a:lnTo>
                  <a:pt x="624" y="528"/>
                </a:lnTo>
                <a:lnTo>
                  <a:pt x="642" y="528"/>
                </a:lnTo>
                <a:lnTo>
                  <a:pt x="654" y="528"/>
                </a:lnTo>
                <a:lnTo>
                  <a:pt x="672" y="528"/>
                </a:lnTo>
                <a:lnTo>
                  <a:pt x="684" y="528"/>
                </a:lnTo>
                <a:lnTo>
                  <a:pt x="696" y="528"/>
                </a:lnTo>
                <a:lnTo>
                  <a:pt x="708" y="522"/>
                </a:lnTo>
                <a:lnTo>
                  <a:pt x="720" y="522"/>
                </a:lnTo>
                <a:lnTo>
                  <a:pt x="732" y="522"/>
                </a:lnTo>
                <a:lnTo>
                  <a:pt x="744" y="522"/>
                </a:lnTo>
                <a:lnTo>
                  <a:pt x="750" y="516"/>
                </a:lnTo>
                <a:lnTo>
                  <a:pt x="762" y="516"/>
                </a:lnTo>
                <a:lnTo>
                  <a:pt x="774" y="516"/>
                </a:lnTo>
                <a:lnTo>
                  <a:pt x="780" y="516"/>
                </a:lnTo>
                <a:lnTo>
                  <a:pt x="792" y="510"/>
                </a:lnTo>
                <a:lnTo>
                  <a:pt x="798" y="510"/>
                </a:lnTo>
                <a:lnTo>
                  <a:pt x="810" y="510"/>
                </a:lnTo>
                <a:lnTo>
                  <a:pt x="816" y="504"/>
                </a:lnTo>
                <a:lnTo>
                  <a:pt x="822" y="504"/>
                </a:lnTo>
                <a:lnTo>
                  <a:pt x="834" y="504"/>
                </a:lnTo>
                <a:lnTo>
                  <a:pt x="840" y="504"/>
                </a:lnTo>
                <a:lnTo>
                  <a:pt x="846" y="498"/>
                </a:lnTo>
                <a:lnTo>
                  <a:pt x="852" y="498"/>
                </a:lnTo>
                <a:lnTo>
                  <a:pt x="858" y="492"/>
                </a:lnTo>
                <a:lnTo>
                  <a:pt x="870" y="492"/>
                </a:lnTo>
                <a:lnTo>
                  <a:pt x="876" y="492"/>
                </a:lnTo>
                <a:lnTo>
                  <a:pt x="882" y="486"/>
                </a:lnTo>
                <a:lnTo>
                  <a:pt x="888" y="486"/>
                </a:lnTo>
                <a:lnTo>
                  <a:pt x="894" y="480"/>
                </a:lnTo>
                <a:lnTo>
                  <a:pt x="900" y="480"/>
                </a:lnTo>
                <a:lnTo>
                  <a:pt x="906" y="474"/>
                </a:lnTo>
                <a:lnTo>
                  <a:pt x="912" y="474"/>
                </a:lnTo>
                <a:lnTo>
                  <a:pt x="918" y="468"/>
                </a:lnTo>
                <a:lnTo>
                  <a:pt x="924" y="468"/>
                </a:lnTo>
                <a:lnTo>
                  <a:pt x="930" y="462"/>
                </a:lnTo>
                <a:lnTo>
                  <a:pt x="936" y="456"/>
                </a:lnTo>
                <a:lnTo>
                  <a:pt x="942" y="456"/>
                </a:lnTo>
                <a:lnTo>
                  <a:pt x="948" y="450"/>
                </a:lnTo>
                <a:lnTo>
                  <a:pt x="954" y="444"/>
                </a:lnTo>
                <a:lnTo>
                  <a:pt x="960" y="444"/>
                </a:lnTo>
                <a:lnTo>
                  <a:pt x="966" y="432"/>
                </a:lnTo>
                <a:lnTo>
                  <a:pt x="972" y="432"/>
                </a:lnTo>
                <a:lnTo>
                  <a:pt x="978" y="426"/>
                </a:lnTo>
                <a:lnTo>
                  <a:pt x="984" y="420"/>
                </a:lnTo>
                <a:lnTo>
                  <a:pt x="990" y="414"/>
                </a:lnTo>
                <a:lnTo>
                  <a:pt x="996" y="408"/>
                </a:lnTo>
                <a:lnTo>
                  <a:pt x="1002" y="396"/>
                </a:lnTo>
                <a:lnTo>
                  <a:pt x="1008" y="390"/>
                </a:lnTo>
                <a:lnTo>
                  <a:pt x="1014" y="384"/>
                </a:lnTo>
                <a:lnTo>
                  <a:pt x="1020" y="378"/>
                </a:lnTo>
                <a:lnTo>
                  <a:pt x="1026" y="372"/>
                </a:lnTo>
                <a:lnTo>
                  <a:pt x="1026" y="366"/>
                </a:lnTo>
                <a:lnTo>
                  <a:pt x="1032" y="360"/>
                </a:lnTo>
                <a:lnTo>
                  <a:pt x="1038" y="354"/>
                </a:lnTo>
                <a:lnTo>
                  <a:pt x="1038" y="348"/>
                </a:lnTo>
                <a:lnTo>
                  <a:pt x="1044" y="342"/>
                </a:lnTo>
                <a:lnTo>
                  <a:pt x="1044" y="336"/>
                </a:lnTo>
                <a:lnTo>
                  <a:pt x="1050" y="330"/>
                </a:lnTo>
                <a:lnTo>
                  <a:pt x="1056" y="318"/>
                </a:lnTo>
                <a:lnTo>
                  <a:pt x="1056" y="312"/>
                </a:lnTo>
                <a:lnTo>
                  <a:pt x="1062" y="306"/>
                </a:lnTo>
                <a:lnTo>
                  <a:pt x="1062" y="300"/>
                </a:lnTo>
                <a:lnTo>
                  <a:pt x="1068" y="294"/>
                </a:lnTo>
                <a:lnTo>
                  <a:pt x="1074" y="288"/>
                </a:lnTo>
                <a:lnTo>
                  <a:pt x="1074" y="282"/>
                </a:lnTo>
                <a:lnTo>
                  <a:pt x="1080" y="270"/>
                </a:lnTo>
                <a:lnTo>
                  <a:pt x="1080" y="264"/>
                </a:lnTo>
                <a:lnTo>
                  <a:pt x="1086" y="258"/>
                </a:lnTo>
                <a:lnTo>
                  <a:pt x="1086" y="252"/>
                </a:lnTo>
                <a:lnTo>
                  <a:pt x="1092" y="246"/>
                </a:lnTo>
                <a:lnTo>
                  <a:pt x="1092" y="234"/>
                </a:lnTo>
                <a:lnTo>
                  <a:pt x="1098" y="228"/>
                </a:lnTo>
                <a:lnTo>
                  <a:pt x="1098" y="222"/>
                </a:lnTo>
                <a:lnTo>
                  <a:pt x="1104" y="216"/>
                </a:lnTo>
                <a:lnTo>
                  <a:pt x="1104" y="204"/>
                </a:lnTo>
                <a:lnTo>
                  <a:pt x="1110" y="198"/>
                </a:lnTo>
                <a:lnTo>
                  <a:pt x="1110" y="192"/>
                </a:lnTo>
                <a:lnTo>
                  <a:pt x="1116" y="186"/>
                </a:lnTo>
                <a:lnTo>
                  <a:pt x="1116" y="180"/>
                </a:lnTo>
                <a:lnTo>
                  <a:pt x="1122" y="168"/>
                </a:lnTo>
                <a:lnTo>
                  <a:pt x="1122" y="162"/>
                </a:lnTo>
                <a:lnTo>
                  <a:pt x="1128" y="156"/>
                </a:lnTo>
                <a:lnTo>
                  <a:pt x="1128" y="144"/>
                </a:lnTo>
                <a:lnTo>
                  <a:pt x="1134" y="132"/>
                </a:lnTo>
                <a:lnTo>
                  <a:pt x="1134" y="126"/>
                </a:lnTo>
                <a:lnTo>
                  <a:pt x="1140" y="120"/>
                </a:lnTo>
                <a:lnTo>
                  <a:pt x="1140" y="114"/>
                </a:lnTo>
                <a:lnTo>
                  <a:pt x="1146" y="108"/>
                </a:lnTo>
                <a:lnTo>
                  <a:pt x="1146" y="96"/>
                </a:lnTo>
                <a:lnTo>
                  <a:pt x="1152" y="90"/>
                </a:lnTo>
                <a:lnTo>
                  <a:pt x="1152" y="84"/>
                </a:lnTo>
                <a:lnTo>
                  <a:pt x="1158" y="78"/>
                </a:lnTo>
                <a:lnTo>
                  <a:pt x="1158" y="72"/>
                </a:lnTo>
                <a:lnTo>
                  <a:pt x="1164" y="66"/>
                </a:lnTo>
                <a:lnTo>
                  <a:pt x="1164" y="60"/>
                </a:lnTo>
                <a:lnTo>
                  <a:pt x="1170" y="54"/>
                </a:lnTo>
                <a:lnTo>
                  <a:pt x="1170" y="42"/>
                </a:lnTo>
                <a:lnTo>
                  <a:pt x="1176" y="36"/>
                </a:lnTo>
                <a:lnTo>
                  <a:pt x="1188" y="24"/>
                </a:lnTo>
                <a:lnTo>
                  <a:pt x="1188" y="18"/>
                </a:lnTo>
                <a:lnTo>
                  <a:pt x="1194" y="12"/>
                </a:lnTo>
                <a:lnTo>
                  <a:pt x="1200" y="6"/>
                </a:lnTo>
                <a:lnTo>
                  <a:pt x="1206" y="6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6"/>
                </a:lnTo>
                <a:lnTo>
                  <a:pt x="1236" y="6"/>
                </a:lnTo>
                <a:lnTo>
                  <a:pt x="1242" y="12"/>
                </a:lnTo>
                <a:lnTo>
                  <a:pt x="1248" y="18"/>
                </a:lnTo>
                <a:lnTo>
                  <a:pt x="1254" y="24"/>
                </a:lnTo>
                <a:lnTo>
                  <a:pt x="1266" y="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7458120" y="4762440"/>
            <a:ext cx="76320" cy="142920"/>
          </a:xfrm>
          <a:custGeom>
            <a:avLst/>
            <a:gdLst/>
            <a:ahLst/>
            <a:rect l="l" t="t" r="r" b="b"/>
            <a:pathLst>
              <a:path w="48" h="90">
                <a:moveTo>
                  <a:pt x="0" y="0"/>
                </a:moveTo>
                <a:lnTo>
                  <a:pt x="0" y="6"/>
                </a:lnTo>
                <a:lnTo>
                  <a:pt x="12" y="18"/>
                </a:lnTo>
                <a:lnTo>
                  <a:pt x="12" y="24"/>
                </a:lnTo>
                <a:lnTo>
                  <a:pt x="18" y="30"/>
                </a:lnTo>
                <a:lnTo>
                  <a:pt x="18" y="36"/>
                </a:lnTo>
                <a:lnTo>
                  <a:pt x="24" y="42"/>
                </a:lnTo>
                <a:lnTo>
                  <a:pt x="24" y="48"/>
                </a:lnTo>
                <a:lnTo>
                  <a:pt x="30" y="54"/>
                </a:lnTo>
                <a:lnTo>
                  <a:pt x="30" y="60"/>
                </a:lnTo>
                <a:lnTo>
                  <a:pt x="36" y="66"/>
                </a:lnTo>
                <a:lnTo>
                  <a:pt x="36" y="72"/>
                </a:lnTo>
                <a:lnTo>
                  <a:pt x="42" y="78"/>
                </a:lnTo>
                <a:lnTo>
                  <a:pt x="42" y="84"/>
                </a:lnTo>
                <a:lnTo>
                  <a:pt x="48" y="9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5448240" y="3819600"/>
            <a:ext cx="1924200" cy="1743120"/>
          </a:xfrm>
          <a:custGeom>
            <a:avLst/>
            <a:gdLst/>
            <a:ahLst/>
            <a:rect l="l" t="t" r="r" b="b"/>
            <a:pathLst>
              <a:path w="1212" h="1098">
                <a:moveTo>
                  <a:pt x="0" y="1098"/>
                </a:moveTo>
                <a:lnTo>
                  <a:pt x="120" y="1098"/>
                </a:lnTo>
                <a:lnTo>
                  <a:pt x="198" y="1098"/>
                </a:lnTo>
                <a:lnTo>
                  <a:pt x="264" y="1098"/>
                </a:lnTo>
                <a:lnTo>
                  <a:pt x="312" y="1098"/>
                </a:lnTo>
                <a:lnTo>
                  <a:pt x="360" y="1098"/>
                </a:lnTo>
                <a:lnTo>
                  <a:pt x="396" y="1098"/>
                </a:lnTo>
                <a:lnTo>
                  <a:pt x="432" y="1098"/>
                </a:lnTo>
                <a:lnTo>
                  <a:pt x="462" y="1098"/>
                </a:lnTo>
                <a:lnTo>
                  <a:pt x="486" y="1098"/>
                </a:lnTo>
                <a:lnTo>
                  <a:pt x="510" y="1098"/>
                </a:lnTo>
                <a:lnTo>
                  <a:pt x="534" y="1098"/>
                </a:lnTo>
                <a:lnTo>
                  <a:pt x="558" y="1098"/>
                </a:lnTo>
                <a:lnTo>
                  <a:pt x="576" y="1092"/>
                </a:lnTo>
                <a:lnTo>
                  <a:pt x="594" y="1092"/>
                </a:lnTo>
                <a:lnTo>
                  <a:pt x="612" y="1092"/>
                </a:lnTo>
                <a:lnTo>
                  <a:pt x="624" y="1092"/>
                </a:lnTo>
                <a:lnTo>
                  <a:pt x="642" y="1092"/>
                </a:lnTo>
                <a:lnTo>
                  <a:pt x="654" y="1092"/>
                </a:lnTo>
                <a:lnTo>
                  <a:pt x="672" y="1092"/>
                </a:lnTo>
                <a:lnTo>
                  <a:pt x="684" y="1092"/>
                </a:lnTo>
                <a:lnTo>
                  <a:pt x="696" y="1086"/>
                </a:lnTo>
                <a:lnTo>
                  <a:pt x="708" y="1086"/>
                </a:lnTo>
                <a:lnTo>
                  <a:pt x="720" y="1086"/>
                </a:lnTo>
                <a:lnTo>
                  <a:pt x="732" y="1086"/>
                </a:lnTo>
                <a:lnTo>
                  <a:pt x="744" y="1086"/>
                </a:lnTo>
                <a:lnTo>
                  <a:pt x="750" y="1086"/>
                </a:lnTo>
                <a:lnTo>
                  <a:pt x="762" y="1080"/>
                </a:lnTo>
                <a:lnTo>
                  <a:pt x="774" y="1080"/>
                </a:lnTo>
                <a:lnTo>
                  <a:pt x="780" y="1080"/>
                </a:lnTo>
                <a:lnTo>
                  <a:pt x="792" y="1080"/>
                </a:lnTo>
                <a:lnTo>
                  <a:pt x="798" y="1074"/>
                </a:lnTo>
                <a:lnTo>
                  <a:pt x="810" y="1074"/>
                </a:lnTo>
                <a:lnTo>
                  <a:pt x="816" y="1074"/>
                </a:lnTo>
                <a:lnTo>
                  <a:pt x="822" y="1074"/>
                </a:lnTo>
                <a:lnTo>
                  <a:pt x="834" y="1068"/>
                </a:lnTo>
                <a:lnTo>
                  <a:pt x="840" y="1068"/>
                </a:lnTo>
                <a:lnTo>
                  <a:pt x="846" y="1068"/>
                </a:lnTo>
                <a:lnTo>
                  <a:pt x="852" y="1062"/>
                </a:lnTo>
                <a:lnTo>
                  <a:pt x="858" y="1062"/>
                </a:lnTo>
                <a:lnTo>
                  <a:pt x="870" y="1062"/>
                </a:lnTo>
                <a:lnTo>
                  <a:pt x="876" y="1056"/>
                </a:lnTo>
                <a:lnTo>
                  <a:pt x="882" y="1056"/>
                </a:lnTo>
                <a:lnTo>
                  <a:pt x="888" y="1056"/>
                </a:lnTo>
                <a:lnTo>
                  <a:pt x="894" y="1050"/>
                </a:lnTo>
                <a:lnTo>
                  <a:pt x="900" y="1050"/>
                </a:lnTo>
                <a:lnTo>
                  <a:pt x="906" y="1044"/>
                </a:lnTo>
                <a:lnTo>
                  <a:pt x="912" y="1044"/>
                </a:lnTo>
                <a:lnTo>
                  <a:pt x="918" y="1038"/>
                </a:lnTo>
                <a:lnTo>
                  <a:pt x="924" y="1038"/>
                </a:lnTo>
                <a:lnTo>
                  <a:pt x="930" y="1032"/>
                </a:lnTo>
                <a:lnTo>
                  <a:pt x="936" y="1026"/>
                </a:lnTo>
                <a:lnTo>
                  <a:pt x="942" y="1026"/>
                </a:lnTo>
                <a:lnTo>
                  <a:pt x="948" y="1020"/>
                </a:lnTo>
                <a:lnTo>
                  <a:pt x="954" y="1014"/>
                </a:lnTo>
                <a:lnTo>
                  <a:pt x="960" y="1014"/>
                </a:lnTo>
                <a:lnTo>
                  <a:pt x="966" y="1002"/>
                </a:lnTo>
                <a:lnTo>
                  <a:pt x="972" y="996"/>
                </a:lnTo>
                <a:lnTo>
                  <a:pt x="978" y="996"/>
                </a:lnTo>
                <a:lnTo>
                  <a:pt x="984" y="990"/>
                </a:lnTo>
                <a:lnTo>
                  <a:pt x="990" y="978"/>
                </a:lnTo>
                <a:lnTo>
                  <a:pt x="996" y="972"/>
                </a:lnTo>
                <a:lnTo>
                  <a:pt x="1002" y="966"/>
                </a:lnTo>
                <a:lnTo>
                  <a:pt x="1002" y="960"/>
                </a:lnTo>
                <a:lnTo>
                  <a:pt x="1008" y="954"/>
                </a:lnTo>
                <a:lnTo>
                  <a:pt x="1014" y="948"/>
                </a:lnTo>
                <a:lnTo>
                  <a:pt x="1014" y="942"/>
                </a:lnTo>
                <a:lnTo>
                  <a:pt x="1020" y="930"/>
                </a:lnTo>
                <a:lnTo>
                  <a:pt x="1026" y="924"/>
                </a:lnTo>
                <a:lnTo>
                  <a:pt x="1026" y="918"/>
                </a:lnTo>
                <a:lnTo>
                  <a:pt x="1032" y="906"/>
                </a:lnTo>
                <a:lnTo>
                  <a:pt x="1038" y="900"/>
                </a:lnTo>
                <a:lnTo>
                  <a:pt x="1038" y="894"/>
                </a:lnTo>
                <a:lnTo>
                  <a:pt x="1044" y="882"/>
                </a:lnTo>
                <a:lnTo>
                  <a:pt x="1044" y="870"/>
                </a:lnTo>
                <a:lnTo>
                  <a:pt x="1050" y="864"/>
                </a:lnTo>
                <a:lnTo>
                  <a:pt x="1056" y="852"/>
                </a:lnTo>
                <a:lnTo>
                  <a:pt x="1056" y="840"/>
                </a:lnTo>
                <a:lnTo>
                  <a:pt x="1062" y="828"/>
                </a:lnTo>
                <a:lnTo>
                  <a:pt x="1062" y="816"/>
                </a:lnTo>
                <a:lnTo>
                  <a:pt x="1068" y="804"/>
                </a:lnTo>
                <a:lnTo>
                  <a:pt x="1074" y="792"/>
                </a:lnTo>
                <a:lnTo>
                  <a:pt x="1074" y="774"/>
                </a:lnTo>
                <a:lnTo>
                  <a:pt x="1080" y="762"/>
                </a:lnTo>
                <a:lnTo>
                  <a:pt x="1080" y="744"/>
                </a:lnTo>
                <a:lnTo>
                  <a:pt x="1086" y="732"/>
                </a:lnTo>
                <a:lnTo>
                  <a:pt x="1086" y="714"/>
                </a:lnTo>
                <a:lnTo>
                  <a:pt x="1092" y="696"/>
                </a:lnTo>
                <a:lnTo>
                  <a:pt x="1092" y="678"/>
                </a:lnTo>
                <a:lnTo>
                  <a:pt x="1098" y="660"/>
                </a:lnTo>
                <a:lnTo>
                  <a:pt x="1098" y="642"/>
                </a:lnTo>
                <a:lnTo>
                  <a:pt x="1104" y="618"/>
                </a:lnTo>
                <a:lnTo>
                  <a:pt x="1104" y="600"/>
                </a:lnTo>
                <a:lnTo>
                  <a:pt x="1110" y="576"/>
                </a:lnTo>
                <a:lnTo>
                  <a:pt x="1110" y="552"/>
                </a:lnTo>
                <a:lnTo>
                  <a:pt x="1116" y="528"/>
                </a:lnTo>
                <a:lnTo>
                  <a:pt x="1116" y="504"/>
                </a:lnTo>
                <a:lnTo>
                  <a:pt x="1122" y="480"/>
                </a:lnTo>
                <a:lnTo>
                  <a:pt x="1122" y="450"/>
                </a:lnTo>
                <a:lnTo>
                  <a:pt x="1128" y="420"/>
                </a:lnTo>
                <a:lnTo>
                  <a:pt x="1128" y="366"/>
                </a:lnTo>
                <a:lnTo>
                  <a:pt x="1134" y="330"/>
                </a:lnTo>
                <a:lnTo>
                  <a:pt x="1134" y="300"/>
                </a:lnTo>
                <a:lnTo>
                  <a:pt x="1140" y="270"/>
                </a:lnTo>
                <a:lnTo>
                  <a:pt x="1140" y="234"/>
                </a:lnTo>
                <a:lnTo>
                  <a:pt x="1146" y="204"/>
                </a:lnTo>
                <a:lnTo>
                  <a:pt x="1146" y="138"/>
                </a:lnTo>
                <a:lnTo>
                  <a:pt x="1152" y="108"/>
                </a:lnTo>
                <a:lnTo>
                  <a:pt x="1152" y="84"/>
                </a:lnTo>
                <a:lnTo>
                  <a:pt x="1158" y="54"/>
                </a:lnTo>
                <a:lnTo>
                  <a:pt x="1158" y="36"/>
                </a:lnTo>
                <a:lnTo>
                  <a:pt x="1164" y="18"/>
                </a:lnTo>
                <a:lnTo>
                  <a:pt x="1164" y="0"/>
                </a:lnTo>
                <a:lnTo>
                  <a:pt x="1170" y="0"/>
                </a:lnTo>
                <a:lnTo>
                  <a:pt x="1170" y="30"/>
                </a:lnTo>
                <a:lnTo>
                  <a:pt x="1176" y="54"/>
                </a:lnTo>
                <a:lnTo>
                  <a:pt x="1176" y="84"/>
                </a:lnTo>
                <a:lnTo>
                  <a:pt x="1182" y="126"/>
                </a:lnTo>
                <a:lnTo>
                  <a:pt x="1182" y="216"/>
                </a:lnTo>
                <a:lnTo>
                  <a:pt x="1188" y="258"/>
                </a:lnTo>
                <a:lnTo>
                  <a:pt x="1188" y="348"/>
                </a:lnTo>
                <a:lnTo>
                  <a:pt x="1194" y="390"/>
                </a:lnTo>
                <a:lnTo>
                  <a:pt x="1194" y="426"/>
                </a:lnTo>
                <a:lnTo>
                  <a:pt x="1200" y="462"/>
                </a:lnTo>
                <a:lnTo>
                  <a:pt x="1200" y="528"/>
                </a:lnTo>
                <a:lnTo>
                  <a:pt x="1206" y="558"/>
                </a:lnTo>
                <a:lnTo>
                  <a:pt x="1206" y="606"/>
                </a:lnTo>
                <a:lnTo>
                  <a:pt x="1212" y="63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7372440" y="4819680"/>
            <a:ext cx="162000" cy="533520"/>
          </a:xfrm>
          <a:custGeom>
            <a:avLst/>
            <a:gdLst/>
            <a:ahLst/>
            <a:rect l="l" t="t" r="r" b="b"/>
            <a:pathLst>
              <a:path w="102" h="336">
                <a:moveTo>
                  <a:pt x="0" y="0"/>
                </a:moveTo>
                <a:lnTo>
                  <a:pt x="0" y="36"/>
                </a:lnTo>
                <a:lnTo>
                  <a:pt x="6" y="54"/>
                </a:lnTo>
                <a:lnTo>
                  <a:pt x="6" y="84"/>
                </a:lnTo>
                <a:lnTo>
                  <a:pt x="12" y="96"/>
                </a:lnTo>
                <a:lnTo>
                  <a:pt x="12" y="120"/>
                </a:lnTo>
                <a:lnTo>
                  <a:pt x="18" y="132"/>
                </a:lnTo>
                <a:lnTo>
                  <a:pt x="18" y="162"/>
                </a:lnTo>
                <a:lnTo>
                  <a:pt x="24" y="168"/>
                </a:lnTo>
                <a:lnTo>
                  <a:pt x="24" y="186"/>
                </a:lnTo>
                <a:lnTo>
                  <a:pt x="30" y="192"/>
                </a:lnTo>
                <a:lnTo>
                  <a:pt x="30" y="204"/>
                </a:lnTo>
                <a:lnTo>
                  <a:pt x="36" y="210"/>
                </a:lnTo>
                <a:lnTo>
                  <a:pt x="36" y="222"/>
                </a:lnTo>
                <a:lnTo>
                  <a:pt x="42" y="228"/>
                </a:lnTo>
                <a:lnTo>
                  <a:pt x="42" y="246"/>
                </a:lnTo>
                <a:lnTo>
                  <a:pt x="54" y="258"/>
                </a:lnTo>
                <a:lnTo>
                  <a:pt x="54" y="270"/>
                </a:lnTo>
                <a:lnTo>
                  <a:pt x="60" y="276"/>
                </a:lnTo>
                <a:lnTo>
                  <a:pt x="60" y="282"/>
                </a:lnTo>
                <a:lnTo>
                  <a:pt x="72" y="294"/>
                </a:lnTo>
                <a:lnTo>
                  <a:pt x="72" y="300"/>
                </a:lnTo>
                <a:lnTo>
                  <a:pt x="84" y="312"/>
                </a:lnTo>
                <a:lnTo>
                  <a:pt x="84" y="318"/>
                </a:lnTo>
                <a:lnTo>
                  <a:pt x="90" y="324"/>
                </a:lnTo>
                <a:lnTo>
                  <a:pt x="96" y="330"/>
                </a:lnTo>
                <a:lnTo>
                  <a:pt x="102" y="33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 rot="16200000">
            <a:off x="4067280" y="454968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3269880" y="22860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 flipV="1">
            <a:off x="2171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2171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 flipV="1">
            <a:off x="2124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2124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 flipV="1">
            <a:off x="20764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20764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 flipV="1">
            <a:off x="2009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2009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 flipV="1">
            <a:off x="1943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1943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 flipV="1">
            <a:off x="21718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21718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20664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22006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 flipV="1">
            <a:off x="2486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2486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 flipV="1">
            <a:off x="2666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2666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 flipV="1">
            <a:off x="2800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2800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 flipV="1">
            <a:off x="2905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2905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 flipV="1">
            <a:off x="29811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29811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 flipV="1">
            <a:off x="3114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3114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 flipV="1">
            <a:off x="3162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3162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 flipV="1">
            <a:off x="3209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3209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V="1">
            <a:off x="32097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32097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31046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238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 flipV="1">
            <a:off x="3524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3524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 flipV="1">
            <a:off x="37051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7051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 flipV="1">
            <a:off x="3838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3838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V="1">
            <a:off x="3943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3943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 flipV="1">
            <a:off x="4019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4019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 flipV="1">
            <a:off x="4095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4095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V="1">
            <a:off x="4152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4152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 flipV="1">
            <a:off x="4210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4210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2171880" y="2048040"/>
            <a:ext cx="1981080" cy="923760"/>
          </a:xfrm>
          <a:custGeom>
            <a:avLst/>
            <a:gdLst/>
            <a:ahLst/>
            <a:rect l="l" t="t" r="r" b="b"/>
            <a:pathLst>
              <a:path w="1248" h="582">
                <a:moveTo>
                  <a:pt x="0" y="582"/>
                </a:moveTo>
                <a:lnTo>
                  <a:pt x="120" y="582"/>
                </a:lnTo>
                <a:lnTo>
                  <a:pt x="198" y="582"/>
                </a:lnTo>
                <a:lnTo>
                  <a:pt x="264" y="582"/>
                </a:lnTo>
                <a:lnTo>
                  <a:pt x="312" y="582"/>
                </a:lnTo>
                <a:lnTo>
                  <a:pt x="360" y="582"/>
                </a:lnTo>
                <a:lnTo>
                  <a:pt x="396" y="582"/>
                </a:lnTo>
                <a:lnTo>
                  <a:pt x="432" y="582"/>
                </a:lnTo>
                <a:lnTo>
                  <a:pt x="462" y="582"/>
                </a:lnTo>
                <a:lnTo>
                  <a:pt x="486" y="582"/>
                </a:lnTo>
                <a:lnTo>
                  <a:pt x="510" y="576"/>
                </a:lnTo>
                <a:lnTo>
                  <a:pt x="534" y="576"/>
                </a:lnTo>
                <a:lnTo>
                  <a:pt x="558" y="576"/>
                </a:lnTo>
                <a:lnTo>
                  <a:pt x="576" y="576"/>
                </a:lnTo>
                <a:lnTo>
                  <a:pt x="594" y="576"/>
                </a:lnTo>
                <a:lnTo>
                  <a:pt x="612" y="576"/>
                </a:lnTo>
                <a:lnTo>
                  <a:pt x="624" y="576"/>
                </a:lnTo>
                <a:lnTo>
                  <a:pt x="642" y="576"/>
                </a:lnTo>
                <a:lnTo>
                  <a:pt x="654" y="576"/>
                </a:lnTo>
                <a:lnTo>
                  <a:pt x="672" y="576"/>
                </a:lnTo>
                <a:lnTo>
                  <a:pt x="684" y="576"/>
                </a:lnTo>
                <a:lnTo>
                  <a:pt x="696" y="576"/>
                </a:lnTo>
                <a:lnTo>
                  <a:pt x="708" y="576"/>
                </a:lnTo>
                <a:lnTo>
                  <a:pt x="720" y="576"/>
                </a:lnTo>
                <a:lnTo>
                  <a:pt x="732" y="570"/>
                </a:lnTo>
                <a:lnTo>
                  <a:pt x="744" y="570"/>
                </a:lnTo>
                <a:lnTo>
                  <a:pt x="750" y="570"/>
                </a:lnTo>
                <a:lnTo>
                  <a:pt x="762" y="570"/>
                </a:lnTo>
                <a:lnTo>
                  <a:pt x="774" y="570"/>
                </a:lnTo>
                <a:lnTo>
                  <a:pt x="780" y="570"/>
                </a:lnTo>
                <a:lnTo>
                  <a:pt x="792" y="570"/>
                </a:lnTo>
                <a:lnTo>
                  <a:pt x="798" y="570"/>
                </a:lnTo>
                <a:lnTo>
                  <a:pt x="810" y="570"/>
                </a:lnTo>
                <a:lnTo>
                  <a:pt x="816" y="570"/>
                </a:lnTo>
                <a:lnTo>
                  <a:pt x="822" y="564"/>
                </a:lnTo>
                <a:lnTo>
                  <a:pt x="834" y="564"/>
                </a:lnTo>
                <a:lnTo>
                  <a:pt x="840" y="564"/>
                </a:lnTo>
                <a:lnTo>
                  <a:pt x="846" y="564"/>
                </a:lnTo>
                <a:lnTo>
                  <a:pt x="852" y="564"/>
                </a:lnTo>
                <a:lnTo>
                  <a:pt x="858" y="564"/>
                </a:lnTo>
                <a:lnTo>
                  <a:pt x="870" y="564"/>
                </a:lnTo>
                <a:lnTo>
                  <a:pt x="876" y="558"/>
                </a:lnTo>
                <a:lnTo>
                  <a:pt x="882" y="558"/>
                </a:lnTo>
                <a:lnTo>
                  <a:pt x="888" y="558"/>
                </a:lnTo>
                <a:lnTo>
                  <a:pt x="894" y="558"/>
                </a:lnTo>
                <a:lnTo>
                  <a:pt x="900" y="558"/>
                </a:lnTo>
                <a:lnTo>
                  <a:pt x="906" y="558"/>
                </a:lnTo>
                <a:lnTo>
                  <a:pt x="912" y="552"/>
                </a:lnTo>
                <a:lnTo>
                  <a:pt x="918" y="552"/>
                </a:lnTo>
                <a:lnTo>
                  <a:pt x="924" y="552"/>
                </a:lnTo>
                <a:lnTo>
                  <a:pt x="930" y="552"/>
                </a:lnTo>
                <a:lnTo>
                  <a:pt x="936" y="552"/>
                </a:lnTo>
                <a:lnTo>
                  <a:pt x="942" y="546"/>
                </a:lnTo>
                <a:lnTo>
                  <a:pt x="948" y="546"/>
                </a:lnTo>
                <a:lnTo>
                  <a:pt x="954" y="546"/>
                </a:lnTo>
                <a:lnTo>
                  <a:pt x="960" y="546"/>
                </a:lnTo>
                <a:lnTo>
                  <a:pt x="966" y="540"/>
                </a:lnTo>
                <a:lnTo>
                  <a:pt x="972" y="540"/>
                </a:lnTo>
                <a:lnTo>
                  <a:pt x="978" y="540"/>
                </a:lnTo>
                <a:lnTo>
                  <a:pt x="984" y="534"/>
                </a:lnTo>
                <a:lnTo>
                  <a:pt x="990" y="534"/>
                </a:lnTo>
                <a:lnTo>
                  <a:pt x="996" y="528"/>
                </a:lnTo>
                <a:lnTo>
                  <a:pt x="1002" y="528"/>
                </a:lnTo>
                <a:lnTo>
                  <a:pt x="1008" y="522"/>
                </a:lnTo>
                <a:lnTo>
                  <a:pt x="1014" y="522"/>
                </a:lnTo>
                <a:lnTo>
                  <a:pt x="1020" y="516"/>
                </a:lnTo>
                <a:lnTo>
                  <a:pt x="1026" y="516"/>
                </a:lnTo>
                <a:lnTo>
                  <a:pt x="1032" y="510"/>
                </a:lnTo>
                <a:lnTo>
                  <a:pt x="1038" y="504"/>
                </a:lnTo>
                <a:lnTo>
                  <a:pt x="1044" y="498"/>
                </a:lnTo>
                <a:lnTo>
                  <a:pt x="1050" y="498"/>
                </a:lnTo>
                <a:lnTo>
                  <a:pt x="1056" y="492"/>
                </a:lnTo>
                <a:lnTo>
                  <a:pt x="1062" y="486"/>
                </a:lnTo>
                <a:lnTo>
                  <a:pt x="1068" y="480"/>
                </a:lnTo>
                <a:lnTo>
                  <a:pt x="1074" y="474"/>
                </a:lnTo>
                <a:lnTo>
                  <a:pt x="1080" y="468"/>
                </a:lnTo>
                <a:lnTo>
                  <a:pt x="1092" y="456"/>
                </a:lnTo>
                <a:lnTo>
                  <a:pt x="1092" y="450"/>
                </a:lnTo>
                <a:lnTo>
                  <a:pt x="1098" y="444"/>
                </a:lnTo>
                <a:lnTo>
                  <a:pt x="1104" y="438"/>
                </a:lnTo>
                <a:lnTo>
                  <a:pt x="1104" y="432"/>
                </a:lnTo>
                <a:lnTo>
                  <a:pt x="1110" y="426"/>
                </a:lnTo>
                <a:lnTo>
                  <a:pt x="1110" y="420"/>
                </a:lnTo>
                <a:lnTo>
                  <a:pt x="1116" y="414"/>
                </a:lnTo>
                <a:lnTo>
                  <a:pt x="1122" y="408"/>
                </a:lnTo>
                <a:lnTo>
                  <a:pt x="1122" y="402"/>
                </a:lnTo>
                <a:lnTo>
                  <a:pt x="1128" y="396"/>
                </a:lnTo>
                <a:lnTo>
                  <a:pt x="1128" y="384"/>
                </a:lnTo>
                <a:lnTo>
                  <a:pt x="1134" y="378"/>
                </a:lnTo>
                <a:lnTo>
                  <a:pt x="1134" y="372"/>
                </a:lnTo>
                <a:lnTo>
                  <a:pt x="1140" y="366"/>
                </a:lnTo>
                <a:lnTo>
                  <a:pt x="1140" y="360"/>
                </a:lnTo>
                <a:lnTo>
                  <a:pt x="1146" y="354"/>
                </a:lnTo>
                <a:lnTo>
                  <a:pt x="1146" y="342"/>
                </a:lnTo>
                <a:lnTo>
                  <a:pt x="1152" y="330"/>
                </a:lnTo>
                <a:lnTo>
                  <a:pt x="1152" y="324"/>
                </a:lnTo>
                <a:lnTo>
                  <a:pt x="1158" y="318"/>
                </a:lnTo>
                <a:lnTo>
                  <a:pt x="1158" y="312"/>
                </a:lnTo>
                <a:lnTo>
                  <a:pt x="1164" y="306"/>
                </a:lnTo>
                <a:lnTo>
                  <a:pt x="1164" y="294"/>
                </a:lnTo>
                <a:lnTo>
                  <a:pt x="1170" y="282"/>
                </a:lnTo>
                <a:lnTo>
                  <a:pt x="1170" y="270"/>
                </a:lnTo>
                <a:lnTo>
                  <a:pt x="1176" y="264"/>
                </a:lnTo>
                <a:lnTo>
                  <a:pt x="1176" y="252"/>
                </a:lnTo>
                <a:lnTo>
                  <a:pt x="1182" y="246"/>
                </a:lnTo>
                <a:lnTo>
                  <a:pt x="1182" y="234"/>
                </a:lnTo>
                <a:lnTo>
                  <a:pt x="1188" y="222"/>
                </a:lnTo>
                <a:lnTo>
                  <a:pt x="1188" y="210"/>
                </a:lnTo>
                <a:lnTo>
                  <a:pt x="1194" y="204"/>
                </a:lnTo>
                <a:lnTo>
                  <a:pt x="1194" y="192"/>
                </a:lnTo>
                <a:lnTo>
                  <a:pt x="1200" y="186"/>
                </a:lnTo>
                <a:lnTo>
                  <a:pt x="1200" y="174"/>
                </a:lnTo>
                <a:lnTo>
                  <a:pt x="1206" y="162"/>
                </a:lnTo>
                <a:lnTo>
                  <a:pt x="1206" y="150"/>
                </a:lnTo>
                <a:lnTo>
                  <a:pt x="1212" y="144"/>
                </a:lnTo>
                <a:lnTo>
                  <a:pt x="1212" y="126"/>
                </a:lnTo>
                <a:lnTo>
                  <a:pt x="1218" y="120"/>
                </a:lnTo>
                <a:lnTo>
                  <a:pt x="1218" y="108"/>
                </a:lnTo>
                <a:lnTo>
                  <a:pt x="1224" y="96"/>
                </a:lnTo>
                <a:lnTo>
                  <a:pt x="1224" y="84"/>
                </a:lnTo>
                <a:lnTo>
                  <a:pt x="1230" y="78"/>
                </a:lnTo>
                <a:lnTo>
                  <a:pt x="1230" y="54"/>
                </a:lnTo>
                <a:lnTo>
                  <a:pt x="1236" y="48"/>
                </a:lnTo>
                <a:lnTo>
                  <a:pt x="1236" y="36"/>
                </a:lnTo>
                <a:lnTo>
                  <a:pt x="1242" y="30"/>
                </a:lnTo>
                <a:lnTo>
                  <a:pt x="1242" y="18"/>
                </a:lnTo>
                <a:lnTo>
                  <a:pt x="1248" y="12"/>
                </a:lnTo>
                <a:lnTo>
                  <a:pt x="124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4152960" y="1762200"/>
            <a:ext cx="104760" cy="285840"/>
          </a:xfrm>
          <a:custGeom>
            <a:avLst/>
            <a:gdLst/>
            <a:ahLst/>
            <a:rect l="l" t="t" r="r" b="b"/>
            <a:pathLst>
              <a:path w="66" h="180">
                <a:moveTo>
                  <a:pt x="0" y="180"/>
                </a:moveTo>
                <a:lnTo>
                  <a:pt x="6" y="174"/>
                </a:lnTo>
                <a:lnTo>
                  <a:pt x="6" y="156"/>
                </a:lnTo>
                <a:lnTo>
                  <a:pt x="12" y="150"/>
                </a:lnTo>
                <a:lnTo>
                  <a:pt x="12" y="138"/>
                </a:lnTo>
                <a:lnTo>
                  <a:pt x="18" y="132"/>
                </a:lnTo>
                <a:lnTo>
                  <a:pt x="18" y="114"/>
                </a:lnTo>
                <a:lnTo>
                  <a:pt x="24" y="108"/>
                </a:lnTo>
                <a:lnTo>
                  <a:pt x="24" y="96"/>
                </a:lnTo>
                <a:lnTo>
                  <a:pt x="30" y="90"/>
                </a:lnTo>
                <a:lnTo>
                  <a:pt x="30" y="78"/>
                </a:lnTo>
                <a:lnTo>
                  <a:pt x="36" y="72"/>
                </a:lnTo>
                <a:lnTo>
                  <a:pt x="36" y="66"/>
                </a:lnTo>
                <a:lnTo>
                  <a:pt x="42" y="60"/>
                </a:lnTo>
                <a:lnTo>
                  <a:pt x="42" y="48"/>
                </a:lnTo>
                <a:lnTo>
                  <a:pt x="48" y="42"/>
                </a:lnTo>
                <a:lnTo>
                  <a:pt x="48" y="30"/>
                </a:lnTo>
                <a:lnTo>
                  <a:pt x="54" y="24"/>
                </a:lnTo>
                <a:lnTo>
                  <a:pt x="54" y="18"/>
                </a:lnTo>
                <a:lnTo>
                  <a:pt x="60" y="12"/>
                </a:lnTo>
                <a:lnTo>
                  <a:pt x="60" y="6"/>
                </a:lnTo>
                <a:lnTo>
                  <a:pt x="6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2171880" y="1352520"/>
            <a:ext cx="1942920" cy="1619280"/>
          </a:xfrm>
          <a:custGeom>
            <a:avLst/>
            <a:gdLst/>
            <a:ahLst/>
            <a:rect l="l" t="t" r="r" b="b"/>
            <a:pathLst>
              <a:path w="1224" h="1020">
                <a:moveTo>
                  <a:pt x="0" y="1020"/>
                </a:moveTo>
                <a:lnTo>
                  <a:pt x="120" y="1020"/>
                </a:lnTo>
                <a:lnTo>
                  <a:pt x="198" y="1020"/>
                </a:lnTo>
                <a:lnTo>
                  <a:pt x="264" y="1020"/>
                </a:lnTo>
                <a:lnTo>
                  <a:pt x="312" y="1020"/>
                </a:lnTo>
                <a:lnTo>
                  <a:pt x="360" y="1020"/>
                </a:lnTo>
                <a:lnTo>
                  <a:pt x="396" y="1020"/>
                </a:lnTo>
                <a:lnTo>
                  <a:pt x="432" y="1020"/>
                </a:lnTo>
                <a:lnTo>
                  <a:pt x="462" y="1020"/>
                </a:lnTo>
                <a:lnTo>
                  <a:pt x="486" y="1020"/>
                </a:lnTo>
                <a:lnTo>
                  <a:pt x="510" y="1020"/>
                </a:lnTo>
                <a:lnTo>
                  <a:pt x="534" y="1020"/>
                </a:lnTo>
                <a:lnTo>
                  <a:pt x="558" y="1020"/>
                </a:lnTo>
                <a:lnTo>
                  <a:pt x="576" y="1020"/>
                </a:lnTo>
                <a:lnTo>
                  <a:pt x="594" y="1014"/>
                </a:lnTo>
                <a:lnTo>
                  <a:pt x="612" y="1014"/>
                </a:lnTo>
                <a:lnTo>
                  <a:pt x="624" y="1014"/>
                </a:lnTo>
                <a:lnTo>
                  <a:pt x="642" y="1014"/>
                </a:lnTo>
                <a:lnTo>
                  <a:pt x="654" y="1014"/>
                </a:lnTo>
                <a:lnTo>
                  <a:pt x="672" y="1014"/>
                </a:lnTo>
                <a:lnTo>
                  <a:pt x="684" y="1014"/>
                </a:lnTo>
                <a:lnTo>
                  <a:pt x="696" y="1014"/>
                </a:lnTo>
                <a:lnTo>
                  <a:pt x="708" y="1014"/>
                </a:lnTo>
                <a:lnTo>
                  <a:pt x="720" y="1014"/>
                </a:lnTo>
                <a:lnTo>
                  <a:pt x="732" y="1014"/>
                </a:lnTo>
                <a:lnTo>
                  <a:pt x="744" y="1014"/>
                </a:lnTo>
                <a:lnTo>
                  <a:pt x="750" y="1008"/>
                </a:lnTo>
                <a:lnTo>
                  <a:pt x="762" y="1008"/>
                </a:lnTo>
                <a:lnTo>
                  <a:pt x="774" y="1008"/>
                </a:lnTo>
                <a:lnTo>
                  <a:pt x="780" y="1008"/>
                </a:lnTo>
                <a:lnTo>
                  <a:pt x="792" y="1008"/>
                </a:lnTo>
                <a:lnTo>
                  <a:pt x="798" y="1008"/>
                </a:lnTo>
                <a:lnTo>
                  <a:pt x="810" y="1008"/>
                </a:lnTo>
                <a:lnTo>
                  <a:pt x="816" y="1002"/>
                </a:lnTo>
                <a:lnTo>
                  <a:pt x="822" y="1002"/>
                </a:lnTo>
                <a:lnTo>
                  <a:pt x="834" y="1002"/>
                </a:lnTo>
                <a:lnTo>
                  <a:pt x="840" y="1002"/>
                </a:lnTo>
                <a:lnTo>
                  <a:pt x="846" y="1002"/>
                </a:lnTo>
                <a:lnTo>
                  <a:pt x="852" y="996"/>
                </a:lnTo>
                <a:lnTo>
                  <a:pt x="858" y="996"/>
                </a:lnTo>
                <a:lnTo>
                  <a:pt x="870" y="996"/>
                </a:lnTo>
                <a:lnTo>
                  <a:pt x="876" y="996"/>
                </a:lnTo>
                <a:lnTo>
                  <a:pt x="882" y="996"/>
                </a:lnTo>
                <a:lnTo>
                  <a:pt x="888" y="990"/>
                </a:lnTo>
                <a:lnTo>
                  <a:pt x="894" y="990"/>
                </a:lnTo>
                <a:lnTo>
                  <a:pt x="900" y="990"/>
                </a:lnTo>
                <a:lnTo>
                  <a:pt x="906" y="984"/>
                </a:lnTo>
                <a:lnTo>
                  <a:pt x="912" y="984"/>
                </a:lnTo>
                <a:lnTo>
                  <a:pt x="918" y="984"/>
                </a:lnTo>
                <a:lnTo>
                  <a:pt x="924" y="984"/>
                </a:lnTo>
                <a:lnTo>
                  <a:pt x="930" y="978"/>
                </a:lnTo>
                <a:lnTo>
                  <a:pt x="936" y="978"/>
                </a:lnTo>
                <a:lnTo>
                  <a:pt x="942" y="972"/>
                </a:lnTo>
                <a:lnTo>
                  <a:pt x="948" y="972"/>
                </a:lnTo>
                <a:lnTo>
                  <a:pt x="954" y="966"/>
                </a:lnTo>
                <a:lnTo>
                  <a:pt x="960" y="966"/>
                </a:lnTo>
                <a:lnTo>
                  <a:pt x="966" y="960"/>
                </a:lnTo>
                <a:lnTo>
                  <a:pt x="972" y="960"/>
                </a:lnTo>
                <a:lnTo>
                  <a:pt x="978" y="954"/>
                </a:lnTo>
                <a:lnTo>
                  <a:pt x="984" y="954"/>
                </a:lnTo>
                <a:lnTo>
                  <a:pt x="990" y="942"/>
                </a:lnTo>
                <a:lnTo>
                  <a:pt x="996" y="942"/>
                </a:lnTo>
                <a:lnTo>
                  <a:pt x="1002" y="936"/>
                </a:lnTo>
                <a:lnTo>
                  <a:pt x="1008" y="930"/>
                </a:lnTo>
                <a:lnTo>
                  <a:pt x="1014" y="924"/>
                </a:lnTo>
                <a:lnTo>
                  <a:pt x="1020" y="918"/>
                </a:lnTo>
                <a:lnTo>
                  <a:pt x="1026" y="906"/>
                </a:lnTo>
                <a:lnTo>
                  <a:pt x="1032" y="906"/>
                </a:lnTo>
                <a:lnTo>
                  <a:pt x="1038" y="894"/>
                </a:lnTo>
                <a:lnTo>
                  <a:pt x="1044" y="888"/>
                </a:lnTo>
                <a:lnTo>
                  <a:pt x="1044" y="882"/>
                </a:lnTo>
                <a:lnTo>
                  <a:pt x="1050" y="876"/>
                </a:lnTo>
                <a:lnTo>
                  <a:pt x="1056" y="870"/>
                </a:lnTo>
                <a:lnTo>
                  <a:pt x="1056" y="864"/>
                </a:lnTo>
                <a:lnTo>
                  <a:pt x="1062" y="858"/>
                </a:lnTo>
                <a:lnTo>
                  <a:pt x="1062" y="852"/>
                </a:lnTo>
                <a:lnTo>
                  <a:pt x="1068" y="840"/>
                </a:lnTo>
                <a:lnTo>
                  <a:pt x="1074" y="834"/>
                </a:lnTo>
                <a:lnTo>
                  <a:pt x="1074" y="828"/>
                </a:lnTo>
                <a:lnTo>
                  <a:pt x="1080" y="822"/>
                </a:lnTo>
                <a:lnTo>
                  <a:pt x="1080" y="810"/>
                </a:lnTo>
                <a:lnTo>
                  <a:pt x="1086" y="804"/>
                </a:lnTo>
                <a:lnTo>
                  <a:pt x="1086" y="792"/>
                </a:lnTo>
                <a:lnTo>
                  <a:pt x="1092" y="780"/>
                </a:lnTo>
                <a:lnTo>
                  <a:pt x="1092" y="774"/>
                </a:lnTo>
                <a:lnTo>
                  <a:pt x="1098" y="762"/>
                </a:lnTo>
                <a:lnTo>
                  <a:pt x="1098" y="750"/>
                </a:lnTo>
                <a:lnTo>
                  <a:pt x="1104" y="738"/>
                </a:lnTo>
                <a:lnTo>
                  <a:pt x="1104" y="726"/>
                </a:lnTo>
                <a:lnTo>
                  <a:pt x="1110" y="714"/>
                </a:lnTo>
                <a:lnTo>
                  <a:pt x="1110" y="696"/>
                </a:lnTo>
                <a:lnTo>
                  <a:pt x="1116" y="684"/>
                </a:lnTo>
                <a:lnTo>
                  <a:pt x="1116" y="666"/>
                </a:lnTo>
                <a:lnTo>
                  <a:pt x="1122" y="648"/>
                </a:lnTo>
                <a:lnTo>
                  <a:pt x="1122" y="630"/>
                </a:lnTo>
                <a:lnTo>
                  <a:pt x="1128" y="612"/>
                </a:lnTo>
                <a:lnTo>
                  <a:pt x="1128" y="576"/>
                </a:lnTo>
                <a:lnTo>
                  <a:pt x="1134" y="552"/>
                </a:lnTo>
                <a:lnTo>
                  <a:pt x="1134" y="528"/>
                </a:lnTo>
                <a:lnTo>
                  <a:pt x="1140" y="504"/>
                </a:lnTo>
                <a:lnTo>
                  <a:pt x="1140" y="480"/>
                </a:lnTo>
                <a:lnTo>
                  <a:pt x="1146" y="450"/>
                </a:lnTo>
                <a:lnTo>
                  <a:pt x="1146" y="396"/>
                </a:lnTo>
                <a:lnTo>
                  <a:pt x="1152" y="366"/>
                </a:lnTo>
                <a:lnTo>
                  <a:pt x="1152" y="330"/>
                </a:lnTo>
                <a:lnTo>
                  <a:pt x="1158" y="294"/>
                </a:lnTo>
                <a:lnTo>
                  <a:pt x="1158" y="264"/>
                </a:lnTo>
                <a:lnTo>
                  <a:pt x="1164" y="228"/>
                </a:lnTo>
                <a:lnTo>
                  <a:pt x="1164" y="156"/>
                </a:lnTo>
                <a:lnTo>
                  <a:pt x="1170" y="126"/>
                </a:lnTo>
                <a:lnTo>
                  <a:pt x="1170" y="72"/>
                </a:lnTo>
                <a:lnTo>
                  <a:pt x="1176" y="48"/>
                </a:lnTo>
                <a:lnTo>
                  <a:pt x="1176" y="30"/>
                </a:lnTo>
                <a:lnTo>
                  <a:pt x="1182" y="12"/>
                </a:lnTo>
                <a:lnTo>
                  <a:pt x="1182" y="0"/>
                </a:lnTo>
                <a:lnTo>
                  <a:pt x="1188" y="0"/>
                </a:lnTo>
                <a:lnTo>
                  <a:pt x="1194" y="6"/>
                </a:lnTo>
                <a:lnTo>
                  <a:pt x="1194" y="18"/>
                </a:lnTo>
                <a:lnTo>
                  <a:pt x="1200" y="30"/>
                </a:lnTo>
                <a:lnTo>
                  <a:pt x="1200" y="42"/>
                </a:lnTo>
                <a:lnTo>
                  <a:pt x="1206" y="48"/>
                </a:lnTo>
                <a:lnTo>
                  <a:pt x="1206" y="66"/>
                </a:lnTo>
                <a:lnTo>
                  <a:pt x="1212" y="72"/>
                </a:lnTo>
                <a:lnTo>
                  <a:pt x="1212" y="90"/>
                </a:lnTo>
                <a:lnTo>
                  <a:pt x="1218" y="96"/>
                </a:lnTo>
                <a:lnTo>
                  <a:pt x="1218" y="108"/>
                </a:lnTo>
                <a:lnTo>
                  <a:pt x="1224" y="114"/>
                </a:lnTo>
                <a:lnTo>
                  <a:pt x="1224" y="12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4114800" y="1552680"/>
            <a:ext cx="142920" cy="142920"/>
          </a:xfrm>
          <a:custGeom>
            <a:avLst/>
            <a:gdLst/>
            <a:ahLst/>
            <a:rect l="l" t="t" r="r" b="b"/>
            <a:pathLst>
              <a:path w="90" h="90">
                <a:moveTo>
                  <a:pt x="0" y="0"/>
                </a:moveTo>
                <a:lnTo>
                  <a:pt x="6" y="6"/>
                </a:lnTo>
                <a:lnTo>
                  <a:pt x="6" y="18"/>
                </a:lnTo>
                <a:lnTo>
                  <a:pt x="18" y="30"/>
                </a:lnTo>
                <a:lnTo>
                  <a:pt x="18" y="36"/>
                </a:lnTo>
                <a:lnTo>
                  <a:pt x="30" y="48"/>
                </a:lnTo>
                <a:lnTo>
                  <a:pt x="30" y="54"/>
                </a:lnTo>
                <a:lnTo>
                  <a:pt x="36" y="60"/>
                </a:lnTo>
                <a:lnTo>
                  <a:pt x="42" y="66"/>
                </a:lnTo>
                <a:lnTo>
                  <a:pt x="48" y="72"/>
                </a:lnTo>
                <a:lnTo>
                  <a:pt x="54" y="72"/>
                </a:lnTo>
                <a:lnTo>
                  <a:pt x="60" y="78"/>
                </a:lnTo>
                <a:lnTo>
                  <a:pt x="66" y="84"/>
                </a:lnTo>
                <a:lnTo>
                  <a:pt x="72" y="84"/>
                </a:lnTo>
                <a:lnTo>
                  <a:pt x="78" y="90"/>
                </a:lnTo>
                <a:lnTo>
                  <a:pt x="84" y="90"/>
                </a:lnTo>
                <a:lnTo>
                  <a:pt x="90" y="9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 rot="16200000">
            <a:off x="927000" y="196308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 flipV="1">
            <a:off x="5448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5448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 flipV="1">
            <a:off x="5400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5400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 flipV="1">
            <a:off x="5353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5353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 flipV="1">
            <a:off x="5286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5286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 flipV="1">
            <a:off x="5219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5219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5448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5448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534312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54774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 flipV="1">
            <a:off x="5762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5762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 flipV="1">
            <a:off x="5943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5943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 flipV="1">
            <a:off x="6076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6076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 flipV="1">
            <a:off x="6181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6181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 flipV="1">
            <a:off x="6257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6257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 flipV="1">
            <a:off x="639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639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6438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6438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 flipV="1">
            <a:off x="6486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6486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 flipV="1">
            <a:off x="6486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6486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6381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6515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6800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6800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698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698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V="1">
            <a:off x="7115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7115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7219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7219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 flipV="1">
            <a:off x="7296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7296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 flipV="1">
            <a:off x="7372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7372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V="1">
            <a:off x="7429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7429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V="1">
            <a:off x="7486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7486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4971600" y="2905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97160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5448240" y="1542960"/>
            <a:ext cx="2038320" cy="809640"/>
          </a:xfrm>
          <a:custGeom>
            <a:avLst/>
            <a:gdLst/>
            <a:ahLst/>
            <a:rect l="l" t="t" r="r" b="b"/>
            <a:pathLst>
              <a:path w="1284" h="510">
                <a:moveTo>
                  <a:pt x="0" y="510"/>
                </a:moveTo>
                <a:lnTo>
                  <a:pt x="120" y="462"/>
                </a:lnTo>
                <a:lnTo>
                  <a:pt x="198" y="420"/>
                </a:lnTo>
                <a:lnTo>
                  <a:pt x="264" y="384"/>
                </a:lnTo>
                <a:lnTo>
                  <a:pt x="312" y="348"/>
                </a:lnTo>
                <a:lnTo>
                  <a:pt x="360" y="318"/>
                </a:lnTo>
                <a:lnTo>
                  <a:pt x="396" y="294"/>
                </a:lnTo>
                <a:lnTo>
                  <a:pt x="432" y="270"/>
                </a:lnTo>
                <a:lnTo>
                  <a:pt x="462" y="252"/>
                </a:lnTo>
                <a:lnTo>
                  <a:pt x="486" y="234"/>
                </a:lnTo>
                <a:lnTo>
                  <a:pt x="510" y="216"/>
                </a:lnTo>
                <a:lnTo>
                  <a:pt x="534" y="204"/>
                </a:lnTo>
                <a:lnTo>
                  <a:pt x="558" y="192"/>
                </a:lnTo>
                <a:lnTo>
                  <a:pt x="576" y="180"/>
                </a:lnTo>
                <a:lnTo>
                  <a:pt x="594" y="168"/>
                </a:lnTo>
                <a:lnTo>
                  <a:pt x="612" y="156"/>
                </a:lnTo>
                <a:lnTo>
                  <a:pt x="624" y="150"/>
                </a:lnTo>
                <a:lnTo>
                  <a:pt x="642" y="138"/>
                </a:lnTo>
                <a:lnTo>
                  <a:pt x="654" y="132"/>
                </a:lnTo>
                <a:lnTo>
                  <a:pt x="672" y="126"/>
                </a:lnTo>
                <a:lnTo>
                  <a:pt x="684" y="120"/>
                </a:lnTo>
                <a:lnTo>
                  <a:pt x="696" y="108"/>
                </a:lnTo>
                <a:lnTo>
                  <a:pt x="708" y="102"/>
                </a:lnTo>
                <a:lnTo>
                  <a:pt x="720" y="96"/>
                </a:lnTo>
                <a:lnTo>
                  <a:pt x="732" y="90"/>
                </a:lnTo>
                <a:lnTo>
                  <a:pt x="744" y="90"/>
                </a:lnTo>
                <a:lnTo>
                  <a:pt x="750" y="84"/>
                </a:lnTo>
                <a:lnTo>
                  <a:pt x="762" y="78"/>
                </a:lnTo>
                <a:lnTo>
                  <a:pt x="774" y="72"/>
                </a:lnTo>
                <a:lnTo>
                  <a:pt x="780" y="66"/>
                </a:lnTo>
                <a:lnTo>
                  <a:pt x="792" y="66"/>
                </a:lnTo>
                <a:lnTo>
                  <a:pt x="798" y="60"/>
                </a:lnTo>
                <a:lnTo>
                  <a:pt x="810" y="60"/>
                </a:lnTo>
                <a:lnTo>
                  <a:pt x="816" y="54"/>
                </a:lnTo>
                <a:lnTo>
                  <a:pt x="822" y="48"/>
                </a:lnTo>
                <a:lnTo>
                  <a:pt x="834" y="48"/>
                </a:lnTo>
                <a:lnTo>
                  <a:pt x="840" y="42"/>
                </a:lnTo>
                <a:lnTo>
                  <a:pt x="846" y="42"/>
                </a:lnTo>
                <a:lnTo>
                  <a:pt x="852" y="42"/>
                </a:lnTo>
                <a:lnTo>
                  <a:pt x="858" y="36"/>
                </a:lnTo>
                <a:lnTo>
                  <a:pt x="870" y="36"/>
                </a:lnTo>
                <a:lnTo>
                  <a:pt x="876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24"/>
                </a:lnTo>
                <a:lnTo>
                  <a:pt x="900" y="24"/>
                </a:lnTo>
                <a:lnTo>
                  <a:pt x="906" y="24"/>
                </a:lnTo>
                <a:lnTo>
                  <a:pt x="912" y="18"/>
                </a:lnTo>
                <a:lnTo>
                  <a:pt x="918" y="18"/>
                </a:lnTo>
                <a:lnTo>
                  <a:pt x="924" y="18"/>
                </a:lnTo>
                <a:lnTo>
                  <a:pt x="930" y="12"/>
                </a:lnTo>
                <a:lnTo>
                  <a:pt x="936" y="12"/>
                </a:lnTo>
                <a:lnTo>
                  <a:pt x="942" y="12"/>
                </a:lnTo>
                <a:lnTo>
                  <a:pt x="948" y="12"/>
                </a:lnTo>
                <a:lnTo>
                  <a:pt x="954" y="6"/>
                </a:lnTo>
                <a:lnTo>
                  <a:pt x="960" y="6"/>
                </a:lnTo>
                <a:lnTo>
                  <a:pt x="966" y="6"/>
                </a:lnTo>
                <a:lnTo>
                  <a:pt x="972" y="6"/>
                </a:lnTo>
                <a:lnTo>
                  <a:pt x="978" y="6"/>
                </a:lnTo>
                <a:lnTo>
                  <a:pt x="984" y="6"/>
                </a:lnTo>
                <a:lnTo>
                  <a:pt x="990" y="6"/>
                </a:lnTo>
                <a:lnTo>
                  <a:pt x="996" y="6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0" y="0"/>
                </a:lnTo>
                <a:lnTo>
                  <a:pt x="1026" y="6"/>
                </a:lnTo>
                <a:lnTo>
                  <a:pt x="1032" y="6"/>
                </a:lnTo>
                <a:lnTo>
                  <a:pt x="1038" y="6"/>
                </a:lnTo>
                <a:lnTo>
                  <a:pt x="1044" y="6"/>
                </a:lnTo>
                <a:lnTo>
                  <a:pt x="1050" y="6"/>
                </a:lnTo>
                <a:lnTo>
                  <a:pt x="1056" y="12"/>
                </a:lnTo>
                <a:lnTo>
                  <a:pt x="1062" y="12"/>
                </a:lnTo>
                <a:lnTo>
                  <a:pt x="1068" y="12"/>
                </a:lnTo>
                <a:lnTo>
                  <a:pt x="1074" y="18"/>
                </a:lnTo>
                <a:lnTo>
                  <a:pt x="1080" y="18"/>
                </a:lnTo>
                <a:lnTo>
                  <a:pt x="1086" y="24"/>
                </a:lnTo>
                <a:lnTo>
                  <a:pt x="1092" y="24"/>
                </a:lnTo>
                <a:lnTo>
                  <a:pt x="1098" y="30"/>
                </a:lnTo>
                <a:lnTo>
                  <a:pt x="1104" y="36"/>
                </a:lnTo>
                <a:lnTo>
                  <a:pt x="1110" y="36"/>
                </a:lnTo>
                <a:lnTo>
                  <a:pt x="1116" y="42"/>
                </a:lnTo>
                <a:lnTo>
                  <a:pt x="1122" y="48"/>
                </a:lnTo>
                <a:lnTo>
                  <a:pt x="1128" y="60"/>
                </a:lnTo>
                <a:lnTo>
                  <a:pt x="1134" y="66"/>
                </a:lnTo>
                <a:lnTo>
                  <a:pt x="1140" y="72"/>
                </a:lnTo>
                <a:lnTo>
                  <a:pt x="1152" y="84"/>
                </a:lnTo>
                <a:lnTo>
                  <a:pt x="1152" y="90"/>
                </a:lnTo>
                <a:lnTo>
                  <a:pt x="1158" y="96"/>
                </a:lnTo>
                <a:lnTo>
                  <a:pt x="1164" y="102"/>
                </a:lnTo>
                <a:lnTo>
                  <a:pt x="1164" y="108"/>
                </a:lnTo>
                <a:lnTo>
                  <a:pt x="1170" y="114"/>
                </a:lnTo>
                <a:lnTo>
                  <a:pt x="1170" y="126"/>
                </a:lnTo>
                <a:lnTo>
                  <a:pt x="1176" y="132"/>
                </a:lnTo>
                <a:lnTo>
                  <a:pt x="1182" y="138"/>
                </a:lnTo>
                <a:lnTo>
                  <a:pt x="1182" y="144"/>
                </a:lnTo>
                <a:lnTo>
                  <a:pt x="1188" y="150"/>
                </a:lnTo>
                <a:lnTo>
                  <a:pt x="1188" y="162"/>
                </a:lnTo>
                <a:lnTo>
                  <a:pt x="1194" y="168"/>
                </a:lnTo>
                <a:lnTo>
                  <a:pt x="1200" y="174"/>
                </a:lnTo>
                <a:lnTo>
                  <a:pt x="1200" y="186"/>
                </a:lnTo>
                <a:lnTo>
                  <a:pt x="1206" y="192"/>
                </a:lnTo>
                <a:lnTo>
                  <a:pt x="1206" y="198"/>
                </a:lnTo>
                <a:lnTo>
                  <a:pt x="1212" y="204"/>
                </a:lnTo>
                <a:lnTo>
                  <a:pt x="1212" y="216"/>
                </a:lnTo>
                <a:lnTo>
                  <a:pt x="1218" y="222"/>
                </a:lnTo>
                <a:lnTo>
                  <a:pt x="1218" y="228"/>
                </a:lnTo>
                <a:lnTo>
                  <a:pt x="1224" y="234"/>
                </a:lnTo>
                <a:lnTo>
                  <a:pt x="1224" y="246"/>
                </a:lnTo>
                <a:lnTo>
                  <a:pt x="1230" y="252"/>
                </a:lnTo>
                <a:lnTo>
                  <a:pt x="1230" y="264"/>
                </a:lnTo>
                <a:lnTo>
                  <a:pt x="1236" y="270"/>
                </a:lnTo>
                <a:lnTo>
                  <a:pt x="1236" y="282"/>
                </a:lnTo>
                <a:lnTo>
                  <a:pt x="1242" y="288"/>
                </a:lnTo>
                <a:lnTo>
                  <a:pt x="1242" y="294"/>
                </a:lnTo>
                <a:lnTo>
                  <a:pt x="1248" y="300"/>
                </a:lnTo>
                <a:lnTo>
                  <a:pt x="1248" y="312"/>
                </a:lnTo>
                <a:lnTo>
                  <a:pt x="1254" y="318"/>
                </a:lnTo>
                <a:lnTo>
                  <a:pt x="1254" y="330"/>
                </a:lnTo>
                <a:lnTo>
                  <a:pt x="1260" y="336"/>
                </a:lnTo>
                <a:lnTo>
                  <a:pt x="1260" y="348"/>
                </a:lnTo>
                <a:lnTo>
                  <a:pt x="1266" y="354"/>
                </a:lnTo>
                <a:lnTo>
                  <a:pt x="1266" y="366"/>
                </a:lnTo>
                <a:lnTo>
                  <a:pt x="1272" y="372"/>
                </a:lnTo>
                <a:lnTo>
                  <a:pt x="1272" y="384"/>
                </a:lnTo>
                <a:lnTo>
                  <a:pt x="1278" y="390"/>
                </a:lnTo>
                <a:lnTo>
                  <a:pt x="1278" y="396"/>
                </a:lnTo>
                <a:lnTo>
                  <a:pt x="1284" y="40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7486560" y="2181240"/>
            <a:ext cx="47880" cy="142920"/>
          </a:xfrm>
          <a:custGeom>
            <a:avLst/>
            <a:gdLst/>
            <a:ahLst/>
            <a:rect l="l" t="t" r="r" b="b"/>
            <a:pathLst>
              <a:path w="30" h="90">
                <a:moveTo>
                  <a:pt x="0" y="0"/>
                </a:moveTo>
                <a:lnTo>
                  <a:pt x="0" y="18"/>
                </a:lnTo>
                <a:lnTo>
                  <a:pt x="6" y="24"/>
                </a:lnTo>
                <a:lnTo>
                  <a:pt x="6" y="36"/>
                </a:lnTo>
                <a:lnTo>
                  <a:pt x="12" y="42"/>
                </a:lnTo>
                <a:lnTo>
                  <a:pt x="12" y="48"/>
                </a:lnTo>
                <a:lnTo>
                  <a:pt x="18" y="54"/>
                </a:lnTo>
                <a:lnTo>
                  <a:pt x="18" y="66"/>
                </a:lnTo>
                <a:lnTo>
                  <a:pt x="24" y="72"/>
                </a:lnTo>
                <a:lnTo>
                  <a:pt x="24" y="84"/>
                </a:lnTo>
                <a:lnTo>
                  <a:pt x="30" y="9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5448240" y="1714680"/>
            <a:ext cx="2019240" cy="1247760"/>
          </a:xfrm>
          <a:custGeom>
            <a:avLst/>
            <a:gdLst/>
            <a:ahLst/>
            <a:rect l="l" t="t" r="r" b="b"/>
            <a:pathLst>
              <a:path w="1272" h="786">
                <a:moveTo>
                  <a:pt x="0" y="786"/>
                </a:moveTo>
                <a:lnTo>
                  <a:pt x="120" y="636"/>
                </a:lnTo>
                <a:lnTo>
                  <a:pt x="198" y="522"/>
                </a:lnTo>
                <a:lnTo>
                  <a:pt x="264" y="438"/>
                </a:lnTo>
                <a:lnTo>
                  <a:pt x="312" y="372"/>
                </a:lnTo>
                <a:lnTo>
                  <a:pt x="360" y="318"/>
                </a:lnTo>
                <a:lnTo>
                  <a:pt x="396" y="276"/>
                </a:lnTo>
                <a:lnTo>
                  <a:pt x="432" y="240"/>
                </a:lnTo>
                <a:lnTo>
                  <a:pt x="462" y="210"/>
                </a:lnTo>
                <a:lnTo>
                  <a:pt x="486" y="186"/>
                </a:lnTo>
                <a:lnTo>
                  <a:pt x="510" y="168"/>
                </a:lnTo>
                <a:lnTo>
                  <a:pt x="534" y="150"/>
                </a:lnTo>
                <a:lnTo>
                  <a:pt x="558" y="132"/>
                </a:lnTo>
                <a:lnTo>
                  <a:pt x="576" y="120"/>
                </a:lnTo>
                <a:lnTo>
                  <a:pt x="594" y="114"/>
                </a:lnTo>
                <a:lnTo>
                  <a:pt x="612" y="102"/>
                </a:lnTo>
                <a:lnTo>
                  <a:pt x="624" y="96"/>
                </a:lnTo>
                <a:lnTo>
                  <a:pt x="642" y="84"/>
                </a:lnTo>
                <a:lnTo>
                  <a:pt x="654" y="78"/>
                </a:lnTo>
                <a:lnTo>
                  <a:pt x="672" y="72"/>
                </a:lnTo>
                <a:lnTo>
                  <a:pt x="684" y="72"/>
                </a:lnTo>
                <a:lnTo>
                  <a:pt x="696" y="66"/>
                </a:lnTo>
                <a:lnTo>
                  <a:pt x="708" y="60"/>
                </a:lnTo>
                <a:lnTo>
                  <a:pt x="720" y="60"/>
                </a:lnTo>
                <a:lnTo>
                  <a:pt x="732" y="54"/>
                </a:lnTo>
                <a:lnTo>
                  <a:pt x="744" y="48"/>
                </a:lnTo>
                <a:lnTo>
                  <a:pt x="750" y="48"/>
                </a:lnTo>
                <a:lnTo>
                  <a:pt x="762" y="48"/>
                </a:lnTo>
                <a:lnTo>
                  <a:pt x="774" y="42"/>
                </a:lnTo>
                <a:lnTo>
                  <a:pt x="780" y="42"/>
                </a:lnTo>
                <a:lnTo>
                  <a:pt x="792" y="42"/>
                </a:lnTo>
                <a:lnTo>
                  <a:pt x="798" y="42"/>
                </a:lnTo>
                <a:lnTo>
                  <a:pt x="810" y="36"/>
                </a:lnTo>
                <a:lnTo>
                  <a:pt x="816" y="36"/>
                </a:lnTo>
                <a:lnTo>
                  <a:pt x="822" y="36"/>
                </a:lnTo>
                <a:lnTo>
                  <a:pt x="834" y="36"/>
                </a:lnTo>
                <a:lnTo>
                  <a:pt x="840" y="36"/>
                </a:lnTo>
                <a:lnTo>
                  <a:pt x="846" y="30"/>
                </a:lnTo>
                <a:lnTo>
                  <a:pt x="852" y="30"/>
                </a:lnTo>
                <a:lnTo>
                  <a:pt x="858" y="30"/>
                </a:lnTo>
                <a:lnTo>
                  <a:pt x="870" y="30"/>
                </a:lnTo>
                <a:lnTo>
                  <a:pt x="876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30"/>
                </a:lnTo>
                <a:lnTo>
                  <a:pt x="900" y="24"/>
                </a:lnTo>
                <a:lnTo>
                  <a:pt x="906" y="24"/>
                </a:lnTo>
                <a:lnTo>
                  <a:pt x="912" y="24"/>
                </a:lnTo>
                <a:lnTo>
                  <a:pt x="918" y="24"/>
                </a:lnTo>
                <a:lnTo>
                  <a:pt x="924" y="24"/>
                </a:lnTo>
                <a:lnTo>
                  <a:pt x="930" y="24"/>
                </a:lnTo>
                <a:lnTo>
                  <a:pt x="936" y="24"/>
                </a:lnTo>
                <a:lnTo>
                  <a:pt x="942" y="24"/>
                </a:lnTo>
                <a:lnTo>
                  <a:pt x="948" y="24"/>
                </a:lnTo>
                <a:lnTo>
                  <a:pt x="954" y="24"/>
                </a:lnTo>
                <a:lnTo>
                  <a:pt x="960" y="24"/>
                </a:lnTo>
                <a:lnTo>
                  <a:pt x="966" y="18"/>
                </a:lnTo>
                <a:lnTo>
                  <a:pt x="972" y="18"/>
                </a:lnTo>
                <a:lnTo>
                  <a:pt x="978" y="18"/>
                </a:lnTo>
                <a:lnTo>
                  <a:pt x="984" y="18"/>
                </a:lnTo>
                <a:lnTo>
                  <a:pt x="990" y="18"/>
                </a:lnTo>
                <a:lnTo>
                  <a:pt x="996" y="18"/>
                </a:lnTo>
                <a:lnTo>
                  <a:pt x="1002" y="12"/>
                </a:lnTo>
                <a:lnTo>
                  <a:pt x="1008" y="12"/>
                </a:lnTo>
                <a:lnTo>
                  <a:pt x="1014" y="12"/>
                </a:lnTo>
                <a:lnTo>
                  <a:pt x="1020" y="12"/>
                </a:lnTo>
                <a:lnTo>
                  <a:pt x="1026" y="12"/>
                </a:lnTo>
                <a:lnTo>
                  <a:pt x="1032" y="12"/>
                </a:lnTo>
                <a:lnTo>
                  <a:pt x="1038" y="6"/>
                </a:lnTo>
                <a:lnTo>
                  <a:pt x="1044" y="6"/>
                </a:lnTo>
                <a:lnTo>
                  <a:pt x="1050" y="6"/>
                </a:lnTo>
                <a:lnTo>
                  <a:pt x="1056" y="6"/>
                </a:lnTo>
                <a:lnTo>
                  <a:pt x="1062" y="6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6"/>
                </a:lnTo>
                <a:lnTo>
                  <a:pt x="1134" y="6"/>
                </a:lnTo>
                <a:lnTo>
                  <a:pt x="1140" y="12"/>
                </a:lnTo>
                <a:lnTo>
                  <a:pt x="1146" y="24"/>
                </a:lnTo>
                <a:lnTo>
                  <a:pt x="1152" y="30"/>
                </a:lnTo>
                <a:lnTo>
                  <a:pt x="1152" y="36"/>
                </a:lnTo>
                <a:lnTo>
                  <a:pt x="1158" y="42"/>
                </a:lnTo>
                <a:lnTo>
                  <a:pt x="1158" y="54"/>
                </a:lnTo>
                <a:lnTo>
                  <a:pt x="1164" y="60"/>
                </a:lnTo>
                <a:lnTo>
                  <a:pt x="1164" y="84"/>
                </a:lnTo>
                <a:lnTo>
                  <a:pt x="1170" y="96"/>
                </a:lnTo>
                <a:lnTo>
                  <a:pt x="1170" y="126"/>
                </a:lnTo>
                <a:lnTo>
                  <a:pt x="1176" y="138"/>
                </a:lnTo>
                <a:lnTo>
                  <a:pt x="1176" y="156"/>
                </a:lnTo>
                <a:lnTo>
                  <a:pt x="1182" y="174"/>
                </a:lnTo>
                <a:lnTo>
                  <a:pt x="1182" y="216"/>
                </a:lnTo>
                <a:lnTo>
                  <a:pt x="1188" y="234"/>
                </a:lnTo>
                <a:lnTo>
                  <a:pt x="1188" y="270"/>
                </a:lnTo>
                <a:lnTo>
                  <a:pt x="1194" y="294"/>
                </a:lnTo>
                <a:lnTo>
                  <a:pt x="1194" y="312"/>
                </a:lnTo>
                <a:lnTo>
                  <a:pt x="1200" y="330"/>
                </a:lnTo>
                <a:lnTo>
                  <a:pt x="1200" y="360"/>
                </a:lnTo>
                <a:lnTo>
                  <a:pt x="1206" y="378"/>
                </a:lnTo>
                <a:lnTo>
                  <a:pt x="1206" y="408"/>
                </a:lnTo>
                <a:lnTo>
                  <a:pt x="1212" y="420"/>
                </a:lnTo>
                <a:lnTo>
                  <a:pt x="1212" y="444"/>
                </a:lnTo>
                <a:lnTo>
                  <a:pt x="1218" y="456"/>
                </a:lnTo>
                <a:lnTo>
                  <a:pt x="1218" y="480"/>
                </a:lnTo>
                <a:lnTo>
                  <a:pt x="1224" y="492"/>
                </a:lnTo>
                <a:lnTo>
                  <a:pt x="1224" y="510"/>
                </a:lnTo>
                <a:lnTo>
                  <a:pt x="1230" y="516"/>
                </a:lnTo>
                <a:lnTo>
                  <a:pt x="1230" y="546"/>
                </a:lnTo>
                <a:lnTo>
                  <a:pt x="1236" y="552"/>
                </a:lnTo>
                <a:lnTo>
                  <a:pt x="1236" y="570"/>
                </a:lnTo>
                <a:lnTo>
                  <a:pt x="1242" y="576"/>
                </a:lnTo>
                <a:lnTo>
                  <a:pt x="1242" y="588"/>
                </a:lnTo>
                <a:lnTo>
                  <a:pt x="1248" y="594"/>
                </a:lnTo>
                <a:lnTo>
                  <a:pt x="1248" y="606"/>
                </a:lnTo>
                <a:lnTo>
                  <a:pt x="1254" y="612"/>
                </a:lnTo>
                <a:lnTo>
                  <a:pt x="1254" y="630"/>
                </a:lnTo>
                <a:lnTo>
                  <a:pt x="1260" y="636"/>
                </a:lnTo>
                <a:lnTo>
                  <a:pt x="1260" y="648"/>
                </a:lnTo>
                <a:lnTo>
                  <a:pt x="1266" y="654"/>
                </a:lnTo>
                <a:lnTo>
                  <a:pt x="1266" y="666"/>
                </a:lnTo>
                <a:lnTo>
                  <a:pt x="1272" y="67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7467480" y="2781360"/>
            <a:ext cx="66960" cy="152280"/>
          </a:xfrm>
          <a:custGeom>
            <a:avLst/>
            <a:gdLst/>
            <a:ahLst/>
            <a:rect l="l" t="t" r="r" b="b"/>
            <a:pathLst>
              <a:path w="42" h="96">
                <a:moveTo>
                  <a:pt x="0" y="0"/>
                </a:moveTo>
                <a:lnTo>
                  <a:pt x="0" y="12"/>
                </a:lnTo>
                <a:lnTo>
                  <a:pt x="6" y="18"/>
                </a:lnTo>
                <a:lnTo>
                  <a:pt x="6" y="24"/>
                </a:lnTo>
                <a:lnTo>
                  <a:pt x="12" y="30"/>
                </a:lnTo>
                <a:lnTo>
                  <a:pt x="12" y="42"/>
                </a:lnTo>
                <a:lnTo>
                  <a:pt x="24" y="54"/>
                </a:lnTo>
                <a:lnTo>
                  <a:pt x="24" y="66"/>
                </a:lnTo>
                <a:lnTo>
                  <a:pt x="30" y="72"/>
                </a:lnTo>
                <a:lnTo>
                  <a:pt x="30" y="78"/>
                </a:lnTo>
                <a:lnTo>
                  <a:pt x="36" y="84"/>
                </a:lnTo>
                <a:lnTo>
                  <a:pt x="36" y="90"/>
                </a:lnTo>
                <a:lnTo>
                  <a:pt x="42" y="9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 rot="16200000">
            <a:off x="3927600" y="1952640"/>
            <a:ext cx="172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cumul N-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 flipV="1">
            <a:off x="2171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2171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 flipV="1">
            <a:off x="2124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2124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 flipV="1">
            <a:off x="20764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20764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 flipV="1">
            <a:off x="2009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2009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1943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1943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 flipV="1">
            <a:off x="21718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21718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20664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22006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 flipV="1">
            <a:off x="2486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2486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 flipV="1">
            <a:off x="2666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2666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 flipV="1">
            <a:off x="2800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2800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 flipV="1">
            <a:off x="2905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2905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 flipV="1">
            <a:off x="29811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29811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 flipV="1">
            <a:off x="3114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3114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 flipV="1">
            <a:off x="3162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3162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 flipV="1">
            <a:off x="3209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3209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 flipV="1">
            <a:off x="32097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32097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31046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3238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 flipV="1">
            <a:off x="3524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3524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 flipV="1">
            <a:off x="37051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37051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 flipV="1">
            <a:off x="3838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3838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 flipV="1">
            <a:off x="3943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3943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4019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4019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 flipV="1">
            <a:off x="4095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4095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 flipV="1">
            <a:off x="4152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4152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 flipV="1">
            <a:off x="4210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4210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156132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156132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2171880" y="4314960"/>
            <a:ext cx="1923840" cy="1152360"/>
          </a:xfrm>
          <a:custGeom>
            <a:avLst/>
            <a:gdLst/>
            <a:ahLst/>
            <a:rect l="l" t="t" r="r" b="b"/>
            <a:pathLst>
              <a:path w="1212" h="726">
                <a:moveTo>
                  <a:pt x="0" y="726"/>
                </a:moveTo>
                <a:lnTo>
                  <a:pt x="120" y="726"/>
                </a:lnTo>
                <a:lnTo>
                  <a:pt x="198" y="726"/>
                </a:lnTo>
                <a:lnTo>
                  <a:pt x="264" y="720"/>
                </a:lnTo>
                <a:lnTo>
                  <a:pt x="312" y="720"/>
                </a:lnTo>
                <a:lnTo>
                  <a:pt x="360" y="720"/>
                </a:lnTo>
                <a:lnTo>
                  <a:pt x="396" y="714"/>
                </a:lnTo>
                <a:lnTo>
                  <a:pt x="432" y="714"/>
                </a:lnTo>
                <a:lnTo>
                  <a:pt x="462" y="714"/>
                </a:lnTo>
                <a:lnTo>
                  <a:pt x="486" y="714"/>
                </a:lnTo>
                <a:lnTo>
                  <a:pt x="510" y="708"/>
                </a:lnTo>
                <a:lnTo>
                  <a:pt x="534" y="708"/>
                </a:lnTo>
                <a:lnTo>
                  <a:pt x="558" y="708"/>
                </a:lnTo>
                <a:lnTo>
                  <a:pt x="576" y="702"/>
                </a:lnTo>
                <a:lnTo>
                  <a:pt x="594" y="702"/>
                </a:lnTo>
                <a:lnTo>
                  <a:pt x="612" y="702"/>
                </a:lnTo>
                <a:lnTo>
                  <a:pt x="624" y="696"/>
                </a:lnTo>
                <a:lnTo>
                  <a:pt x="642" y="696"/>
                </a:lnTo>
                <a:lnTo>
                  <a:pt x="654" y="690"/>
                </a:lnTo>
                <a:lnTo>
                  <a:pt x="672" y="690"/>
                </a:lnTo>
                <a:lnTo>
                  <a:pt x="684" y="690"/>
                </a:lnTo>
                <a:lnTo>
                  <a:pt x="696" y="684"/>
                </a:lnTo>
                <a:lnTo>
                  <a:pt x="708" y="684"/>
                </a:lnTo>
                <a:lnTo>
                  <a:pt x="720" y="678"/>
                </a:lnTo>
                <a:lnTo>
                  <a:pt x="732" y="678"/>
                </a:lnTo>
                <a:lnTo>
                  <a:pt x="744" y="678"/>
                </a:lnTo>
                <a:lnTo>
                  <a:pt x="750" y="672"/>
                </a:lnTo>
                <a:lnTo>
                  <a:pt x="762" y="672"/>
                </a:lnTo>
                <a:lnTo>
                  <a:pt x="774" y="666"/>
                </a:lnTo>
                <a:lnTo>
                  <a:pt x="780" y="666"/>
                </a:lnTo>
                <a:lnTo>
                  <a:pt x="792" y="660"/>
                </a:lnTo>
                <a:lnTo>
                  <a:pt x="798" y="660"/>
                </a:lnTo>
                <a:lnTo>
                  <a:pt x="810" y="654"/>
                </a:lnTo>
                <a:lnTo>
                  <a:pt x="816" y="654"/>
                </a:lnTo>
                <a:lnTo>
                  <a:pt x="822" y="648"/>
                </a:lnTo>
                <a:lnTo>
                  <a:pt x="834" y="648"/>
                </a:lnTo>
                <a:lnTo>
                  <a:pt x="840" y="642"/>
                </a:lnTo>
                <a:lnTo>
                  <a:pt x="846" y="636"/>
                </a:lnTo>
                <a:lnTo>
                  <a:pt x="852" y="636"/>
                </a:lnTo>
                <a:lnTo>
                  <a:pt x="858" y="630"/>
                </a:lnTo>
                <a:lnTo>
                  <a:pt x="870" y="630"/>
                </a:lnTo>
                <a:lnTo>
                  <a:pt x="876" y="624"/>
                </a:lnTo>
                <a:lnTo>
                  <a:pt x="882" y="618"/>
                </a:lnTo>
                <a:lnTo>
                  <a:pt x="888" y="618"/>
                </a:lnTo>
                <a:lnTo>
                  <a:pt x="894" y="612"/>
                </a:lnTo>
                <a:lnTo>
                  <a:pt x="900" y="606"/>
                </a:lnTo>
                <a:lnTo>
                  <a:pt x="906" y="606"/>
                </a:lnTo>
                <a:lnTo>
                  <a:pt x="912" y="600"/>
                </a:lnTo>
                <a:lnTo>
                  <a:pt x="918" y="594"/>
                </a:lnTo>
                <a:lnTo>
                  <a:pt x="924" y="594"/>
                </a:lnTo>
                <a:lnTo>
                  <a:pt x="930" y="588"/>
                </a:lnTo>
                <a:lnTo>
                  <a:pt x="936" y="576"/>
                </a:lnTo>
                <a:lnTo>
                  <a:pt x="942" y="576"/>
                </a:lnTo>
                <a:lnTo>
                  <a:pt x="948" y="570"/>
                </a:lnTo>
                <a:lnTo>
                  <a:pt x="954" y="564"/>
                </a:lnTo>
                <a:lnTo>
                  <a:pt x="960" y="558"/>
                </a:lnTo>
                <a:lnTo>
                  <a:pt x="966" y="546"/>
                </a:lnTo>
                <a:lnTo>
                  <a:pt x="972" y="546"/>
                </a:lnTo>
                <a:lnTo>
                  <a:pt x="978" y="540"/>
                </a:lnTo>
                <a:lnTo>
                  <a:pt x="984" y="534"/>
                </a:lnTo>
                <a:lnTo>
                  <a:pt x="990" y="522"/>
                </a:lnTo>
                <a:lnTo>
                  <a:pt x="996" y="516"/>
                </a:lnTo>
                <a:lnTo>
                  <a:pt x="1002" y="510"/>
                </a:lnTo>
                <a:lnTo>
                  <a:pt x="1002" y="504"/>
                </a:lnTo>
                <a:lnTo>
                  <a:pt x="1008" y="498"/>
                </a:lnTo>
                <a:lnTo>
                  <a:pt x="1014" y="492"/>
                </a:lnTo>
                <a:lnTo>
                  <a:pt x="1014" y="486"/>
                </a:lnTo>
                <a:lnTo>
                  <a:pt x="1020" y="480"/>
                </a:lnTo>
                <a:lnTo>
                  <a:pt x="1026" y="474"/>
                </a:lnTo>
                <a:lnTo>
                  <a:pt x="1026" y="468"/>
                </a:lnTo>
                <a:lnTo>
                  <a:pt x="1032" y="462"/>
                </a:lnTo>
                <a:lnTo>
                  <a:pt x="1038" y="456"/>
                </a:lnTo>
                <a:lnTo>
                  <a:pt x="1038" y="450"/>
                </a:lnTo>
                <a:lnTo>
                  <a:pt x="1044" y="438"/>
                </a:lnTo>
                <a:lnTo>
                  <a:pt x="1044" y="432"/>
                </a:lnTo>
                <a:lnTo>
                  <a:pt x="1050" y="426"/>
                </a:lnTo>
                <a:lnTo>
                  <a:pt x="1056" y="420"/>
                </a:lnTo>
                <a:lnTo>
                  <a:pt x="1056" y="414"/>
                </a:lnTo>
                <a:lnTo>
                  <a:pt x="1062" y="408"/>
                </a:lnTo>
                <a:lnTo>
                  <a:pt x="1062" y="396"/>
                </a:lnTo>
                <a:lnTo>
                  <a:pt x="1068" y="390"/>
                </a:lnTo>
                <a:lnTo>
                  <a:pt x="1074" y="384"/>
                </a:lnTo>
                <a:lnTo>
                  <a:pt x="1074" y="378"/>
                </a:lnTo>
                <a:lnTo>
                  <a:pt x="1080" y="372"/>
                </a:lnTo>
                <a:lnTo>
                  <a:pt x="1080" y="360"/>
                </a:lnTo>
                <a:lnTo>
                  <a:pt x="1086" y="354"/>
                </a:lnTo>
                <a:lnTo>
                  <a:pt x="1086" y="348"/>
                </a:lnTo>
                <a:lnTo>
                  <a:pt x="1092" y="336"/>
                </a:lnTo>
                <a:lnTo>
                  <a:pt x="1092" y="330"/>
                </a:lnTo>
                <a:lnTo>
                  <a:pt x="1098" y="324"/>
                </a:lnTo>
                <a:lnTo>
                  <a:pt x="1098" y="318"/>
                </a:lnTo>
                <a:lnTo>
                  <a:pt x="1104" y="306"/>
                </a:lnTo>
                <a:lnTo>
                  <a:pt x="1104" y="300"/>
                </a:lnTo>
                <a:lnTo>
                  <a:pt x="1110" y="294"/>
                </a:lnTo>
                <a:lnTo>
                  <a:pt x="1110" y="282"/>
                </a:lnTo>
                <a:lnTo>
                  <a:pt x="1116" y="276"/>
                </a:lnTo>
                <a:lnTo>
                  <a:pt x="1116" y="270"/>
                </a:lnTo>
                <a:lnTo>
                  <a:pt x="1122" y="258"/>
                </a:lnTo>
                <a:lnTo>
                  <a:pt x="1122" y="252"/>
                </a:lnTo>
                <a:lnTo>
                  <a:pt x="1128" y="246"/>
                </a:lnTo>
                <a:lnTo>
                  <a:pt x="1128" y="228"/>
                </a:lnTo>
                <a:lnTo>
                  <a:pt x="1134" y="222"/>
                </a:lnTo>
                <a:lnTo>
                  <a:pt x="1134" y="216"/>
                </a:lnTo>
                <a:lnTo>
                  <a:pt x="1140" y="204"/>
                </a:lnTo>
                <a:lnTo>
                  <a:pt x="1140" y="198"/>
                </a:lnTo>
                <a:lnTo>
                  <a:pt x="1146" y="192"/>
                </a:lnTo>
                <a:lnTo>
                  <a:pt x="1146" y="174"/>
                </a:lnTo>
                <a:lnTo>
                  <a:pt x="1152" y="168"/>
                </a:lnTo>
                <a:lnTo>
                  <a:pt x="1152" y="162"/>
                </a:lnTo>
                <a:lnTo>
                  <a:pt x="1158" y="150"/>
                </a:lnTo>
                <a:lnTo>
                  <a:pt x="1158" y="144"/>
                </a:lnTo>
                <a:lnTo>
                  <a:pt x="1164" y="138"/>
                </a:lnTo>
                <a:lnTo>
                  <a:pt x="1164" y="126"/>
                </a:lnTo>
                <a:lnTo>
                  <a:pt x="1170" y="114"/>
                </a:lnTo>
                <a:lnTo>
                  <a:pt x="1170" y="102"/>
                </a:lnTo>
                <a:lnTo>
                  <a:pt x="1176" y="96"/>
                </a:lnTo>
                <a:lnTo>
                  <a:pt x="1176" y="90"/>
                </a:lnTo>
                <a:lnTo>
                  <a:pt x="1182" y="84"/>
                </a:lnTo>
                <a:lnTo>
                  <a:pt x="1182" y="72"/>
                </a:lnTo>
                <a:lnTo>
                  <a:pt x="1188" y="60"/>
                </a:lnTo>
                <a:lnTo>
                  <a:pt x="1188" y="48"/>
                </a:lnTo>
                <a:lnTo>
                  <a:pt x="1194" y="42"/>
                </a:lnTo>
                <a:lnTo>
                  <a:pt x="1194" y="36"/>
                </a:lnTo>
                <a:lnTo>
                  <a:pt x="1200" y="30"/>
                </a:lnTo>
                <a:lnTo>
                  <a:pt x="1200" y="24"/>
                </a:lnTo>
                <a:lnTo>
                  <a:pt x="1206" y="18"/>
                </a:lnTo>
                <a:lnTo>
                  <a:pt x="1206" y="6"/>
                </a:lnTo>
                <a:lnTo>
                  <a:pt x="121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4095720" y="4105440"/>
            <a:ext cx="162000" cy="209520"/>
          </a:xfrm>
          <a:custGeom>
            <a:avLst/>
            <a:gdLst/>
            <a:ahLst/>
            <a:rect l="l" t="t" r="r" b="b"/>
            <a:pathLst>
              <a:path w="102" h="132">
                <a:moveTo>
                  <a:pt x="0" y="132"/>
                </a:moveTo>
                <a:lnTo>
                  <a:pt x="0" y="120"/>
                </a:lnTo>
                <a:lnTo>
                  <a:pt x="6" y="114"/>
                </a:lnTo>
                <a:lnTo>
                  <a:pt x="6" y="108"/>
                </a:lnTo>
                <a:lnTo>
                  <a:pt x="12" y="102"/>
                </a:lnTo>
                <a:lnTo>
                  <a:pt x="12" y="96"/>
                </a:lnTo>
                <a:lnTo>
                  <a:pt x="18" y="90"/>
                </a:lnTo>
                <a:lnTo>
                  <a:pt x="18" y="78"/>
                </a:lnTo>
                <a:lnTo>
                  <a:pt x="30" y="66"/>
                </a:lnTo>
                <a:lnTo>
                  <a:pt x="30" y="60"/>
                </a:lnTo>
                <a:lnTo>
                  <a:pt x="42" y="48"/>
                </a:lnTo>
                <a:lnTo>
                  <a:pt x="42" y="42"/>
                </a:lnTo>
                <a:lnTo>
                  <a:pt x="54" y="30"/>
                </a:lnTo>
                <a:lnTo>
                  <a:pt x="54" y="24"/>
                </a:lnTo>
                <a:lnTo>
                  <a:pt x="60" y="18"/>
                </a:lnTo>
                <a:lnTo>
                  <a:pt x="66" y="12"/>
                </a:lnTo>
                <a:lnTo>
                  <a:pt x="72" y="12"/>
                </a:lnTo>
                <a:lnTo>
                  <a:pt x="78" y="6"/>
                </a:lnTo>
                <a:lnTo>
                  <a:pt x="84" y="6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2171880" y="4562640"/>
            <a:ext cx="1933560" cy="904680"/>
          </a:xfrm>
          <a:custGeom>
            <a:avLst/>
            <a:gdLst/>
            <a:ahLst/>
            <a:rect l="l" t="t" r="r" b="b"/>
            <a:pathLst>
              <a:path w="1218" h="570">
                <a:moveTo>
                  <a:pt x="0" y="570"/>
                </a:moveTo>
                <a:lnTo>
                  <a:pt x="120" y="570"/>
                </a:lnTo>
                <a:lnTo>
                  <a:pt x="198" y="564"/>
                </a:lnTo>
                <a:lnTo>
                  <a:pt x="264" y="564"/>
                </a:lnTo>
                <a:lnTo>
                  <a:pt x="312" y="564"/>
                </a:lnTo>
                <a:lnTo>
                  <a:pt x="360" y="564"/>
                </a:lnTo>
                <a:lnTo>
                  <a:pt x="396" y="558"/>
                </a:lnTo>
                <a:lnTo>
                  <a:pt x="432" y="558"/>
                </a:lnTo>
                <a:lnTo>
                  <a:pt x="462" y="558"/>
                </a:lnTo>
                <a:lnTo>
                  <a:pt x="486" y="552"/>
                </a:lnTo>
                <a:lnTo>
                  <a:pt x="510" y="552"/>
                </a:lnTo>
                <a:lnTo>
                  <a:pt x="534" y="552"/>
                </a:lnTo>
                <a:lnTo>
                  <a:pt x="558" y="546"/>
                </a:lnTo>
                <a:lnTo>
                  <a:pt x="576" y="546"/>
                </a:lnTo>
                <a:lnTo>
                  <a:pt x="594" y="546"/>
                </a:lnTo>
                <a:lnTo>
                  <a:pt x="612" y="540"/>
                </a:lnTo>
                <a:lnTo>
                  <a:pt x="624" y="540"/>
                </a:lnTo>
                <a:lnTo>
                  <a:pt x="642" y="540"/>
                </a:lnTo>
                <a:lnTo>
                  <a:pt x="654" y="534"/>
                </a:lnTo>
                <a:lnTo>
                  <a:pt x="672" y="534"/>
                </a:lnTo>
                <a:lnTo>
                  <a:pt x="684" y="528"/>
                </a:lnTo>
                <a:lnTo>
                  <a:pt x="696" y="528"/>
                </a:lnTo>
                <a:lnTo>
                  <a:pt x="708" y="522"/>
                </a:lnTo>
                <a:lnTo>
                  <a:pt x="720" y="522"/>
                </a:lnTo>
                <a:lnTo>
                  <a:pt x="732" y="522"/>
                </a:lnTo>
                <a:lnTo>
                  <a:pt x="744" y="516"/>
                </a:lnTo>
                <a:lnTo>
                  <a:pt x="750" y="516"/>
                </a:lnTo>
                <a:lnTo>
                  <a:pt x="762" y="510"/>
                </a:lnTo>
                <a:lnTo>
                  <a:pt x="774" y="510"/>
                </a:lnTo>
                <a:lnTo>
                  <a:pt x="780" y="504"/>
                </a:lnTo>
                <a:lnTo>
                  <a:pt x="792" y="504"/>
                </a:lnTo>
                <a:lnTo>
                  <a:pt x="798" y="498"/>
                </a:lnTo>
                <a:lnTo>
                  <a:pt x="810" y="498"/>
                </a:lnTo>
                <a:lnTo>
                  <a:pt x="816" y="492"/>
                </a:lnTo>
                <a:lnTo>
                  <a:pt x="822" y="486"/>
                </a:lnTo>
                <a:lnTo>
                  <a:pt x="834" y="486"/>
                </a:lnTo>
                <a:lnTo>
                  <a:pt x="840" y="480"/>
                </a:lnTo>
                <a:lnTo>
                  <a:pt x="846" y="480"/>
                </a:lnTo>
                <a:lnTo>
                  <a:pt x="852" y="474"/>
                </a:lnTo>
                <a:lnTo>
                  <a:pt x="858" y="468"/>
                </a:lnTo>
                <a:lnTo>
                  <a:pt x="870" y="468"/>
                </a:lnTo>
                <a:lnTo>
                  <a:pt x="876" y="462"/>
                </a:lnTo>
                <a:lnTo>
                  <a:pt x="882" y="456"/>
                </a:lnTo>
                <a:lnTo>
                  <a:pt x="888" y="456"/>
                </a:lnTo>
                <a:lnTo>
                  <a:pt x="894" y="450"/>
                </a:lnTo>
                <a:lnTo>
                  <a:pt x="900" y="444"/>
                </a:lnTo>
                <a:lnTo>
                  <a:pt x="906" y="444"/>
                </a:lnTo>
                <a:lnTo>
                  <a:pt x="912" y="438"/>
                </a:lnTo>
                <a:lnTo>
                  <a:pt x="918" y="432"/>
                </a:lnTo>
                <a:lnTo>
                  <a:pt x="924" y="426"/>
                </a:lnTo>
                <a:lnTo>
                  <a:pt x="930" y="420"/>
                </a:lnTo>
                <a:lnTo>
                  <a:pt x="936" y="414"/>
                </a:lnTo>
                <a:lnTo>
                  <a:pt x="942" y="408"/>
                </a:lnTo>
                <a:lnTo>
                  <a:pt x="948" y="402"/>
                </a:lnTo>
                <a:lnTo>
                  <a:pt x="954" y="396"/>
                </a:lnTo>
                <a:lnTo>
                  <a:pt x="960" y="390"/>
                </a:lnTo>
                <a:lnTo>
                  <a:pt x="966" y="384"/>
                </a:lnTo>
                <a:lnTo>
                  <a:pt x="966" y="378"/>
                </a:lnTo>
                <a:lnTo>
                  <a:pt x="972" y="372"/>
                </a:lnTo>
                <a:lnTo>
                  <a:pt x="978" y="366"/>
                </a:lnTo>
                <a:lnTo>
                  <a:pt x="984" y="360"/>
                </a:lnTo>
                <a:lnTo>
                  <a:pt x="990" y="354"/>
                </a:lnTo>
                <a:lnTo>
                  <a:pt x="990" y="348"/>
                </a:lnTo>
                <a:lnTo>
                  <a:pt x="996" y="342"/>
                </a:lnTo>
                <a:lnTo>
                  <a:pt x="1002" y="336"/>
                </a:lnTo>
                <a:lnTo>
                  <a:pt x="1002" y="330"/>
                </a:lnTo>
                <a:lnTo>
                  <a:pt x="1008" y="324"/>
                </a:lnTo>
                <a:lnTo>
                  <a:pt x="1014" y="318"/>
                </a:lnTo>
                <a:lnTo>
                  <a:pt x="1014" y="312"/>
                </a:lnTo>
                <a:lnTo>
                  <a:pt x="1020" y="300"/>
                </a:lnTo>
                <a:lnTo>
                  <a:pt x="1026" y="294"/>
                </a:lnTo>
                <a:lnTo>
                  <a:pt x="1026" y="288"/>
                </a:lnTo>
                <a:lnTo>
                  <a:pt x="1032" y="282"/>
                </a:lnTo>
                <a:lnTo>
                  <a:pt x="1038" y="270"/>
                </a:lnTo>
                <a:lnTo>
                  <a:pt x="1038" y="264"/>
                </a:lnTo>
                <a:lnTo>
                  <a:pt x="1044" y="258"/>
                </a:lnTo>
                <a:lnTo>
                  <a:pt x="1044" y="252"/>
                </a:lnTo>
                <a:lnTo>
                  <a:pt x="1050" y="240"/>
                </a:lnTo>
                <a:lnTo>
                  <a:pt x="1056" y="234"/>
                </a:lnTo>
                <a:lnTo>
                  <a:pt x="1056" y="222"/>
                </a:lnTo>
                <a:lnTo>
                  <a:pt x="1062" y="216"/>
                </a:lnTo>
                <a:lnTo>
                  <a:pt x="1062" y="210"/>
                </a:lnTo>
                <a:lnTo>
                  <a:pt x="1068" y="198"/>
                </a:lnTo>
                <a:lnTo>
                  <a:pt x="1074" y="192"/>
                </a:lnTo>
                <a:lnTo>
                  <a:pt x="1074" y="180"/>
                </a:lnTo>
                <a:lnTo>
                  <a:pt x="1080" y="174"/>
                </a:lnTo>
                <a:lnTo>
                  <a:pt x="1080" y="162"/>
                </a:lnTo>
                <a:lnTo>
                  <a:pt x="1086" y="156"/>
                </a:lnTo>
                <a:lnTo>
                  <a:pt x="1086" y="150"/>
                </a:lnTo>
                <a:lnTo>
                  <a:pt x="1092" y="138"/>
                </a:lnTo>
                <a:lnTo>
                  <a:pt x="1092" y="132"/>
                </a:lnTo>
                <a:lnTo>
                  <a:pt x="1098" y="120"/>
                </a:lnTo>
                <a:lnTo>
                  <a:pt x="1098" y="114"/>
                </a:lnTo>
                <a:lnTo>
                  <a:pt x="1104" y="102"/>
                </a:lnTo>
                <a:lnTo>
                  <a:pt x="1104" y="96"/>
                </a:lnTo>
                <a:lnTo>
                  <a:pt x="1110" y="84"/>
                </a:lnTo>
                <a:lnTo>
                  <a:pt x="1110" y="78"/>
                </a:lnTo>
                <a:lnTo>
                  <a:pt x="1116" y="72"/>
                </a:lnTo>
                <a:lnTo>
                  <a:pt x="1116" y="60"/>
                </a:lnTo>
                <a:lnTo>
                  <a:pt x="1122" y="54"/>
                </a:lnTo>
                <a:lnTo>
                  <a:pt x="1122" y="48"/>
                </a:lnTo>
                <a:lnTo>
                  <a:pt x="1128" y="42"/>
                </a:lnTo>
                <a:lnTo>
                  <a:pt x="1128" y="30"/>
                </a:lnTo>
                <a:lnTo>
                  <a:pt x="1134" y="24"/>
                </a:lnTo>
                <a:lnTo>
                  <a:pt x="1134" y="18"/>
                </a:lnTo>
                <a:lnTo>
                  <a:pt x="1146" y="6"/>
                </a:lnTo>
                <a:lnTo>
                  <a:pt x="1146" y="0"/>
                </a:lnTo>
                <a:lnTo>
                  <a:pt x="1152" y="6"/>
                </a:lnTo>
                <a:lnTo>
                  <a:pt x="1158" y="12"/>
                </a:lnTo>
                <a:lnTo>
                  <a:pt x="1164" y="18"/>
                </a:lnTo>
                <a:lnTo>
                  <a:pt x="1164" y="30"/>
                </a:lnTo>
                <a:lnTo>
                  <a:pt x="1170" y="42"/>
                </a:lnTo>
                <a:lnTo>
                  <a:pt x="1170" y="66"/>
                </a:lnTo>
                <a:lnTo>
                  <a:pt x="1176" y="78"/>
                </a:lnTo>
                <a:lnTo>
                  <a:pt x="1176" y="96"/>
                </a:lnTo>
                <a:lnTo>
                  <a:pt x="1182" y="114"/>
                </a:lnTo>
                <a:lnTo>
                  <a:pt x="1182" y="144"/>
                </a:lnTo>
                <a:lnTo>
                  <a:pt x="1188" y="162"/>
                </a:lnTo>
                <a:lnTo>
                  <a:pt x="1188" y="192"/>
                </a:lnTo>
                <a:lnTo>
                  <a:pt x="1194" y="204"/>
                </a:lnTo>
                <a:lnTo>
                  <a:pt x="1194" y="216"/>
                </a:lnTo>
                <a:lnTo>
                  <a:pt x="1200" y="228"/>
                </a:lnTo>
                <a:lnTo>
                  <a:pt x="1200" y="252"/>
                </a:lnTo>
                <a:lnTo>
                  <a:pt x="1206" y="264"/>
                </a:lnTo>
                <a:lnTo>
                  <a:pt x="1206" y="282"/>
                </a:lnTo>
                <a:lnTo>
                  <a:pt x="1212" y="288"/>
                </a:lnTo>
                <a:lnTo>
                  <a:pt x="1212" y="300"/>
                </a:lnTo>
                <a:lnTo>
                  <a:pt x="1218" y="3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4105440" y="5057640"/>
            <a:ext cx="152280" cy="190800"/>
          </a:xfrm>
          <a:custGeom>
            <a:avLst/>
            <a:gdLst/>
            <a:ahLst/>
            <a:rect l="l" t="t" r="r" b="b"/>
            <a:pathLst>
              <a:path w="96" h="120">
                <a:moveTo>
                  <a:pt x="0" y="0"/>
                </a:moveTo>
                <a:lnTo>
                  <a:pt x="0" y="6"/>
                </a:lnTo>
                <a:lnTo>
                  <a:pt x="6" y="12"/>
                </a:lnTo>
                <a:lnTo>
                  <a:pt x="6" y="24"/>
                </a:lnTo>
                <a:lnTo>
                  <a:pt x="12" y="30"/>
                </a:lnTo>
                <a:lnTo>
                  <a:pt x="12" y="42"/>
                </a:lnTo>
                <a:lnTo>
                  <a:pt x="18" y="48"/>
                </a:lnTo>
                <a:lnTo>
                  <a:pt x="30" y="60"/>
                </a:lnTo>
                <a:lnTo>
                  <a:pt x="30" y="66"/>
                </a:lnTo>
                <a:lnTo>
                  <a:pt x="42" y="78"/>
                </a:lnTo>
                <a:lnTo>
                  <a:pt x="36" y="78"/>
                </a:lnTo>
                <a:lnTo>
                  <a:pt x="42" y="78"/>
                </a:lnTo>
                <a:lnTo>
                  <a:pt x="54" y="90"/>
                </a:lnTo>
                <a:lnTo>
                  <a:pt x="54" y="96"/>
                </a:lnTo>
                <a:lnTo>
                  <a:pt x="60" y="96"/>
                </a:lnTo>
                <a:lnTo>
                  <a:pt x="66" y="102"/>
                </a:lnTo>
                <a:lnTo>
                  <a:pt x="72" y="108"/>
                </a:lnTo>
                <a:lnTo>
                  <a:pt x="78" y="108"/>
                </a:lnTo>
                <a:lnTo>
                  <a:pt x="84" y="114"/>
                </a:lnTo>
                <a:lnTo>
                  <a:pt x="90" y="120"/>
                </a:lnTo>
                <a:lnTo>
                  <a:pt x="96" y="12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 rot="16200000">
            <a:off x="648720" y="4558680"/>
            <a:ext cx="1591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ing stock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 flipV="1">
            <a:off x="5448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5448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5400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400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5353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5353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 flipV="1">
            <a:off x="5286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5286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 flipV="1">
            <a:off x="5219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5219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 flipV="1">
            <a:off x="5448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5448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534312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54774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 flipV="1">
            <a:off x="5762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5762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 flipV="1">
            <a:off x="5943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5943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 flipV="1">
            <a:off x="6076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6076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 flipV="1">
            <a:off x="6181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6181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 flipV="1">
            <a:off x="6257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6257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 flipV="1">
            <a:off x="639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639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 flipV="1">
            <a:off x="6438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6438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6486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6486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 flipV="1">
            <a:off x="6486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486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6381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6515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 flipV="1">
            <a:off x="6800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6800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 flipV="1">
            <a:off x="698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698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 flipV="1">
            <a:off x="7115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7115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 flipV="1">
            <a:off x="7219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7219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 flipV="1">
            <a:off x="7296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7296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 flipV="1">
            <a:off x="7372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7372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 flipV="1">
            <a:off x="7429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7429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 flipV="1">
            <a:off x="7486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7486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502236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4952520" y="511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4952520" y="4734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495252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495252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495252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448240" y="4876920"/>
            <a:ext cx="2086200" cy="666720"/>
          </a:xfrm>
          <a:custGeom>
            <a:avLst/>
            <a:gdLst/>
            <a:ahLst/>
            <a:rect l="l" t="t" r="r" b="b"/>
            <a:pathLst>
              <a:path w="1314" h="420">
                <a:moveTo>
                  <a:pt x="0" y="414"/>
                </a:moveTo>
                <a:lnTo>
                  <a:pt x="120" y="420"/>
                </a:lnTo>
                <a:lnTo>
                  <a:pt x="198" y="420"/>
                </a:lnTo>
                <a:lnTo>
                  <a:pt x="264" y="420"/>
                </a:lnTo>
                <a:lnTo>
                  <a:pt x="312" y="420"/>
                </a:lnTo>
                <a:lnTo>
                  <a:pt x="360" y="420"/>
                </a:lnTo>
                <a:lnTo>
                  <a:pt x="396" y="420"/>
                </a:lnTo>
                <a:lnTo>
                  <a:pt x="432" y="420"/>
                </a:lnTo>
                <a:lnTo>
                  <a:pt x="462" y="414"/>
                </a:lnTo>
                <a:lnTo>
                  <a:pt x="486" y="414"/>
                </a:lnTo>
                <a:lnTo>
                  <a:pt x="510" y="414"/>
                </a:lnTo>
                <a:lnTo>
                  <a:pt x="534" y="414"/>
                </a:lnTo>
                <a:lnTo>
                  <a:pt x="558" y="414"/>
                </a:lnTo>
                <a:lnTo>
                  <a:pt x="576" y="414"/>
                </a:lnTo>
                <a:lnTo>
                  <a:pt x="594" y="414"/>
                </a:lnTo>
                <a:lnTo>
                  <a:pt x="612" y="414"/>
                </a:lnTo>
                <a:lnTo>
                  <a:pt x="624" y="414"/>
                </a:lnTo>
                <a:lnTo>
                  <a:pt x="642" y="414"/>
                </a:lnTo>
                <a:lnTo>
                  <a:pt x="654" y="414"/>
                </a:lnTo>
                <a:lnTo>
                  <a:pt x="672" y="408"/>
                </a:lnTo>
                <a:lnTo>
                  <a:pt x="684" y="408"/>
                </a:lnTo>
                <a:lnTo>
                  <a:pt x="696" y="408"/>
                </a:lnTo>
                <a:lnTo>
                  <a:pt x="708" y="408"/>
                </a:lnTo>
                <a:lnTo>
                  <a:pt x="720" y="408"/>
                </a:lnTo>
                <a:lnTo>
                  <a:pt x="732" y="408"/>
                </a:lnTo>
                <a:lnTo>
                  <a:pt x="744" y="408"/>
                </a:lnTo>
                <a:lnTo>
                  <a:pt x="750" y="402"/>
                </a:lnTo>
                <a:lnTo>
                  <a:pt x="762" y="402"/>
                </a:lnTo>
                <a:lnTo>
                  <a:pt x="774" y="402"/>
                </a:lnTo>
                <a:lnTo>
                  <a:pt x="780" y="402"/>
                </a:lnTo>
                <a:lnTo>
                  <a:pt x="792" y="402"/>
                </a:lnTo>
                <a:lnTo>
                  <a:pt x="798" y="402"/>
                </a:lnTo>
                <a:lnTo>
                  <a:pt x="810" y="396"/>
                </a:lnTo>
                <a:lnTo>
                  <a:pt x="816" y="396"/>
                </a:lnTo>
                <a:lnTo>
                  <a:pt x="822" y="396"/>
                </a:lnTo>
                <a:lnTo>
                  <a:pt x="834" y="396"/>
                </a:lnTo>
                <a:lnTo>
                  <a:pt x="840" y="396"/>
                </a:lnTo>
                <a:lnTo>
                  <a:pt x="846" y="390"/>
                </a:lnTo>
                <a:lnTo>
                  <a:pt x="852" y="390"/>
                </a:lnTo>
                <a:lnTo>
                  <a:pt x="858" y="390"/>
                </a:lnTo>
                <a:lnTo>
                  <a:pt x="870" y="390"/>
                </a:lnTo>
                <a:lnTo>
                  <a:pt x="876" y="390"/>
                </a:lnTo>
                <a:lnTo>
                  <a:pt x="882" y="384"/>
                </a:lnTo>
                <a:lnTo>
                  <a:pt x="888" y="384"/>
                </a:lnTo>
                <a:lnTo>
                  <a:pt x="894" y="384"/>
                </a:lnTo>
                <a:lnTo>
                  <a:pt x="900" y="384"/>
                </a:lnTo>
                <a:lnTo>
                  <a:pt x="906" y="378"/>
                </a:lnTo>
                <a:lnTo>
                  <a:pt x="912" y="378"/>
                </a:lnTo>
                <a:lnTo>
                  <a:pt x="918" y="378"/>
                </a:lnTo>
                <a:lnTo>
                  <a:pt x="924" y="372"/>
                </a:lnTo>
                <a:lnTo>
                  <a:pt x="930" y="372"/>
                </a:lnTo>
                <a:lnTo>
                  <a:pt x="936" y="366"/>
                </a:lnTo>
                <a:lnTo>
                  <a:pt x="942" y="366"/>
                </a:lnTo>
                <a:lnTo>
                  <a:pt x="948" y="366"/>
                </a:lnTo>
                <a:lnTo>
                  <a:pt x="954" y="360"/>
                </a:lnTo>
                <a:lnTo>
                  <a:pt x="960" y="360"/>
                </a:lnTo>
                <a:lnTo>
                  <a:pt x="966" y="354"/>
                </a:lnTo>
                <a:lnTo>
                  <a:pt x="972" y="354"/>
                </a:lnTo>
                <a:lnTo>
                  <a:pt x="978" y="348"/>
                </a:lnTo>
                <a:lnTo>
                  <a:pt x="984" y="348"/>
                </a:lnTo>
                <a:lnTo>
                  <a:pt x="990" y="342"/>
                </a:lnTo>
                <a:lnTo>
                  <a:pt x="996" y="336"/>
                </a:lnTo>
                <a:lnTo>
                  <a:pt x="1002" y="336"/>
                </a:lnTo>
                <a:lnTo>
                  <a:pt x="1008" y="330"/>
                </a:lnTo>
                <a:lnTo>
                  <a:pt x="1014" y="324"/>
                </a:lnTo>
                <a:lnTo>
                  <a:pt x="1020" y="318"/>
                </a:lnTo>
                <a:lnTo>
                  <a:pt x="1026" y="312"/>
                </a:lnTo>
                <a:lnTo>
                  <a:pt x="1032" y="312"/>
                </a:lnTo>
                <a:lnTo>
                  <a:pt x="1038" y="300"/>
                </a:lnTo>
                <a:lnTo>
                  <a:pt x="1044" y="294"/>
                </a:lnTo>
                <a:lnTo>
                  <a:pt x="1050" y="288"/>
                </a:lnTo>
                <a:lnTo>
                  <a:pt x="1056" y="282"/>
                </a:lnTo>
                <a:lnTo>
                  <a:pt x="1068" y="270"/>
                </a:lnTo>
                <a:lnTo>
                  <a:pt x="1062" y="270"/>
                </a:lnTo>
                <a:lnTo>
                  <a:pt x="1068" y="270"/>
                </a:lnTo>
                <a:lnTo>
                  <a:pt x="1074" y="264"/>
                </a:lnTo>
                <a:lnTo>
                  <a:pt x="1074" y="258"/>
                </a:lnTo>
                <a:lnTo>
                  <a:pt x="1086" y="246"/>
                </a:lnTo>
                <a:lnTo>
                  <a:pt x="1086" y="240"/>
                </a:lnTo>
                <a:lnTo>
                  <a:pt x="1092" y="234"/>
                </a:lnTo>
                <a:lnTo>
                  <a:pt x="1092" y="228"/>
                </a:lnTo>
                <a:lnTo>
                  <a:pt x="1098" y="222"/>
                </a:lnTo>
                <a:lnTo>
                  <a:pt x="1098" y="216"/>
                </a:lnTo>
                <a:lnTo>
                  <a:pt x="1110" y="204"/>
                </a:lnTo>
                <a:lnTo>
                  <a:pt x="1110" y="198"/>
                </a:lnTo>
                <a:lnTo>
                  <a:pt x="1116" y="192"/>
                </a:lnTo>
                <a:lnTo>
                  <a:pt x="1116" y="186"/>
                </a:lnTo>
                <a:lnTo>
                  <a:pt x="1122" y="180"/>
                </a:lnTo>
                <a:lnTo>
                  <a:pt x="1122" y="174"/>
                </a:lnTo>
                <a:lnTo>
                  <a:pt x="1128" y="168"/>
                </a:lnTo>
                <a:lnTo>
                  <a:pt x="1128" y="156"/>
                </a:lnTo>
                <a:lnTo>
                  <a:pt x="1134" y="150"/>
                </a:lnTo>
                <a:lnTo>
                  <a:pt x="1134" y="144"/>
                </a:lnTo>
                <a:lnTo>
                  <a:pt x="1146" y="132"/>
                </a:lnTo>
                <a:lnTo>
                  <a:pt x="1146" y="120"/>
                </a:lnTo>
                <a:lnTo>
                  <a:pt x="1152" y="114"/>
                </a:lnTo>
                <a:lnTo>
                  <a:pt x="1152" y="108"/>
                </a:lnTo>
                <a:lnTo>
                  <a:pt x="1164" y="96"/>
                </a:lnTo>
                <a:lnTo>
                  <a:pt x="1164" y="84"/>
                </a:lnTo>
                <a:lnTo>
                  <a:pt x="1170" y="78"/>
                </a:lnTo>
                <a:lnTo>
                  <a:pt x="1170" y="72"/>
                </a:lnTo>
                <a:lnTo>
                  <a:pt x="1182" y="60"/>
                </a:lnTo>
                <a:lnTo>
                  <a:pt x="1182" y="48"/>
                </a:lnTo>
                <a:lnTo>
                  <a:pt x="1188" y="42"/>
                </a:lnTo>
                <a:lnTo>
                  <a:pt x="1194" y="36"/>
                </a:lnTo>
                <a:lnTo>
                  <a:pt x="1206" y="24"/>
                </a:lnTo>
                <a:lnTo>
                  <a:pt x="1206" y="18"/>
                </a:lnTo>
                <a:lnTo>
                  <a:pt x="1212" y="12"/>
                </a:lnTo>
                <a:lnTo>
                  <a:pt x="1218" y="6"/>
                </a:lnTo>
                <a:lnTo>
                  <a:pt x="1224" y="6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6"/>
                </a:lnTo>
                <a:lnTo>
                  <a:pt x="1266" y="6"/>
                </a:lnTo>
                <a:lnTo>
                  <a:pt x="1272" y="12"/>
                </a:lnTo>
                <a:lnTo>
                  <a:pt x="1278" y="18"/>
                </a:lnTo>
                <a:lnTo>
                  <a:pt x="1284" y="24"/>
                </a:lnTo>
                <a:lnTo>
                  <a:pt x="1290" y="30"/>
                </a:lnTo>
                <a:lnTo>
                  <a:pt x="1296" y="36"/>
                </a:lnTo>
                <a:lnTo>
                  <a:pt x="1302" y="42"/>
                </a:lnTo>
                <a:lnTo>
                  <a:pt x="1308" y="48"/>
                </a:lnTo>
                <a:lnTo>
                  <a:pt x="1314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5448240" y="4029120"/>
            <a:ext cx="1933560" cy="1523880"/>
          </a:xfrm>
          <a:custGeom>
            <a:avLst/>
            <a:gdLst/>
            <a:ahLst/>
            <a:rect l="l" t="t" r="r" b="b"/>
            <a:pathLst>
              <a:path w="1218" h="960">
                <a:moveTo>
                  <a:pt x="0" y="960"/>
                </a:moveTo>
                <a:lnTo>
                  <a:pt x="120" y="960"/>
                </a:lnTo>
                <a:lnTo>
                  <a:pt x="198" y="960"/>
                </a:lnTo>
                <a:lnTo>
                  <a:pt x="264" y="960"/>
                </a:lnTo>
                <a:lnTo>
                  <a:pt x="312" y="960"/>
                </a:lnTo>
                <a:lnTo>
                  <a:pt x="360" y="960"/>
                </a:lnTo>
                <a:lnTo>
                  <a:pt x="396" y="960"/>
                </a:lnTo>
                <a:lnTo>
                  <a:pt x="432" y="960"/>
                </a:lnTo>
                <a:lnTo>
                  <a:pt x="462" y="954"/>
                </a:lnTo>
                <a:lnTo>
                  <a:pt x="486" y="954"/>
                </a:lnTo>
                <a:lnTo>
                  <a:pt x="510" y="954"/>
                </a:lnTo>
                <a:lnTo>
                  <a:pt x="534" y="954"/>
                </a:lnTo>
                <a:lnTo>
                  <a:pt x="558" y="954"/>
                </a:lnTo>
                <a:lnTo>
                  <a:pt x="576" y="954"/>
                </a:lnTo>
                <a:lnTo>
                  <a:pt x="594" y="954"/>
                </a:lnTo>
                <a:lnTo>
                  <a:pt x="612" y="954"/>
                </a:lnTo>
                <a:lnTo>
                  <a:pt x="624" y="954"/>
                </a:lnTo>
                <a:lnTo>
                  <a:pt x="642" y="948"/>
                </a:lnTo>
                <a:lnTo>
                  <a:pt x="654" y="948"/>
                </a:lnTo>
                <a:lnTo>
                  <a:pt x="672" y="948"/>
                </a:lnTo>
                <a:lnTo>
                  <a:pt x="684" y="948"/>
                </a:lnTo>
                <a:lnTo>
                  <a:pt x="696" y="948"/>
                </a:lnTo>
                <a:lnTo>
                  <a:pt x="708" y="948"/>
                </a:lnTo>
                <a:lnTo>
                  <a:pt x="720" y="948"/>
                </a:lnTo>
                <a:lnTo>
                  <a:pt x="732" y="942"/>
                </a:lnTo>
                <a:lnTo>
                  <a:pt x="744" y="942"/>
                </a:lnTo>
                <a:lnTo>
                  <a:pt x="750" y="942"/>
                </a:lnTo>
                <a:lnTo>
                  <a:pt x="762" y="942"/>
                </a:lnTo>
                <a:lnTo>
                  <a:pt x="774" y="942"/>
                </a:lnTo>
                <a:lnTo>
                  <a:pt x="780" y="942"/>
                </a:lnTo>
                <a:lnTo>
                  <a:pt x="792" y="936"/>
                </a:lnTo>
                <a:lnTo>
                  <a:pt x="798" y="936"/>
                </a:lnTo>
                <a:lnTo>
                  <a:pt x="810" y="936"/>
                </a:lnTo>
                <a:lnTo>
                  <a:pt x="816" y="936"/>
                </a:lnTo>
                <a:lnTo>
                  <a:pt x="822" y="930"/>
                </a:lnTo>
                <a:lnTo>
                  <a:pt x="834" y="930"/>
                </a:lnTo>
                <a:lnTo>
                  <a:pt x="840" y="930"/>
                </a:lnTo>
                <a:lnTo>
                  <a:pt x="846" y="930"/>
                </a:lnTo>
                <a:lnTo>
                  <a:pt x="852" y="924"/>
                </a:lnTo>
                <a:lnTo>
                  <a:pt x="858" y="924"/>
                </a:lnTo>
                <a:lnTo>
                  <a:pt x="870" y="924"/>
                </a:lnTo>
                <a:lnTo>
                  <a:pt x="876" y="924"/>
                </a:lnTo>
                <a:lnTo>
                  <a:pt x="882" y="918"/>
                </a:lnTo>
                <a:lnTo>
                  <a:pt x="888" y="918"/>
                </a:lnTo>
                <a:lnTo>
                  <a:pt x="894" y="918"/>
                </a:lnTo>
                <a:lnTo>
                  <a:pt x="900" y="912"/>
                </a:lnTo>
                <a:lnTo>
                  <a:pt x="906" y="912"/>
                </a:lnTo>
                <a:lnTo>
                  <a:pt x="912" y="906"/>
                </a:lnTo>
                <a:lnTo>
                  <a:pt x="918" y="906"/>
                </a:lnTo>
                <a:lnTo>
                  <a:pt x="924" y="906"/>
                </a:lnTo>
                <a:lnTo>
                  <a:pt x="930" y="900"/>
                </a:lnTo>
                <a:lnTo>
                  <a:pt x="936" y="894"/>
                </a:lnTo>
                <a:lnTo>
                  <a:pt x="942" y="894"/>
                </a:lnTo>
                <a:lnTo>
                  <a:pt x="948" y="888"/>
                </a:lnTo>
                <a:lnTo>
                  <a:pt x="954" y="888"/>
                </a:lnTo>
                <a:lnTo>
                  <a:pt x="960" y="882"/>
                </a:lnTo>
                <a:lnTo>
                  <a:pt x="966" y="876"/>
                </a:lnTo>
                <a:lnTo>
                  <a:pt x="972" y="876"/>
                </a:lnTo>
                <a:lnTo>
                  <a:pt x="978" y="870"/>
                </a:lnTo>
                <a:lnTo>
                  <a:pt x="984" y="870"/>
                </a:lnTo>
                <a:lnTo>
                  <a:pt x="990" y="858"/>
                </a:lnTo>
                <a:lnTo>
                  <a:pt x="996" y="858"/>
                </a:lnTo>
                <a:lnTo>
                  <a:pt x="1002" y="846"/>
                </a:lnTo>
                <a:lnTo>
                  <a:pt x="1008" y="840"/>
                </a:lnTo>
                <a:lnTo>
                  <a:pt x="1014" y="834"/>
                </a:lnTo>
                <a:lnTo>
                  <a:pt x="1020" y="828"/>
                </a:lnTo>
                <a:lnTo>
                  <a:pt x="1026" y="822"/>
                </a:lnTo>
                <a:lnTo>
                  <a:pt x="1026" y="816"/>
                </a:lnTo>
                <a:lnTo>
                  <a:pt x="1032" y="810"/>
                </a:lnTo>
                <a:lnTo>
                  <a:pt x="1038" y="804"/>
                </a:lnTo>
                <a:lnTo>
                  <a:pt x="1038" y="798"/>
                </a:lnTo>
                <a:lnTo>
                  <a:pt x="1044" y="792"/>
                </a:lnTo>
                <a:lnTo>
                  <a:pt x="1044" y="786"/>
                </a:lnTo>
                <a:lnTo>
                  <a:pt x="1050" y="780"/>
                </a:lnTo>
                <a:lnTo>
                  <a:pt x="1056" y="768"/>
                </a:lnTo>
                <a:lnTo>
                  <a:pt x="1056" y="762"/>
                </a:lnTo>
                <a:lnTo>
                  <a:pt x="1062" y="756"/>
                </a:lnTo>
                <a:lnTo>
                  <a:pt x="1062" y="744"/>
                </a:lnTo>
                <a:lnTo>
                  <a:pt x="1068" y="738"/>
                </a:lnTo>
                <a:lnTo>
                  <a:pt x="1074" y="726"/>
                </a:lnTo>
                <a:lnTo>
                  <a:pt x="1074" y="720"/>
                </a:lnTo>
                <a:lnTo>
                  <a:pt x="1080" y="708"/>
                </a:lnTo>
                <a:lnTo>
                  <a:pt x="1080" y="696"/>
                </a:lnTo>
                <a:lnTo>
                  <a:pt x="1086" y="684"/>
                </a:lnTo>
                <a:lnTo>
                  <a:pt x="1086" y="672"/>
                </a:lnTo>
                <a:lnTo>
                  <a:pt x="1092" y="660"/>
                </a:lnTo>
                <a:lnTo>
                  <a:pt x="1092" y="648"/>
                </a:lnTo>
                <a:lnTo>
                  <a:pt x="1098" y="636"/>
                </a:lnTo>
                <a:lnTo>
                  <a:pt x="1098" y="618"/>
                </a:lnTo>
                <a:lnTo>
                  <a:pt x="1104" y="606"/>
                </a:lnTo>
                <a:lnTo>
                  <a:pt x="1104" y="588"/>
                </a:lnTo>
                <a:lnTo>
                  <a:pt x="1110" y="576"/>
                </a:lnTo>
                <a:lnTo>
                  <a:pt x="1110" y="558"/>
                </a:lnTo>
                <a:lnTo>
                  <a:pt x="1116" y="540"/>
                </a:lnTo>
                <a:lnTo>
                  <a:pt x="1116" y="522"/>
                </a:lnTo>
                <a:lnTo>
                  <a:pt x="1122" y="498"/>
                </a:lnTo>
                <a:lnTo>
                  <a:pt x="1122" y="480"/>
                </a:lnTo>
                <a:lnTo>
                  <a:pt x="1128" y="456"/>
                </a:lnTo>
                <a:lnTo>
                  <a:pt x="1128" y="408"/>
                </a:lnTo>
                <a:lnTo>
                  <a:pt x="1134" y="384"/>
                </a:lnTo>
                <a:lnTo>
                  <a:pt x="1134" y="360"/>
                </a:lnTo>
                <a:lnTo>
                  <a:pt x="1140" y="330"/>
                </a:lnTo>
                <a:lnTo>
                  <a:pt x="1140" y="306"/>
                </a:lnTo>
                <a:lnTo>
                  <a:pt x="1146" y="276"/>
                </a:lnTo>
                <a:lnTo>
                  <a:pt x="1146" y="216"/>
                </a:lnTo>
                <a:lnTo>
                  <a:pt x="1152" y="186"/>
                </a:lnTo>
                <a:lnTo>
                  <a:pt x="1152" y="156"/>
                </a:lnTo>
                <a:lnTo>
                  <a:pt x="1158" y="126"/>
                </a:lnTo>
                <a:lnTo>
                  <a:pt x="1158" y="96"/>
                </a:lnTo>
                <a:lnTo>
                  <a:pt x="1164" y="72"/>
                </a:lnTo>
                <a:lnTo>
                  <a:pt x="1164" y="30"/>
                </a:lnTo>
                <a:lnTo>
                  <a:pt x="1170" y="12"/>
                </a:lnTo>
                <a:lnTo>
                  <a:pt x="1170" y="0"/>
                </a:lnTo>
                <a:lnTo>
                  <a:pt x="1176" y="6"/>
                </a:lnTo>
                <a:lnTo>
                  <a:pt x="1182" y="24"/>
                </a:lnTo>
                <a:lnTo>
                  <a:pt x="1182" y="60"/>
                </a:lnTo>
                <a:lnTo>
                  <a:pt x="1188" y="84"/>
                </a:lnTo>
                <a:lnTo>
                  <a:pt x="1188" y="138"/>
                </a:lnTo>
                <a:lnTo>
                  <a:pt x="1194" y="168"/>
                </a:lnTo>
                <a:lnTo>
                  <a:pt x="1194" y="192"/>
                </a:lnTo>
                <a:lnTo>
                  <a:pt x="1200" y="216"/>
                </a:lnTo>
                <a:lnTo>
                  <a:pt x="1200" y="264"/>
                </a:lnTo>
                <a:lnTo>
                  <a:pt x="1206" y="288"/>
                </a:lnTo>
                <a:lnTo>
                  <a:pt x="1206" y="324"/>
                </a:lnTo>
                <a:lnTo>
                  <a:pt x="1212" y="342"/>
                </a:lnTo>
                <a:lnTo>
                  <a:pt x="1212" y="372"/>
                </a:lnTo>
                <a:lnTo>
                  <a:pt x="1218" y="390"/>
                </a:lnTo>
                <a:lnTo>
                  <a:pt x="1218" y="41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7381800" y="4686480"/>
            <a:ext cx="152640" cy="419040"/>
          </a:xfrm>
          <a:custGeom>
            <a:avLst/>
            <a:gdLst/>
            <a:ahLst/>
            <a:rect l="l" t="t" r="r" b="b"/>
            <a:pathLst>
              <a:path w="96" h="264">
                <a:moveTo>
                  <a:pt x="0" y="0"/>
                </a:moveTo>
                <a:lnTo>
                  <a:pt x="6" y="12"/>
                </a:lnTo>
                <a:lnTo>
                  <a:pt x="6" y="36"/>
                </a:lnTo>
                <a:lnTo>
                  <a:pt x="12" y="42"/>
                </a:lnTo>
                <a:lnTo>
                  <a:pt x="12" y="72"/>
                </a:lnTo>
                <a:lnTo>
                  <a:pt x="18" y="78"/>
                </a:lnTo>
                <a:lnTo>
                  <a:pt x="18" y="96"/>
                </a:lnTo>
                <a:lnTo>
                  <a:pt x="24" y="102"/>
                </a:lnTo>
                <a:lnTo>
                  <a:pt x="24" y="114"/>
                </a:lnTo>
                <a:lnTo>
                  <a:pt x="30" y="120"/>
                </a:lnTo>
                <a:lnTo>
                  <a:pt x="30" y="132"/>
                </a:lnTo>
                <a:lnTo>
                  <a:pt x="36" y="138"/>
                </a:lnTo>
                <a:lnTo>
                  <a:pt x="36" y="156"/>
                </a:lnTo>
                <a:lnTo>
                  <a:pt x="42" y="162"/>
                </a:lnTo>
                <a:lnTo>
                  <a:pt x="42" y="168"/>
                </a:lnTo>
                <a:lnTo>
                  <a:pt x="48" y="174"/>
                </a:lnTo>
                <a:lnTo>
                  <a:pt x="48" y="186"/>
                </a:lnTo>
                <a:lnTo>
                  <a:pt x="54" y="192"/>
                </a:lnTo>
                <a:lnTo>
                  <a:pt x="54" y="198"/>
                </a:lnTo>
                <a:lnTo>
                  <a:pt x="60" y="204"/>
                </a:lnTo>
                <a:lnTo>
                  <a:pt x="60" y="210"/>
                </a:lnTo>
                <a:lnTo>
                  <a:pt x="66" y="216"/>
                </a:lnTo>
                <a:lnTo>
                  <a:pt x="66" y="222"/>
                </a:lnTo>
                <a:lnTo>
                  <a:pt x="78" y="234"/>
                </a:lnTo>
                <a:lnTo>
                  <a:pt x="78" y="246"/>
                </a:lnTo>
                <a:lnTo>
                  <a:pt x="84" y="252"/>
                </a:lnTo>
                <a:lnTo>
                  <a:pt x="96" y="264"/>
                </a:lnTo>
                <a:lnTo>
                  <a:pt x="90" y="26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 rot="16200000">
            <a:off x="4101480" y="4555080"/>
            <a:ext cx="139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yr old plant size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3269880" y="22860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V="1">
            <a:off x="2171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2171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V="1">
            <a:off x="2124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2124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 flipV="1">
            <a:off x="20764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20764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 flipV="1">
            <a:off x="2009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2009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 flipV="1">
            <a:off x="1943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1943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 flipV="1">
            <a:off x="21718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21718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20664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22006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 flipV="1">
            <a:off x="2486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2486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 flipV="1">
            <a:off x="2666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2666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 flipV="1">
            <a:off x="2800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2800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 flipV="1">
            <a:off x="2905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2905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29811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29811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 flipV="1">
            <a:off x="3114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3114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 flipV="1">
            <a:off x="3162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3162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 flipV="1">
            <a:off x="3209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3209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 flipV="1">
            <a:off x="32097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32097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31046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3238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 flipV="1">
            <a:off x="3524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3524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 flipV="1">
            <a:off x="37051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37051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 flipV="1">
            <a:off x="3838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3838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 flipV="1">
            <a:off x="3943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3943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 flipV="1">
            <a:off x="4019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4019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 flipV="1">
            <a:off x="4095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4095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 flipV="1">
            <a:off x="4152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4152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 flipV="1">
            <a:off x="4210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4210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1761840" y="227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169524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2171880" y="1228680"/>
            <a:ext cx="2085840" cy="1733760"/>
          </a:xfrm>
          <a:custGeom>
            <a:avLst/>
            <a:gdLst/>
            <a:ahLst/>
            <a:rect l="l" t="t" r="r" b="b"/>
            <a:pathLst>
              <a:path w="1314" h="1092">
                <a:moveTo>
                  <a:pt x="0" y="1092"/>
                </a:moveTo>
                <a:lnTo>
                  <a:pt x="120" y="1074"/>
                </a:lnTo>
                <a:lnTo>
                  <a:pt x="198" y="1056"/>
                </a:lnTo>
                <a:lnTo>
                  <a:pt x="264" y="1032"/>
                </a:lnTo>
                <a:lnTo>
                  <a:pt x="312" y="1014"/>
                </a:lnTo>
                <a:lnTo>
                  <a:pt x="360" y="990"/>
                </a:lnTo>
                <a:lnTo>
                  <a:pt x="396" y="966"/>
                </a:lnTo>
                <a:lnTo>
                  <a:pt x="432" y="942"/>
                </a:lnTo>
                <a:lnTo>
                  <a:pt x="462" y="924"/>
                </a:lnTo>
                <a:lnTo>
                  <a:pt x="486" y="900"/>
                </a:lnTo>
                <a:lnTo>
                  <a:pt x="510" y="876"/>
                </a:lnTo>
                <a:lnTo>
                  <a:pt x="534" y="852"/>
                </a:lnTo>
                <a:lnTo>
                  <a:pt x="558" y="828"/>
                </a:lnTo>
                <a:lnTo>
                  <a:pt x="576" y="810"/>
                </a:lnTo>
                <a:lnTo>
                  <a:pt x="594" y="786"/>
                </a:lnTo>
                <a:lnTo>
                  <a:pt x="612" y="762"/>
                </a:lnTo>
                <a:lnTo>
                  <a:pt x="624" y="738"/>
                </a:lnTo>
                <a:lnTo>
                  <a:pt x="642" y="720"/>
                </a:lnTo>
                <a:lnTo>
                  <a:pt x="654" y="696"/>
                </a:lnTo>
                <a:lnTo>
                  <a:pt x="672" y="678"/>
                </a:lnTo>
                <a:lnTo>
                  <a:pt x="684" y="654"/>
                </a:lnTo>
                <a:lnTo>
                  <a:pt x="696" y="636"/>
                </a:lnTo>
                <a:lnTo>
                  <a:pt x="708" y="612"/>
                </a:lnTo>
                <a:lnTo>
                  <a:pt x="720" y="594"/>
                </a:lnTo>
                <a:lnTo>
                  <a:pt x="732" y="570"/>
                </a:lnTo>
                <a:lnTo>
                  <a:pt x="744" y="552"/>
                </a:lnTo>
                <a:lnTo>
                  <a:pt x="750" y="534"/>
                </a:lnTo>
                <a:lnTo>
                  <a:pt x="762" y="516"/>
                </a:lnTo>
                <a:lnTo>
                  <a:pt x="774" y="492"/>
                </a:lnTo>
                <a:lnTo>
                  <a:pt x="780" y="474"/>
                </a:lnTo>
                <a:lnTo>
                  <a:pt x="792" y="456"/>
                </a:lnTo>
                <a:lnTo>
                  <a:pt x="798" y="438"/>
                </a:lnTo>
                <a:lnTo>
                  <a:pt x="810" y="420"/>
                </a:lnTo>
                <a:lnTo>
                  <a:pt x="816" y="402"/>
                </a:lnTo>
                <a:lnTo>
                  <a:pt x="822" y="390"/>
                </a:lnTo>
                <a:lnTo>
                  <a:pt x="834" y="372"/>
                </a:lnTo>
                <a:lnTo>
                  <a:pt x="840" y="354"/>
                </a:lnTo>
                <a:lnTo>
                  <a:pt x="846" y="336"/>
                </a:lnTo>
                <a:lnTo>
                  <a:pt x="852" y="324"/>
                </a:lnTo>
                <a:lnTo>
                  <a:pt x="858" y="306"/>
                </a:lnTo>
                <a:lnTo>
                  <a:pt x="870" y="294"/>
                </a:lnTo>
                <a:lnTo>
                  <a:pt x="876" y="276"/>
                </a:lnTo>
                <a:lnTo>
                  <a:pt x="882" y="264"/>
                </a:lnTo>
                <a:lnTo>
                  <a:pt x="888" y="252"/>
                </a:lnTo>
                <a:lnTo>
                  <a:pt x="894" y="240"/>
                </a:lnTo>
                <a:lnTo>
                  <a:pt x="900" y="228"/>
                </a:lnTo>
                <a:lnTo>
                  <a:pt x="906" y="216"/>
                </a:lnTo>
                <a:lnTo>
                  <a:pt x="912" y="204"/>
                </a:lnTo>
                <a:lnTo>
                  <a:pt x="918" y="192"/>
                </a:lnTo>
                <a:lnTo>
                  <a:pt x="924" y="180"/>
                </a:lnTo>
                <a:lnTo>
                  <a:pt x="930" y="168"/>
                </a:lnTo>
                <a:lnTo>
                  <a:pt x="936" y="156"/>
                </a:lnTo>
                <a:lnTo>
                  <a:pt x="936" y="144"/>
                </a:lnTo>
                <a:lnTo>
                  <a:pt x="942" y="138"/>
                </a:lnTo>
                <a:lnTo>
                  <a:pt x="948" y="126"/>
                </a:lnTo>
                <a:lnTo>
                  <a:pt x="954" y="120"/>
                </a:lnTo>
                <a:lnTo>
                  <a:pt x="960" y="108"/>
                </a:lnTo>
                <a:lnTo>
                  <a:pt x="966" y="102"/>
                </a:lnTo>
                <a:lnTo>
                  <a:pt x="966" y="90"/>
                </a:lnTo>
                <a:lnTo>
                  <a:pt x="972" y="84"/>
                </a:lnTo>
                <a:lnTo>
                  <a:pt x="978" y="78"/>
                </a:lnTo>
                <a:lnTo>
                  <a:pt x="984" y="72"/>
                </a:lnTo>
                <a:lnTo>
                  <a:pt x="990" y="66"/>
                </a:lnTo>
                <a:lnTo>
                  <a:pt x="990" y="60"/>
                </a:lnTo>
                <a:lnTo>
                  <a:pt x="996" y="54"/>
                </a:lnTo>
                <a:lnTo>
                  <a:pt x="1002" y="48"/>
                </a:lnTo>
                <a:lnTo>
                  <a:pt x="1002" y="42"/>
                </a:lnTo>
                <a:lnTo>
                  <a:pt x="1008" y="36"/>
                </a:lnTo>
                <a:lnTo>
                  <a:pt x="1014" y="30"/>
                </a:lnTo>
                <a:lnTo>
                  <a:pt x="1020" y="24"/>
                </a:lnTo>
                <a:lnTo>
                  <a:pt x="1026" y="18"/>
                </a:lnTo>
                <a:lnTo>
                  <a:pt x="1044" y="6"/>
                </a:lnTo>
                <a:lnTo>
                  <a:pt x="1038" y="6"/>
                </a:lnTo>
                <a:lnTo>
                  <a:pt x="1044" y="6"/>
                </a:lnTo>
                <a:lnTo>
                  <a:pt x="1050" y="6"/>
                </a:lnTo>
                <a:lnTo>
                  <a:pt x="1056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6"/>
                </a:lnTo>
                <a:lnTo>
                  <a:pt x="1098" y="6"/>
                </a:lnTo>
                <a:lnTo>
                  <a:pt x="1104" y="12"/>
                </a:lnTo>
                <a:lnTo>
                  <a:pt x="1110" y="18"/>
                </a:lnTo>
                <a:lnTo>
                  <a:pt x="1116" y="24"/>
                </a:lnTo>
                <a:lnTo>
                  <a:pt x="1122" y="24"/>
                </a:lnTo>
                <a:lnTo>
                  <a:pt x="1128" y="36"/>
                </a:lnTo>
                <a:lnTo>
                  <a:pt x="1134" y="42"/>
                </a:lnTo>
                <a:lnTo>
                  <a:pt x="1140" y="48"/>
                </a:lnTo>
                <a:lnTo>
                  <a:pt x="1152" y="60"/>
                </a:lnTo>
                <a:lnTo>
                  <a:pt x="1152" y="66"/>
                </a:lnTo>
                <a:lnTo>
                  <a:pt x="1158" y="72"/>
                </a:lnTo>
                <a:lnTo>
                  <a:pt x="1164" y="78"/>
                </a:lnTo>
                <a:lnTo>
                  <a:pt x="1164" y="84"/>
                </a:lnTo>
                <a:lnTo>
                  <a:pt x="1176" y="96"/>
                </a:lnTo>
                <a:lnTo>
                  <a:pt x="1176" y="102"/>
                </a:lnTo>
                <a:lnTo>
                  <a:pt x="1182" y="108"/>
                </a:lnTo>
                <a:lnTo>
                  <a:pt x="1182" y="114"/>
                </a:lnTo>
                <a:lnTo>
                  <a:pt x="1194" y="126"/>
                </a:lnTo>
                <a:lnTo>
                  <a:pt x="1194" y="132"/>
                </a:lnTo>
                <a:lnTo>
                  <a:pt x="1206" y="144"/>
                </a:lnTo>
                <a:lnTo>
                  <a:pt x="1206" y="150"/>
                </a:lnTo>
                <a:lnTo>
                  <a:pt x="1212" y="156"/>
                </a:lnTo>
                <a:lnTo>
                  <a:pt x="1212" y="162"/>
                </a:lnTo>
                <a:lnTo>
                  <a:pt x="1224" y="174"/>
                </a:lnTo>
                <a:lnTo>
                  <a:pt x="1224" y="180"/>
                </a:lnTo>
                <a:lnTo>
                  <a:pt x="1230" y="186"/>
                </a:lnTo>
                <a:lnTo>
                  <a:pt x="1230" y="198"/>
                </a:lnTo>
                <a:lnTo>
                  <a:pt x="1236" y="204"/>
                </a:lnTo>
                <a:lnTo>
                  <a:pt x="1248" y="216"/>
                </a:lnTo>
                <a:lnTo>
                  <a:pt x="1248" y="222"/>
                </a:lnTo>
                <a:lnTo>
                  <a:pt x="1260" y="234"/>
                </a:lnTo>
                <a:lnTo>
                  <a:pt x="1260" y="240"/>
                </a:lnTo>
                <a:lnTo>
                  <a:pt x="1272" y="252"/>
                </a:lnTo>
                <a:lnTo>
                  <a:pt x="1272" y="264"/>
                </a:lnTo>
                <a:lnTo>
                  <a:pt x="1278" y="270"/>
                </a:lnTo>
                <a:lnTo>
                  <a:pt x="1290" y="282"/>
                </a:lnTo>
                <a:lnTo>
                  <a:pt x="1290" y="288"/>
                </a:lnTo>
                <a:lnTo>
                  <a:pt x="1302" y="300"/>
                </a:lnTo>
                <a:lnTo>
                  <a:pt x="1302" y="306"/>
                </a:lnTo>
                <a:lnTo>
                  <a:pt x="1314" y="318"/>
                </a:lnTo>
                <a:lnTo>
                  <a:pt x="1308" y="3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2171880" y="1866960"/>
            <a:ext cx="2028600" cy="971640"/>
          </a:xfrm>
          <a:custGeom>
            <a:avLst/>
            <a:gdLst/>
            <a:ahLst/>
            <a:rect l="l" t="t" r="r" b="b"/>
            <a:pathLst>
              <a:path w="1278" h="612">
                <a:moveTo>
                  <a:pt x="0" y="612"/>
                </a:moveTo>
                <a:lnTo>
                  <a:pt x="120" y="576"/>
                </a:lnTo>
                <a:lnTo>
                  <a:pt x="198" y="546"/>
                </a:lnTo>
                <a:lnTo>
                  <a:pt x="264" y="528"/>
                </a:lnTo>
                <a:lnTo>
                  <a:pt x="312" y="504"/>
                </a:lnTo>
                <a:lnTo>
                  <a:pt x="360" y="492"/>
                </a:lnTo>
                <a:lnTo>
                  <a:pt x="396" y="474"/>
                </a:lnTo>
                <a:lnTo>
                  <a:pt x="432" y="456"/>
                </a:lnTo>
                <a:lnTo>
                  <a:pt x="462" y="444"/>
                </a:lnTo>
                <a:lnTo>
                  <a:pt x="486" y="432"/>
                </a:lnTo>
                <a:lnTo>
                  <a:pt x="510" y="420"/>
                </a:lnTo>
                <a:lnTo>
                  <a:pt x="534" y="408"/>
                </a:lnTo>
                <a:lnTo>
                  <a:pt x="558" y="396"/>
                </a:lnTo>
                <a:lnTo>
                  <a:pt x="576" y="390"/>
                </a:lnTo>
                <a:lnTo>
                  <a:pt x="594" y="378"/>
                </a:lnTo>
                <a:lnTo>
                  <a:pt x="612" y="366"/>
                </a:lnTo>
                <a:lnTo>
                  <a:pt x="624" y="360"/>
                </a:lnTo>
                <a:lnTo>
                  <a:pt x="642" y="354"/>
                </a:lnTo>
                <a:lnTo>
                  <a:pt x="654" y="342"/>
                </a:lnTo>
                <a:lnTo>
                  <a:pt x="672" y="336"/>
                </a:lnTo>
                <a:lnTo>
                  <a:pt x="684" y="324"/>
                </a:lnTo>
                <a:lnTo>
                  <a:pt x="696" y="318"/>
                </a:lnTo>
                <a:lnTo>
                  <a:pt x="708" y="312"/>
                </a:lnTo>
                <a:lnTo>
                  <a:pt x="720" y="300"/>
                </a:lnTo>
                <a:lnTo>
                  <a:pt x="732" y="294"/>
                </a:lnTo>
                <a:lnTo>
                  <a:pt x="744" y="288"/>
                </a:lnTo>
                <a:lnTo>
                  <a:pt x="750" y="282"/>
                </a:lnTo>
                <a:lnTo>
                  <a:pt x="762" y="276"/>
                </a:lnTo>
                <a:lnTo>
                  <a:pt x="774" y="270"/>
                </a:lnTo>
                <a:lnTo>
                  <a:pt x="780" y="264"/>
                </a:lnTo>
                <a:lnTo>
                  <a:pt x="792" y="252"/>
                </a:lnTo>
                <a:lnTo>
                  <a:pt x="798" y="252"/>
                </a:lnTo>
                <a:lnTo>
                  <a:pt x="810" y="246"/>
                </a:lnTo>
                <a:lnTo>
                  <a:pt x="816" y="234"/>
                </a:lnTo>
                <a:lnTo>
                  <a:pt x="822" y="228"/>
                </a:lnTo>
                <a:lnTo>
                  <a:pt x="834" y="222"/>
                </a:lnTo>
                <a:lnTo>
                  <a:pt x="840" y="216"/>
                </a:lnTo>
                <a:lnTo>
                  <a:pt x="846" y="210"/>
                </a:lnTo>
                <a:lnTo>
                  <a:pt x="852" y="210"/>
                </a:lnTo>
                <a:lnTo>
                  <a:pt x="858" y="198"/>
                </a:lnTo>
                <a:lnTo>
                  <a:pt x="870" y="198"/>
                </a:lnTo>
                <a:lnTo>
                  <a:pt x="876" y="192"/>
                </a:lnTo>
                <a:lnTo>
                  <a:pt x="882" y="186"/>
                </a:lnTo>
                <a:lnTo>
                  <a:pt x="888" y="180"/>
                </a:lnTo>
                <a:lnTo>
                  <a:pt x="894" y="174"/>
                </a:lnTo>
                <a:lnTo>
                  <a:pt x="900" y="168"/>
                </a:lnTo>
                <a:lnTo>
                  <a:pt x="906" y="162"/>
                </a:lnTo>
                <a:lnTo>
                  <a:pt x="912" y="156"/>
                </a:lnTo>
                <a:lnTo>
                  <a:pt x="918" y="150"/>
                </a:lnTo>
                <a:lnTo>
                  <a:pt x="924" y="150"/>
                </a:lnTo>
                <a:lnTo>
                  <a:pt x="930" y="144"/>
                </a:lnTo>
                <a:lnTo>
                  <a:pt x="936" y="132"/>
                </a:lnTo>
                <a:lnTo>
                  <a:pt x="942" y="126"/>
                </a:lnTo>
                <a:lnTo>
                  <a:pt x="948" y="126"/>
                </a:lnTo>
                <a:lnTo>
                  <a:pt x="954" y="120"/>
                </a:lnTo>
                <a:lnTo>
                  <a:pt x="960" y="114"/>
                </a:lnTo>
                <a:lnTo>
                  <a:pt x="966" y="102"/>
                </a:lnTo>
                <a:lnTo>
                  <a:pt x="972" y="102"/>
                </a:lnTo>
                <a:lnTo>
                  <a:pt x="978" y="96"/>
                </a:lnTo>
                <a:lnTo>
                  <a:pt x="984" y="90"/>
                </a:lnTo>
                <a:lnTo>
                  <a:pt x="990" y="84"/>
                </a:lnTo>
                <a:lnTo>
                  <a:pt x="996" y="78"/>
                </a:lnTo>
                <a:lnTo>
                  <a:pt x="1002" y="66"/>
                </a:lnTo>
                <a:lnTo>
                  <a:pt x="1008" y="66"/>
                </a:lnTo>
                <a:lnTo>
                  <a:pt x="1014" y="54"/>
                </a:lnTo>
                <a:lnTo>
                  <a:pt x="1020" y="54"/>
                </a:lnTo>
                <a:lnTo>
                  <a:pt x="1026" y="42"/>
                </a:lnTo>
                <a:lnTo>
                  <a:pt x="1032" y="42"/>
                </a:lnTo>
                <a:lnTo>
                  <a:pt x="1038" y="30"/>
                </a:lnTo>
                <a:lnTo>
                  <a:pt x="1044" y="24"/>
                </a:lnTo>
                <a:lnTo>
                  <a:pt x="1050" y="24"/>
                </a:lnTo>
                <a:lnTo>
                  <a:pt x="1056" y="18"/>
                </a:lnTo>
                <a:lnTo>
                  <a:pt x="1062" y="12"/>
                </a:lnTo>
                <a:lnTo>
                  <a:pt x="1068" y="12"/>
                </a:lnTo>
                <a:lnTo>
                  <a:pt x="1074" y="6"/>
                </a:lnTo>
                <a:lnTo>
                  <a:pt x="1080" y="6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6"/>
                </a:lnTo>
                <a:lnTo>
                  <a:pt x="1110" y="6"/>
                </a:lnTo>
                <a:lnTo>
                  <a:pt x="1116" y="12"/>
                </a:lnTo>
                <a:lnTo>
                  <a:pt x="1122" y="18"/>
                </a:lnTo>
                <a:lnTo>
                  <a:pt x="1128" y="30"/>
                </a:lnTo>
                <a:lnTo>
                  <a:pt x="1128" y="36"/>
                </a:lnTo>
                <a:lnTo>
                  <a:pt x="1134" y="42"/>
                </a:lnTo>
                <a:lnTo>
                  <a:pt x="1134" y="48"/>
                </a:lnTo>
                <a:lnTo>
                  <a:pt x="1140" y="54"/>
                </a:lnTo>
                <a:lnTo>
                  <a:pt x="1140" y="60"/>
                </a:lnTo>
                <a:lnTo>
                  <a:pt x="1146" y="72"/>
                </a:lnTo>
                <a:lnTo>
                  <a:pt x="1146" y="90"/>
                </a:lnTo>
                <a:lnTo>
                  <a:pt x="1152" y="96"/>
                </a:lnTo>
                <a:lnTo>
                  <a:pt x="1152" y="108"/>
                </a:lnTo>
                <a:lnTo>
                  <a:pt x="1158" y="120"/>
                </a:lnTo>
                <a:lnTo>
                  <a:pt x="1158" y="132"/>
                </a:lnTo>
                <a:lnTo>
                  <a:pt x="1164" y="150"/>
                </a:lnTo>
                <a:lnTo>
                  <a:pt x="1164" y="180"/>
                </a:lnTo>
                <a:lnTo>
                  <a:pt x="1170" y="192"/>
                </a:lnTo>
                <a:lnTo>
                  <a:pt x="1170" y="228"/>
                </a:lnTo>
                <a:lnTo>
                  <a:pt x="1176" y="240"/>
                </a:lnTo>
                <a:lnTo>
                  <a:pt x="1176" y="258"/>
                </a:lnTo>
                <a:lnTo>
                  <a:pt x="1182" y="276"/>
                </a:lnTo>
                <a:lnTo>
                  <a:pt x="1182" y="306"/>
                </a:lnTo>
                <a:lnTo>
                  <a:pt x="1188" y="324"/>
                </a:lnTo>
                <a:lnTo>
                  <a:pt x="1188" y="348"/>
                </a:lnTo>
                <a:lnTo>
                  <a:pt x="1194" y="360"/>
                </a:lnTo>
                <a:lnTo>
                  <a:pt x="1194" y="372"/>
                </a:lnTo>
                <a:lnTo>
                  <a:pt x="1200" y="384"/>
                </a:lnTo>
                <a:lnTo>
                  <a:pt x="1200" y="402"/>
                </a:lnTo>
                <a:lnTo>
                  <a:pt x="1206" y="414"/>
                </a:lnTo>
                <a:lnTo>
                  <a:pt x="1206" y="426"/>
                </a:lnTo>
                <a:lnTo>
                  <a:pt x="1212" y="438"/>
                </a:lnTo>
                <a:lnTo>
                  <a:pt x="1212" y="450"/>
                </a:lnTo>
                <a:lnTo>
                  <a:pt x="1218" y="456"/>
                </a:lnTo>
                <a:lnTo>
                  <a:pt x="1218" y="462"/>
                </a:lnTo>
                <a:lnTo>
                  <a:pt x="1224" y="468"/>
                </a:lnTo>
                <a:lnTo>
                  <a:pt x="1224" y="480"/>
                </a:lnTo>
                <a:lnTo>
                  <a:pt x="1230" y="486"/>
                </a:lnTo>
                <a:lnTo>
                  <a:pt x="1230" y="492"/>
                </a:lnTo>
                <a:lnTo>
                  <a:pt x="1236" y="498"/>
                </a:lnTo>
                <a:lnTo>
                  <a:pt x="1236" y="504"/>
                </a:lnTo>
                <a:lnTo>
                  <a:pt x="1242" y="510"/>
                </a:lnTo>
                <a:lnTo>
                  <a:pt x="1254" y="522"/>
                </a:lnTo>
                <a:lnTo>
                  <a:pt x="1254" y="528"/>
                </a:lnTo>
                <a:lnTo>
                  <a:pt x="1260" y="534"/>
                </a:lnTo>
                <a:lnTo>
                  <a:pt x="1266" y="540"/>
                </a:lnTo>
                <a:lnTo>
                  <a:pt x="1272" y="546"/>
                </a:lnTo>
                <a:lnTo>
                  <a:pt x="1278" y="55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4200480" y="2743200"/>
            <a:ext cx="57240" cy="38160"/>
          </a:xfrm>
          <a:custGeom>
            <a:avLst/>
            <a:gdLst/>
            <a:ahLst/>
            <a:rect l="l" t="t" r="r" b="b"/>
            <a:pathLst>
              <a:path w="36" h="24">
                <a:moveTo>
                  <a:pt x="0" y="0"/>
                </a:moveTo>
                <a:lnTo>
                  <a:pt x="6" y="6"/>
                </a:lnTo>
                <a:lnTo>
                  <a:pt x="12" y="12"/>
                </a:lnTo>
                <a:lnTo>
                  <a:pt x="18" y="18"/>
                </a:lnTo>
                <a:lnTo>
                  <a:pt x="24" y="18"/>
                </a:lnTo>
                <a:lnTo>
                  <a:pt x="30" y="24"/>
                </a:lnTo>
                <a:lnTo>
                  <a:pt x="36" y="2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 rot="16200000">
            <a:off x="967320" y="196596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 flipV="1">
            <a:off x="5448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5448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 flipV="1">
            <a:off x="5400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5400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 flipV="1">
            <a:off x="5353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5353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 flipV="1">
            <a:off x="5286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5286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 flipV="1">
            <a:off x="5219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5219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 flipV="1">
            <a:off x="5448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5448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534312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54774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 flipV="1">
            <a:off x="5762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5762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 flipV="1">
            <a:off x="5943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5943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V="1">
            <a:off x="6076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6076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 flipV="1">
            <a:off x="6181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6181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 flipV="1">
            <a:off x="6257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6257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V="1">
            <a:off x="639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639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 flipV="1">
            <a:off x="6438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6438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 flipV="1">
            <a:off x="6486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6486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 flipV="1">
            <a:off x="6486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6486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6381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6515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 flipV="1">
            <a:off x="6800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6800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 flipV="1">
            <a:off x="698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698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 flipV="1">
            <a:off x="7115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7115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 flipV="1">
            <a:off x="7219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7219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 flipV="1">
            <a:off x="7296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7296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 flipV="1">
            <a:off x="7372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7372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 flipV="1">
            <a:off x="7429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7429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 flipV="1">
            <a:off x="7486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7486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495216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495216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495216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495216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495216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495216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448240" y="1295280"/>
            <a:ext cx="2086200" cy="1552680"/>
          </a:xfrm>
          <a:custGeom>
            <a:avLst/>
            <a:gdLst/>
            <a:ahLst/>
            <a:rect l="l" t="t" r="r" b="b"/>
            <a:pathLst>
              <a:path w="1314" h="978">
                <a:moveTo>
                  <a:pt x="0" y="0"/>
                </a:moveTo>
                <a:lnTo>
                  <a:pt x="120" y="174"/>
                </a:lnTo>
                <a:lnTo>
                  <a:pt x="198" y="312"/>
                </a:lnTo>
                <a:lnTo>
                  <a:pt x="264" y="420"/>
                </a:lnTo>
                <a:lnTo>
                  <a:pt x="312" y="498"/>
                </a:lnTo>
                <a:lnTo>
                  <a:pt x="360" y="564"/>
                </a:lnTo>
                <a:lnTo>
                  <a:pt x="396" y="618"/>
                </a:lnTo>
                <a:lnTo>
                  <a:pt x="432" y="660"/>
                </a:lnTo>
                <a:lnTo>
                  <a:pt x="462" y="696"/>
                </a:lnTo>
                <a:lnTo>
                  <a:pt x="486" y="726"/>
                </a:lnTo>
                <a:lnTo>
                  <a:pt x="510" y="750"/>
                </a:lnTo>
                <a:lnTo>
                  <a:pt x="534" y="774"/>
                </a:lnTo>
                <a:lnTo>
                  <a:pt x="558" y="792"/>
                </a:lnTo>
                <a:lnTo>
                  <a:pt x="576" y="804"/>
                </a:lnTo>
                <a:lnTo>
                  <a:pt x="594" y="822"/>
                </a:lnTo>
                <a:lnTo>
                  <a:pt x="612" y="834"/>
                </a:lnTo>
                <a:lnTo>
                  <a:pt x="624" y="846"/>
                </a:lnTo>
                <a:lnTo>
                  <a:pt x="642" y="858"/>
                </a:lnTo>
                <a:lnTo>
                  <a:pt x="654" y="864"/>
                </a:lnTo>
                <a:lnTo>
                  <a:pt x="672" y="870"/>
                </a:lnTo>
                <a:lnTo>
                  <a:pt x="684" y="882"/>
                </a:lnTo>
                <a:lnTo>
                  <a:pt x="696" y="888"/>
                </a:lnTo>
                <a:lnTo>
                  <a:pt x="708" y="894"/>
                </a:lnTo>
                <a:lnTo>
                  <a:pt x="720" y="900"/>
                </a:lnTo>
                <a:lnTo>
                  <a:pt x="732" y="906"/>
                </a:lnTo>
                <a:lnTo>
                  <a:pt x="744" y="912"/>
                </a:lnTo>
                <a:lnTo>
                  <a:pt x="750" y="912"/>
                </a:lnTo>
                <a:lnTo>
                  <a:pt x="762" y="918"/>
                </a:lnTo>
                <a:lnTo>
                  <a:pt x="774" y="924"/>
                </a:lnTo>
                <a:lnTo>
                  <a:pt x="780" y="924"/>
                </a:lnTo>
                <a:lnTo>
                  <a:pt x="792" y="930"/>
                </a:lnTo>
                <a:lnTo>
                  <a:pt x="798" y="930"/>
                </a:lnTo>
                <a:lnTo>
                  <a:pt x="810" y="936"/>
                </a:lnTo>
                <a:lnTo>
                  <a:pt x="816" y="936"/>
                </a:lnTo>
                <a:lnTo>
                  <a:pt x="822" y="942"/>
                </a:lnTo>
                <a:lnTo>
                  <a:pt x="834" y="942"/>
                </a:lnTo>
                <a:lnTo>
                  <a:pt x="840" y="942"/>
                </a:lnTo>
                <a:lnTo>
                  <a:pt x="846" y="948"/>
                </a:lnTo>
                <a:lnTo>
                  <a:pt x="852" y="948"/>
                </a:lnTo>
                <a:lnTo>
                  <a:pt x="858" y="954"/>
                </a:lnTo>
                <a:lnTo>
                  <a:pt x="870" y="954"/>
                </a:lnTo>
                <a:lnTo>
                  <a:pt x="876" y="954"/>
                </a:lnTo>
                <a:lnTo>
                  <a:pt x="882" y="954"/>
                </a:lnTo>
                <a:lnTo>
                  <a:pt x="888" y="960"/>
                </a:lnTo>
                <a:lnTo>
                  <a:pt x="894" y="960"/>
                </a:lnTo>
                <a:lnTo>
                  <a:pt x="900" y="960"/>
                </a:lnTo>
                <a:lnTo>
                  <a:pt x="906" y="960"/>
                </a:lnTo>
                <a:lnTo>
                  <a:pt x="912" y="960"/>
                </a:lnTo>
                <a:lnTo>
                  <a:pt x="918" y="966"/>
                </a:lnTo>
                <a:lnTo>
                  <a:pt x="924" y="966"/>
                </a:lnTo>
                <a:lnTo>
                  <a:pt x="930" y="966"/>
                </a:lnTo>
                <a:lnTo>
                  <a:pt x="936" y="966"/>
                </a:lnTo>
                <a:lnTo>
                  <a:pt x="942" y="966"/>
                </a:lnTo>
                <a:lnTo>
                  <a:pt x="948" y="972"/>
                </a:lnTo>
                <a:lnTo>
                  <a:pt x="954" y="972"/>
                </a:lnTo>
                <a:lnTo>
                  <a:pt x="960" y="972"/>
                </a:lnTo>
                <a:lnTo>
                  <a:pt x="966" y="972"/>
                </a:lnTo>
                <a:lnTo>
                  <a:pt x="972" y="972"/>
                </a:lnTo>
                <a:lnTo>
                  <a:pt x="978" y="972"/>
                </a:lnTo>
                <a:lnTo>
                  <a:pt x="984" y="972"/>
                </a:lnTo>
                <a:lnTo>
                  <a:pt x="990" y="978"/>
                </a:lnTo>
                <a:lnTo>
                  <a:pt x="996" y="978"/>
                </a:lnTo>
                <a:lnTo>
                  <a:pt x="1002" y="978"/>
                </a:lnTo>
                <a:lnTo>
                  <a:pt x="1008" y="978"/>
                </a:lnTo>
                <a:lnTo>
                  <a:pt x="1014" y="978"/>
                </a:lnTo>
                <a:lnTo>
                  <a:pt x="1020" y="978"/>
                </a:lnTo>
                <a:lnTo>
                  <a:pt x="1026" y="978"/>
                </a:lnTo>
                <a:lnTo>
                  <a:pt x="1032" y="978"/>
                </a:lnTo>
                <a:lnTo>
                  <a:pt x="1038" y="978"/>
                </a:lnTo>
                <a:lnTo>
                  <a:pt x="1044" y="978"/>
                </a:lnTo>
                <a:lnTo>
                  <a:pt x="1050" y="978"/>
                </a:lnTo>
                <a:lnTo>
                  <a:pt x="1056" y="978"/>
                </a:lnTo>
                <a:lnTo>
                  <a:pt x="1062" y="978"/>
                </a:lnTo>
                <a:lnTo>
                  <a:pt x="1068" y="978"/>
                </a:lnTo>
                <a:lnTo>
                  <a:pt x="1074" y="978"/>
                </a:lnTo>
                <a:lnTo>
                  <a:pt x="1080" y="978"/>
                </a:lnTo>
                <a:lnTo>
                  <a:pt x="1086" y="978"/>
                </a:lnTo>
                <a:lnTo>
                  <a:pt x="1092" y="978"/>
                </a:lnTo>
                <a:lnTo>
                  <a:pt x="1098" y="978"/>
                </a:lnTo>
                <a:lnTo>
                  <a:pt x="1104" y="978"/>
                </a:lnTo>
                <a:lnTo>
                  <a:pt x="1110" y="978"/>
                </a:lnTo>
                <a:lnTo>
                  <a:pt x="1116" y="978"/>
                </a:lnTo>
                <a:lnTo>
                  <a:pt x="1122" y="978"/>
                </a:lnTo>
                <a:lnTo>
                  <a:pt x="1128" y="978"/>
                </a:lnTo>
                <a:lnTo>
                  <a:pt x="1134" y="978"/>
                </a:lnTo>
                <a:lnTo>
                  <a:pt x="1140" y="978"/>
                </a:lnTo>
                <a:lnTo>
                  <a:pt x="1146" y="978"/>
                </a:lnTo>
                <a:lnTo>
                  <a:pt x="1152" y="972"/>
                </a:lnTo>
                <a:lnTo>
                  <a:pt x="1158" y="972"/>
                </a:lnTo>
                <a:lnTo>
                  <a:pt x="1164" y="972"/>
                </a:lnTo>
                <a:lnTo>
                  <a:pt x="1170" y="972"/>
                </a:lnTo>
                <a:lnTo>
                  <a:pt x="1176" y="972"/>
                </a:lnTo>
                <a:lnTo>
                  <a:pt x="1182" y="972"/>
                </a:lnTo>
                <a:lnTo>
                  <a:pt x="1188" y="972"/>
                </a:lnTo>
                <a:lnTo>
                  <a:pt x="1194" y="972"/>
                </a:lnTo>
                <a:lnTo>
                  <a:pt x="1200" y="966"/>
                </a:lnTo>
                <a:lnTo>
                  <a:pt x="1206" y="966"/>
                </a:lnTo>
                <a:lnTo>
                  <a:pt x="1212" y="966"/>
                </a:lnTo>
                <a:lnTo>
                  <a:pt x="1218" y="966"/>
                </a:lnTo>
                <a:lnTo>
                  <a:pt x="1224" y="966"/>
                </a:lnTo>
                <a:lnTo>
                  <a:pt x="1230" y="966"/>
                </a:lnTo>
                <a:lnTo>
                  <a:pt x="1236" y="960"/>
                </a:lnTo>
                <a:lnTo>
                  <a:pt x="1242" y="960"/>
                </a:lnTo>
                <a:lnTo>
                  <a:pt x="1248" y="960"/>
                </a:lnTo>
                <a:lnTo>
                  <a:pt x="1254" y="960"/>
                </a:lnTo>
                <a:lnTo>
                  <a:pt x="1260" y="960"/>
                </a:lnTo>
                <a:lnTo>
                  <a:pt x="1266" y="960"/>
                </a:lnTo>
                <a:lnTo>
                  <a:pt x="1272" y="954"/>
                </a:lnTo>
                <a:lnTo>
                  <a:pt x="1278" y="954"/>
                </a:lnTo>
                <a:lnTo>
                  <a:pt x="1284" y="954"/>
                </a:lnTo>
                <a:lnTo>
                  <a:pt x="1290" y="954"/>
                </a:lnTo>
                <a:lnTo>
                  <a:pt x="1296" y="954"/>
                </a:lnTo>
                <a:lnTo>
                  <a:pt x="1302" y="954"/>
                </a:lnTo>
                <a:lnTo>
                  <a:pt x="1308" y="948"/>
                </a:lnTo>
                <a:lnTo>
                  <a:pt x="1314" y="9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5448240" y="2085840"/>
            <a:ext cx="2086200" cy="695520"/>
          </a:xfrm>
          <a:custGeom>
            <a:avLst/>
            <a:gdLst/>
            <a:ahLst/>
            <a:rect l="l" t="t" r="r" b="b"/>
            <a:pathLst>
              <a:path w="1314" h="438">
                <a:moveTo>
                  <a:pt x="0" y="0"/>
                </a:moveTo>
                <a:lnTo>
                  <a:pt x="120" y="102"/>
                </a:lnTo>
                <a:lnTo>
                  <a:pt x="198" y="156"/>
                </a:lnTo>
                <a:lnTo>
                  <a:pt x="264" y="192"/>
                </a:lnTo>
                <a:lnTo>
                  <a:pt x="312" y="216"/>
                </a:lnTo>
                <a:lnTo>
                  <a:pt x="360" y="234"/>
                </a:lnTo>
                <a:lnTo>
                  <a:pt x="396" y="252"/>
                </a:lnTo>
                <a:lnTo>
                  <a:pt x="432" y="264"/>
                </a:lnTo>
                <a:lnTo>
                  <a:pt x="462" y="276"/>
                </a:lnTo>
                <a:lnTo>
                  <a:pt x="486" y="288"/>
                </a:lnTo>
                <a:lnTo>
                  <a:pt x="510" y="294"/>
                </a:lnTo>
                <a:lnTo>
                  <a:pt x="534" y="306"/>
                </a:lnTo>
                <a:lnTo>
                  <a:pt x="558" y="312"/>
                </a:lnTo>
                <a:lnTo>
                  <a:pt x="576" y="318"/>
                </a:lnTo>
                <a:lnTo>
                  <a:pt x="594" y="324"/>
                </a:lnTo>
                <a:lnTo>
                  <a:pt x="612" y="330"/>
                </a:lnTo>
                <a:lnTo>
                  <a:pt x="624" y="336"/>
                </a:lnTo>
                <a:lnTo>
                  <a:pt x="642" y="342"/>
                </a:lnTo>
                <a:lnTo>
                  <a:pt x="654" y="348"/>
                </a:lnTo>
                <a:lnTo>
                  <a:pt x="672" y="348"/>
                </a:lnTo>
                <a:lnTo>
                  <a:pt x="684" y="354"/>
                </a:lnTo>
                <a:lnTo>
                  <a:pt x="696" y="354"/>
                </a:lnTo>
                <a:lnTo>
                  <a:pt x="708" y="360"/>
                </a:lnTo>
                <a:lnTo>
                  <a:pt x="720" y="366"/>
                </a:lnTo>
                <a:lnTo>
                  <a:pt x="732" y="366"/>
                </a:lnTo>
                <a:lnTo>
                  <a:pt x="744" y="372"/>
                </a:lnTo>
                <a:lnTo>
                  <a:pt x="750" y="372"/>
                </a:lnTo>
                <a:lnTo>
                  <a:pt x="762" y="372"/>
                </a:lnTo>
                <a:lnTo>
                  <a:pt x="774" y="378"/>
                </a:lnTo>
                <a:lnTo>
                  <a:pt x="780" y="378"/>
                </a:lnTo>
                <a:lnTo>
                  <a:pt x="792" y="384"/>
                </a:lnTo>
                <a:lnTo>
                  <a:pt x="798" y="384"/>
                </a:lnTo>
                <a:lnTo>
                  <a:pt x="810" y="384"/>
                </a:lnTo>
                <a:lnTo>
                  <a:pt x="816" y="390"/>
                </a:lnTo>
                <a:lnTo>
                  <a:pt x="822" y="390"/>
                </a:lnTo>
                <a:lnTo>
                  <a:pt x="834" y="390"/>
                </a:lnTo>
                <a:lnTo>
                  <a:pt x="840" y="390"/>
                </a:lnTo>
                <a:lnTo>
                  <a:pt x="846" y="396"/>
                </a:lnTo>
                <a:lnTo>
                  <a:pt x="852" y="396"/>
                </a:lnTo>
                <a:lnTo>
                  <a:pt x="858" y="396"/>
                </a:lnTo>
                <a:lnTo>
                  <a:pt x="870" y="402"/>
                </a:lnTo>
                <a:lnTo>
                  <a:pt x="876" y="402"/>
                </a:lnTo>
                <a:lnTo>
                  <a:pt x="882" y="402"/>
                </a:lnTo>
                <a:lnTo>
                  <a:pt x="888" y="402"/>
                </a:lnTo>
                <a:lnTo>
                  <a:pt x="894" y="408"/>
                </a:lnTo>
                <a:lnTo>
                  <a:pt x="900" y="408"/>
                </a:lnTo>
                <a:lnTo>
                  <a:pt x="906" y="408"/>
                </a:lnTo>
                <a:lnTo>
                  <a:pt x="912" y="408"/>
                </a:lnTo>
                <a:lnTo>
                  <a:pt x="918" y="408"/>
                </a:lnTo>
                <a:lnTo>
                  <a:pt x="924" y="414"/>
                </a:lnTo>
                <a:lnTo>
                  <a:pt x="930" y="414"/>
                </a:lnTo>
                <a:lnTo>
                  <a:pt x="936" y="414"/>
                </a:lnTo>
                <a:lnTo>
                  <a:pt x="942" y="414"/>
                </a:lnTo>
                <a:lnTo>
                  <a:pt x="948" y="420"/>
                </a:lnTo>
                <a:lnTo>
                  <a:pt x="954" y="420"/>
                </a:lnTo>
                <a:lnTo>
                  <a:pt x="960" y="420"/>
                </a:lnTo>
                <a:lnTo>
                  <a:pt x="966" y="420"/>
                </a:lnTo>
                <a:lnTo>
                  <a:pt x="972" y="420"/>
                </a:lnTo>
                <a:lnTo>
                  <a:pt x="978" y="426"/>
                </a:lnTo>
                <a:lnTo>
                  <a:pt x="984" y="426"/>
                </a:lnTo>
                <a:lnTo>
                  <a:pt x="990" y="426"/>
                </a:lnTo>
                <a:lnTo>
                  <a:pt x="996" y="426"/>
                </a:lnTo>
                <a:lnTo>
                  <a:pt x="1002" y="426"/>
                </a:lnTo>
                <a:lnTo>
                  <a:pt x="1008" y="432"/>
                </a:lnTo>
                <a:lnTo>
                  <a:pt x="1014" y="432"/>
                </a:lnTo>
                <a:lnTo>
                  <a:pt x="1020" y="432"/>
                </a:lnTo>
                <a:lnTo>
                  <a:pt x="1026" y="432"/>
                </a:lnTo>
                <a:lnTo>
                  <a:pt x="1032" y="432"/>
                </a:lnTo>
                <a:lnTo>
                  <a:pt x="1038" y="432"/>
                </a:lnTo>
                <a:lnTo>
                  <a:pt x="1044" y="438"/>
                </a:lnTo>
                <a:lnTo>
                  <a:pt x="1050" y="438"/>
                </a:lnTo>
                <a:lnTo>
                  <a:pt x="1056" y="438"/>
                </a:lnTo>
                <a:lnTo>
                  <a:pt x="1062" y="438"/>
                </a:lnTo>
                <a:lnTo>
                  <a:pt x="1068" y="438"/>
                </a:lnTo>
                <a:lnTo>
                  <a:pt x="1074" y="438"/>
                </a:lnTo>
                <a:lnTo>
                  <a:pt x="1080" y="438"/>
                </a:lnTo>
                <a:lnTo>
                  <a:pt x="1086" y="438"/>
                </a:lnTo>
                <a:lnTo>
                  <a:pt x="1092" y="438"/>
                </a:lnTo>
                <a:lnTo>
                  <a:pt x="1098" y="438"/>
                </a:lnTo>
                <a:lnTo>
                  <a:pt x="1104" y="438"/>
                </a:lnTo>
                <a:lnTo>
                  <a:pt x="1110" y="438"/>
                </a:lnTo>
                <a:lnTo>
                  <a:pt x="1116" y="438"/>
                </a:lnTo>
                <a:lnTo>
                  <a:pt x="1122" y="438"/>
                </a:lnTo>
                <a:lnTo>
                  <a:pt x="1128" y="432"/>
                </a:lnTo>
                <a:lnTo>
                  <a:pt x="1134" y="432"/>
                </a:lnTo>
                <a:lnTo>
                  <a:pt x="1140" y="432"/>
                </a:lnTo>
                <a:lnTo>
                  <a:pt x="1146" y="426"/>
                </a:lnTo>
                <a:lnTo>
                  <a:pt x="1152" y="420"/>
                </a:lnTo>
                <a:lnTo>
                  <a:pt x="1158" y="414"/>
                </a:lnTo>
                <a:lnTo>
                  <a:pt x="1170" y="402"/>
                </a:lnTo>
                <a:lnTo>
                  <a:pt x="1170" y="390"/>
                </a:lnTo>
                <a:lnTo>
                  <a:pt x="1176" y="384"/>
                </a:lnTo>
                <a:lnTo>
                  <a:pt x="1176" y="378"/>
                </a:lnTo>
                <a:lnTo>
                  <a:pt x="1182" y="372"/>
                </a:lnTo>
                <a:lnTo>
                  <a:pt x="1182" y="360"/>
                </a:lnTo>
                <a:lnTo>
                  <a:pt x="1188" y="354"/>
                </a:lnTo>
                <a:lnTo>
                  <a:pt x="1188" y="342"/>
                </a:lnTo>
                <a:lnTo>
                  <a:pt x="1194" y="336"/>
                </a:lnTo>
                <a:lnTo>
                  <a:pt x="1194" y="330"/>
                </a:lnTo>
                <a:lnTo>
                  <a:pt x="1200" y="324"/>
                </a:lnTo>
                <a:lnTo>
                  <a:pt x="1200" y="312"/>
                </a:lnTo>
                <a:lnTo>
                  <a:pt x="1206" y="306"/>
                </a:lnTo>
                <a:lnTo>
                  <a:pt x="1206" y="294"/>
                </a:lnTo>
                <a:lnTo>
                  <a:pt x="1212" y="288"/>
                </a:lnTo>
                <a:lnTo>
                  <a:pt x="1212" y="276"/>
                </a:lnTo>
                <a:lnTo>
                  <a:pt x="1218" y="270"/>
                </a:lnTo>
                <a:lnTo>
                  <a:pt x="1218" y="258"/>
                </a:lnTo>
                <a:lnTo>
                  <a:pt x="1224" y="252"/>
                </a:lnTo>
                <a:lnTo>
                  <a:pt x="1224" y="246"/>
                </a:lnTo>
                <a:lnTo>
                  <a:pt x="1230" y="240"/>
                </a:lnTo>
                <a:lnTo>
                  <a:pt x="1230" y="228"/>
                </a:lnTo>
                <a:lnTo>
                  <a:pt x="1242" y="216"/>
                </a:lnTo>
                <a:lnTo>
                  <a:pt x="1242" y="204"/>
                </a:lnTo>
                <a:lnTo>
                  <a:pt x="1248" y="198"/>
                </a:lnTo>
                <a:lnTo>
                  <a:pt x="1254" y="192"/>
                </a:lnTo>
                <a:lnTo>
                  <a:pt x="1254" y="180"/>
                </a:lnTo>
                <a:lnTo>
                  <a:pt x="1260" y="174"/>
                </a:lnTo>
                <a:lnTo>
                  <a:pt x="1272" y="162"/>
                </a:lnTo>
                <a:lnTo>
                  <a:pt x="1272" y="150"/>
                </a:lnTo>
                <a:lnTo>
                  <a:pt x="1278" y="144"/>
                </a:lnTo>
                <a:lnTo>
                  <a:pt x="1290" y="132"/>
                </a:lnTo>
                <a:lnTo>
                  <a:pt x="1290" y="120"/>
                </a:lnTo>
                <a:lnTo>
                  <a:pt x="1296" y="114"/>
                </a:lnTo>
                <a:lnTo>
                  <a:pt x="1308" y="102"/>
                </a:lnTo>
                <a:lnTo>
                  <a:pt x="1308" y="96"/>
                </a:lnTo>
                <a:lnTo>
                  <a:pt x="1314" y="9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 rot="16200000">
            <a:off x="3930840" y="1947960"/>
            <a:ext cx="177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 flipV="1">
            <a:off x="5448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5448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 flipV="1">
            <a:off x="5400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5400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 flipV="1">
            <a:off x="5353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5353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 flipV="1">
            <a:off x="5286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5286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 flipV="1">
            <a:off x="5219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5219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 flipV="1">
            <a:off x="5448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5448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534312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54774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 flipV="1">
            <a:off x="5762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5762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 flipV="1">
            <a:off x="5943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5943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 flipV="1">
            <a:off x="6076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6076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 flipV="1">
            <a:off x="6181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6181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 flipV="1">
            <a:off x="6257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257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 flipV="1">
            <a:off x="639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639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V="1">
            <a:off x="6438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6438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 flipV="1">
            <a:off x="6486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6486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 flipV="1">
            <a:off x="6486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6486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6381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6515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 flipV="1">
            <a:off x="6800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6800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 flipV="1">
            <a:off x="698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698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 flipV="1">
            <a:off x="7115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7115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 flipV="1">
            <a:off x="7219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7219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 flipV="1">
            <a:off x="7296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7296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 flipV="1">
            <a:off x="7372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7372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V="1">
            <a:off x="7429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7429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 flipV="1">
            <a:off x="7486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7486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495216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495216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495216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495216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495216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495216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5448240" y="3809880"/>
            <a:ext cx="2086200" cy="1552680"/>
          </a:xfrm>
          <a:custGeom>
            <a:avLst/>
            <a:gdLst/>
            <a:ahLst/>
            <a:rect l="l" t="t" r="r" b="b"/>
            <a:pathLst>
              <a:path w="1314" h="978">
                <a:moveTo>
                  <a:pt x="0" y="978"/>
                </a:moveTo>
                <a:lnTo>
                  <a:pt x="120" y="804"/>
                </a:lnTo>
                <a:lnTo>
                  <a:pt x="198" y="666"/>
                </a:lnTo>
                <a:lnTo>
                  <a:pt x="264" y="558"/>
                </a:lnTo>
                <a:lnTo>
                  <a:pt x="312" y="480"/>
                </a:lnTo>
                <a:lnTo>
                  <a:pt x="360" y="414"/>
                </a:lnTo>
                <a:lnTo>
                  <a:pt x="396" y="360"/>
                </a:lnTo>
                <a:lnTo>
                  <a:pt x="432" y="318"/>
                </a:lnTo>
                <a:lnTo>
                  <a:pt x="462" y="282"/>
                </a:lnTo>
                <a:lnTo>
                  <a:pt x="486" y="252"/>
                </a:lnTo>
                <a:lnTo>
                  <a:pt x="510" y="228"/>
                </a:lnTo>
                <a:lnTo>
                  <a:pt x="534" y="204"/>
                </a:lnTo>
                <a:lnTo>
                  <a:pt x="558" y="186"/>
                </a:lnTo>
                <a:lnTo>
                  <a:pt x="576" y="174"/>
                </a:lnTo>
                <a:lnTo>
                  <a:pt x="594" y="156"/>
                </a:lnTo>
                <a:lnTo>
                  <a:pt x="612" y="144"/>
                </a:lnTo>
                <a:lnTo>
                  <a:pt x="624" y="132"/>
                </a:lnTo>
                <a:lnTo>
                  <a:pt x="642" y="120"/>
                </a:lnTo>
                <a:lnTo>
                  <a:pt x="654" y="114"/>
                </a:lnTo>
                <a:lnTo>
                  <a:pt x="672" y="108"/>
                </a:lnTo>
                <a:lnTo>
                  <a:pt x="684" y="96"/>
                </a:lnTo>
                <a:lnTo>
                  <a:pt x="696" y="90"/>
                </a:lnTo>
                <a:lnTo>
                  <a:pt x="708" y="84"/>
                </a:lnTo>
                <a:lnTo>
                  <a:pt x="720" y="78"/>
                </a:lnTo>
                <a:lnTo>
                  <a:pt x="732" y="72"/>
                </a:lnTo>
                <a:lnTo>
                  <a:pt x="744" y="66"/>
                </a:lnTo>
                <a:lnTo>
                  <a:pt x="750" y="66"/>
                </a:lnTo>
                <a:lnTo>
                  <a:pt x="762" y="60"/>
                </a:lnTo>
                <a:lnTo>
                  <a:pt x="774" y="54"/>
                </a:lnTo>
                <a:lnTo>
                  <a:pt x="780" y="54"/>
                </a:lnTo>
                <a:lnTo>
                  <a:pt x="792" y="48"/>
                </a:lnTo>
                <a:lnTo>
                  <a:pt x="798" y="48"/>
                </a:lnTo>
                <a:lnTo>
                  <a:pt x="810" y="42"/>
                </a:lnTo>
                <a:lnTo>
                  <a:pt x="816" y="42"/>
                </a:lnTo>
                <a:lnTo>
                  <a:pt x="822" y="36"/>
                </a:lnTo>
                <a:lnTo>
                  <a:pt x="834" y="36"/>
                </a:lnTo>
                <a:lnTo>
                  <a:pt x="840" y="36"/>
                </a:lnTo>
                <a:lnTo>
                  <a:pt x="846" y="30"/>
                </a:lnTo>
                <a:lnTo>
                  <a:pt x="852" y="30"/>
                </a:lnTo>
                <a:lnTo>
                  <a:pt x="858" y="24"/>
                </a:lnTo>
                <a:lnTo>
                  <a:pt x="870" y="24"/>
                </a:lnTo>
                <a:lnTo>
                  <a:pt x="876" y="24"/>
                </a:lnTo>
                <a:lnTo>
                  <a:pt x="882" y="24"/>
                </a:lnTo>
                <a:lnTo>
                  <a:pt x="888" y="18"/>
                </a:lnTo>
                <a:lnTo>
                  <a:pt x="894" y="18"/>
                </a:lnTo>
                <a:lnTo>
                  <a:pt x="900" y="18"/>
                </a:lnTo>
                <a:lnTo>
                  <a:pt x="906" y="18"/>
                </a:lnTo>
                <a:lnTo>
                  <a:pt x="912" y="18"/>
                </a:lnTo>
                <a:lnTo>
                  <a:pt x="918" y="12"/>
                </a:lnTo>
                <a:lnTo>
                  <a:pt x="924" y="12"/>
                </a:lnTo>
                <a:lnTo>
                  <a:pt x="930" y="12"/>
                </a:lnTo>
                <a:lnTo>
                  <a:pt x="936" y="12"/>
                </a:lnTo>
                <a:lnTo>
                  <a:pt x="942" y="12"/>
                </a:lnTo>
                <a:lnTo>
                  <a:pt x="948" y="6"/>
                </a:lnTo>
                <a:lnTo>
                  <a:pt x="954" y="6"/>
                </a:lnTo>
                <a:lnTo>
                  <a:pt x="960" y="6"/>
                </a:lnTo>
                <a:lnTo>
                  <a:pt x="966" y="6"/>
                </a:lnTo>
                <a:lnTo>
                  <a:pt x="972" y="6"/>
                </a:lnTo>
                <a:lnTo>
                  <a:pt x="978" y="6"/>
                </a:lnTo>
                <a:lnTo>
                  <a:pt x="984" y="6"/>
                </a:lnTo>
                <a:lnTo>
                  <a:pt x="990" y="0"/>
                </a:lnTo>
                <a:lnTo>
                  <a:pt x="996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0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56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6"/>
                </a:lnTo>
                <a:lnTo>
                  <a:pt x="1158" y="6"/>
                </a:lnTo>
                <a:lnTo>
                  <a:pt x="1164" y="6"/>
                </a:lnTo>
                <a:lnTo>
                  <a:pt x="1170" y="6"/>
                </a:lnTo>
                <a:lnTo>
                  <a:pt x="1176" y="6"/>
                </a:lnTo>
                <a:lnTo>
                  <a:pt x="1182" y="6"/>
                </a:lnTo>
                <a:lnTo>
                  <a:pt x="1188" y="6"/>
                </a:lnTo>
                <a:lnTo>
                  <a:pt x="1194" y="6"/>
                </a:lnTo>
                <a:lnTo>
                  <a:pt x="1200" y="12"/>
                </a:lnTo>
                <a:lnTo>
                  <a:pt x="1206" y="12"/>
                </a:lnTo>
                <a:lnTo>
                  <a:pt x="1212" y="12"/>
                </a:lnTo>
                <a:lnTo>
                  <a:pt x="1218" y="12"/>
                </a:lnTo>
                <a:lnTo>
                  <a:pt x="1224" y="12"/>
                </a:lnTo>
                <a:lnTo>
                  <a:pt x="1230" y="12"/>
                </a:lnTo>
                <a:lnTo>
                  <a:pt x="1236" y="18"/>
                </a:lnTo>
                <a:lnTo>
                  <a:pt x="1242" y="18"/>
                </a:lnTo>
                <a:lnTo>
                  <a:pt x="1248" y="18"/>
                </a:lnTo>
                <a:lnTo>
                  <a:pt x="1254" y="18"/>
                </a:lnTo>
                <a:lnTo>
                  <a:pt x="1260" y="18"/>
                </a:lnTo>
                <a:lnTo>
                  <a:pt x="1266" y="18"/>
                </a:lnTo>
                <a:lnTo>
                  <a:pt x="1272" y="24"/>
                </a:lnTo>
                <a:lnTo>
                  <a:pt x="1278" y="24"/>
                </a:lnTo>
                <a:lnTo>
                  <a:pt x="1284" y="24"/>
                </a:lnTo>
                <a:lnTo>
                  <a:pt x="1290" y="24"/>
                </a:lnTo>
                <a:lnTo>
                  <a:pt x="1296" y="24"/>
                </a:lnTo>
                <a:lnTo>
                  <a:pt x="1302" y="24"/>
                </a:lnTo>
                <a:lnTo>
                  <a:pt x="1308" y="30"/>
                </a:lnTo>
                <a:lnTo>
                  <a:pt x="1314" y="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5448240" y="3876840"/>
            <a:ext cx="2086200" cy="695160"/>
          </a:xfrm>
          <a:custGeom>
            <a:avLst/>
            <a:gdLst/>
            <a:ahLst/>
            <a:rect l="l" t="t" r="r" b="b"/>
            <a:pathLst>
              <a:path w="1314" h="438">
                <a:moveTo>
                  <a:pt x="0" y="438"/>
                </a:moveTo>
                <a:lnTo>
                  <a:pt x="120" y="336"/>
                </a:lnTo>
                <a:lnTo>
                  <a:pt x="198" y="282"/>
                </a:lnTo>
                <a:lnTo>
                  <a:pt x="264" y="246"/>
                </a:lnTo>
                <a:lnTo>
                  <a:pt x="312" y="222"/>
                </a:lnTo>
                <a:lnTo>
                  <a:pt x="360" y="204"/>
                </a:lnTo>
                <a:lnTo>
                  <a:pt x="396" y="186"/>
                </a:lnTo>
                <a:lnTo>
                  <a:pt x="432" y="174"/>
                </a:lnTo>
                <a:lnTo>
                  <a:pt x="462" y="162"/>
                </a:lnTo>
                <a:lnTo>
                  <a:pt x="486" y="150"/>
                </a:lnTo>
                <a:lnTo>
                  <a:pt x="510" y="144"/>
                </a:lnTo>
                <a:lnTo>
                  <a:pt x="534" y="132"/>
                </a:lnTo>
                <a:lnTo>
                  <a:pt x="558" y="126"/>
                </a:lnTo>
                <a:lnTo>
                  <a:pt x="576" y="120"/>
                </a:lnTo>
                <a:lnTo>
                  <a:pt x="594" y="114"/>
                </a:lnTo>
                <a:lnTo>
                  <a:pt x="612" y="108"/>
                </a:lnTo>
                <a:lnTo>
                  <a:pt x="624" y="102"/>
                </a:lnTo>
                <a:lnTo>
                  <a:pt x="642" y="96"/>
                </a:lnTo>
                <a:lnTo>
                  <a:pt x="654" y="90"/>
                </a:lnTo>
                <a:lnTo>
                  <a:pt x="672" y="90"/>
                </a:lnTo>
                <a:lnTo>
                  <a:pt x="684" y="84"/>
                </a:lnTo>
                <a:lnTo>
                  <a:pt x="696" y="84"/>
                </a:lnTo>
                <a:lnTo>
                  <a:pt x="708" y="78"/>
                </a:lnTo>
                <a:lnTo>
                  <a:pt x="720" y="72"/>
                </a:lnTo>
                <a:lnTo>
                  <a:pt x="732" y="72"/>
                </a:lnTo>
                <a:lnTo>
                  <a:pt x="744" y="66"/>
                </a:lnTo>
                <a:lnTo>
                  <a:pt x="750" y="66"/>
                </a:lnTo>
                <a:lnTo>
                  <a:pt x="762" y="66"/>
                </a:lnTo>
                <a:lnTo>
                  <a:pt x="774" y="60"/>
                </a:lnTo>
                <a:lnTo>
                  <a:pt x="780" y="60"/>
                </a:lnTo>
                <a:lnTo>
                  <a:pt x="792" y="54"/>
                </a:lnTo>
                <a:lnTo>
                  <a:pt x="798" y="54"/>
                </a:lnTo>
                <a:lnTo>
                  <a:pt x="810" y="54"/>
                </a:lnTo>
                <a:lnTo>
                  <a:pt x="816" y="48"/>
                </a:lnTo>
                <a:lnTo>
                  <a:pt x="822" y="48"/>
                </a:lnTo>
                <a:lnTo>
                  <a:pt x="834" y="48"/>
                </a:lnTo>
                <a:lnTo>
                  <a:pt x="840" y="48"/>
                </a:lnTo>
                <a:lnTo>
                  <a:pt x="846" y="42"/>
                </a:lnTo>
                <a:lnTo>
                  <a:pt x="852" y="42"/>
                </a:lnTo>
                <a:lnTo>
                  <a:pt x="858" y="42"/>
                </a:lnTo>
                <a:lnTo>
                  <a:pt x="870" y="36"/>
                </a:lnTo>
                <a:lnTo>
                  <a:pt x="876" y="36"/>
                </a:lnTo>
                <a:lnTo>
                  <a:pt x="882" y="36"/>
                </a:lnTo>
                <a:lnTo>
                  <a:pt x="888" y="36"/>
                </a:lnTo>
                <a:lnTo>
                  <a:pt x="894" y="30"/>
                </a:lnTo>
                <a:lnTo>
                  <a:pt x="900" y="30"/>
                </a:lnTo>
                <a:lnTo>
                  <a:pt x="906" y="30"/>
                </a:lnTo>
                <a:lnTo>
                  <a:pt x="912" y="30"/>
                </a:lnTo>
                <a:lnTo>
                  <a:pt x="918" y="30"/>
                </a:lnTo>
                <a:lnTo>
                  <a:pt x="924" y="24"/>
                </a:lnTo>
                <a:lnTo>
                  <a:pt x="930" y="24"/>
                </a:lnTo>
                <a:lnTo>
                  <a:pt x="936" y="24"/>
                </a:lnTo>
                <a:lnTo>
                  <a:pt x="942" y="24"/>
                </a:lnTo>
                <a:lnTo>
                  <a:pt x="948" y="18"/>
                </a:lnTo>
                <a:lnTo>
                  <a:pt x="954" y="18"/>
                </a:lnTo>
                <a:lnTo>
                  <a:pt x="960" y="18"/>
                </a:lnTo>
                <a:lnTo>
                  <a:pt x="966" y="18"/>
                </a:lnTo>
                <a:lnTo>
                  <a:pt x="972" y="18"/>
                </a:lnTo>
                <a:lnTo>
                  <a:pt x="978" y="12"/>
                </a:lnTo>
                <a:lnTo>
                  <a:pt x="984" y="12"/>
                </a:lnTo>
                <a:lnTo>
                  <a:pt x="990" y="12"/>
                </a:lnTo>
                <a:lnTo>
                  <a:pt x="996" y="12"/>
                </a:lnTo>
                <a:lnTo>
                  <a:pt x="1002" y="12"/>
                </a:lnTo>
                <a:lnTo>
                  <a:pt x="1008" y="6"/>
                </a:lnTo>
                <a:lnTo>
                  <a:pt x="1014" y="6"/>
                </a:lnTo>
                <a:lnTo>
                  <a:pt x="1020" y="6"/>
                </a:lnTo>
                <a:lnTo>
                  <a:pt x="1026" y="6"/>
                </a:lnTo>
                <a:lnTo>
                  <a:pt x="1032" y="6"/>
                </a:lnTo>
                <a:lnTo>
                  <a:pt x="1038" y="6"/>
                </a:lnTo>
                <a:lnTo>
                  <a:pt x="1044" y="0"/>
                </a:lnTo>
                <a:lnTo>
                  <a:pt x="1050" y="0"/>
                </a:lnTo>
                <a:lnTo>
                  <a:pt x="1056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12"/>
                </a:lnTo>
                <a:lnTo>
                  <a:pt x="1152" y="18"/>
                </a:lnTo>
                <a:lnTo>
                  <a:pt x="1158" y="24"/>
                </a:lnTo>
                <a:lnTo>
                  <a:pt x="1170" y="36"/>
                </a:lnTo>
                <a:lnTo>
                  <a:pt x="1170" y="48"/>
                </a:lnTo>
                <a:lnTo>
                  <a:pt x="1176" y="54"/>
                </a:lnTo>
                <a:lnTo>
                  <a:pt x="1176" y="60"/>
                </a:lnTo>
                <a:lnTo>
                  <a:pt x="1182" y="66"/>
                </a:lnTo>
                <a:lnTo>
                  <a:pt x="1182" y="78"/>
                </a:lnTo>
                <a:lnTo>
                  <a:pt x="1188" y="84"/>
                </a:lnTo>
                <a:lnTo>
                  <a:pt x="1188" y="96"/>
                </a:lnTo>
                <a:lnTo>
                  <a:pt x="1194" y="102"/>
                </a:lnTo>
                <a:lnTo>
                  <a:pt x="1194" y="108"/>
                </a:lnTo>
                <a:lnTo>
                  <a:pt x="1200" y="114"/>
                </a:lnTo>
                <a:lnTo>
                  <a:pt x="1200" y="126"/>
                </a:lnTo>
                <a:lnTo>
                  <a:pt x="1206" y="132"/>
                </a:lnTo>
                <a:lnTo>
                  <a:pt x="1206" y="144"/>
                </a:lnTo>
                <a:lnTo>
                  <a:pt x="1212" y="150"/>
                </a:lnTo>
                <a:lnTo>
                  <a:pt x="1212" y="162"/>
                </a:lnTo>
                <a:lnTo>
                  <a:pt x="1218" y="168"/>
                </a:lnTo>
                <a:lnTo>
                  <a:pt x="1218" y="180"/>
                </a:lnTo>
                <a:lnTo>
                  <a:pt x="1224" y="186"/>
                </a:lnTo>
                <a:lnTo>
                  <a:pt x="1224" y="192"/>
                </a:lnTo>
                <a:lnTo>
                  <a:pt x="1230" y="198"/>
                </a:lnTo>
                <a:lnTo>
                  <a:pt x="1230" y="210"/>
                </a:lnTo>
                <a:lnTo>
                  <a:pt x="1242" y="222"/>
                </a:lnTo>
                <a:lnTo>
                  <a:pt x="1242" y="234"/>
                </a:lnTo>
                <a:lnTo>
                  <a:pt x="1248" y="240"/>
                </a:lnTo>
                <a:lnTo>
                  <a:pt x="1254" y="246"/>
                </a:lnTo>
                <a:lnTo>
                  <a:pt x="1254" y="258"/>
                </a:lnTo>
                <a:lnTo>
                  <a:pt x="1260" y="264"/>
                </a:lnTo>
                <a:lnTo>
                  <a:pt x="1272" y="276"/>
                </a:lnTo>
                <a:lnTo>
                  <a:pt x="1272" y="288"/>
                </a:lnTo>
                <a:lnTo>
                  <a:pt x="1278" y="294"/>
                </a:lnTo>
                <a:lnTo>
                  <a:pt x="1290" y="306"/>
                </a:lnTo>
                <a:lnTo>
                  <a:pt x="1290" y="318"/>
                </a:lnTo>
                <a:lnTo>
                  <a:pt x="1296" y="324"/>
                </a:lnTo>
                <a:lnTo>
                  <a:pt x="1308" y="336"/>
                </a:lnTo>
                <a:lnTo>
                  <a:pt x="1308" y="342"/>
                </a:lnTo>
                <a:lnTo>
                  <a:pt x="1314" y="34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 rot="16200000">
            <a:off x="3749400" y="4537080"/>
            <a:ext cx="214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3269880" y="22860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 flipV="1">
            <a:off x="2171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2171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 flipV="1">
            <a:off x="2124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2124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 flipV="1">
            <a:off x="20764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20764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 flipV="1">
            <a:off x="2009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2009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 flipV="1">
            <a:off x="1943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1943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 flipV="1">
            <a:off x="21718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21718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20664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22006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 flipV="1">
            <a:off x="2486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2486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 flipV="1">
            <a:off x="2666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2666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 flipV="1">
            <a:off x="2800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2800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 flipV="1">
            <a:off x="2905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2905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 flipV="1">
            <a:off x="29811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29811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 flipV="1">
            <a:off x="3114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3114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 flipV="1">
            <a:off x="3162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3162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 flipV="1">
            <a:off x="3209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3209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 flipV="1">
            <a:off x="32097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32097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31046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3238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 flipV="1">
            <a:off x="3524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3524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 flipV="1">
            <a:off x="37051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37051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 flipV="1">
            <a:off x="3838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3838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V="1">
            <a:off x="3943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3943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 flipV="1">
            <a:off x="4019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4019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 flipV="1">
            <a:off x="4095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4095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 flipV="1">
            <a:off x="4152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4152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V="1">
            <a:off x="4210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4210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176184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1627920" y="148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>
            <a:off x="2171880" y="1190520"/>
            <a:ext cx="1952280" cy="1333440"/>
          </a:xfrm>
          <a:custGeom>
            <a:avLst/>
            <a:gdLst/>
            <a:ahLst/>
            <a:rect l="l" t="t" r="r" b="b"/>
            <a:pathLst>
              <a:path w="1230" h="840">
                <a:moveTo>
                  <a:pt x="0" y="840"/>
                </a:moveTo>
                <a:lnTo>
                  <a:pt x="120" y="840"/>
                </a:lnTo>
                <a:lnTo>
                  <a:pt x="198" y="840"/>
                </a:lnTo>
                <a:lnTo>
                  <a:pt x="264" y="840"/>
                </a:lnTo>
                <a:lnTo>
                  <a:pt x="312" y="834"/>
                </a:lnTo>
                <a:lnTo>
                  <a:pt x="360" y="834"/>
                </a:lnTo>
                <a:lnTo>
                  <a:pt x="396" y="834"/>
                </a:lnTo>
                <a:lnTo>
                  <a:pt x="432" y="834"/>
                </a:lnTo>
                <a:lnTo>
                  <a:pt x="462" y="834"/>
                </a:lnTo>
                <a:lnTo>
                  <a:pt x="486" y="834"/>
                </a:lnTo>
                <a:lnTo>
                  <a:pt x="510" y="834"/>
                </a:lnTo>
                <a:lnTo>
                  <a:pt x="534" y="834"/>
                </a:lnTo>
                <a:lnTo>
                  <a:pt x="558" y="834"/>
                </a:lnTo>
                <a:lnTo>
                  <a:pt x="576" y="834"/>
                </a:lnTo>
                <a:lnTo>
                  <a:pt x="594" y="834"/>
                </a:lnTo>
                <a:lnTo>
                  <a:pt x="612" y="834"/>
                </a:lnTo>
                <a:lnTo>
                  <a:pt x="624" y="834"/>
                </a:lnTo>
                <a:lnTo>
                  <a:pt x="642" y="834"/>
                </a:lnTo>
                <a:lnTo>
                  <a:pt x="654" y="834"/>
                </a:lnTo>
                <a:lnTo>
                  <a:pt x="672" y="834"/>
                </a:lnTo>
                <a:lnTo>
                  <a:pt x="684" y="834"/>
                </a:lnTo>
                <a:lnTo>
                  <a:pt x="696" y="834"/>
                </a:lnTo>
                <a:lnTo>
                  <a:pt x="708" y="834"/>
                </a:lnTo>
                <a:lnTo>
                  <a:pt x="720" y="834"/>
                </a:lnTo>
                <a:lnTo>
                  <a:pt x="732" y="834"/>
                </a:lnTo>
                <a:lnTo>
                  <a:pt x="744" y="834"/>
                </a:lnTo>
                <a:lnTo>
                  <a:pt x="750" y="834"/>
                </a:lnTo>
                <a:lnTo>
                  <a:pt x="762" y="834"/>
                </a:lnTo>
                <a:lnTo>
                  <a:pt x="774" y="834"/>
                </a:lnTo>
                <a:lnTo>
                  <a:pt x="780" y="834"/>
                </a:lnTo>
                <a:lnTo>
                  <a:pt x="792" y="834"/>
                </a:lnTo>
                <a:lnTo>
                  <a:pt x="798" y="834"/>
                </a:lnTo>
                <a:lnTo>
                  <a:pt x="810" y="834"/>
                </a:lnTo>
                <a:lnTo>
                  <a:pt x="816" y="828"/>
                </a:lnTo>
                <a:lnTo>
                  <a:pt x="822" y="828"/>
                </a:lnTo>
                <a:lnTo>
                  <a:pt x="834" y="828"/>
                </a:lnTo>
                <a:lnTo>
                  <a:pt x="840" y="828"/>
                </a:lnTo>
                <a:lnTo>
                  <a:pt x="846" y="828"/>
                </a:lnTo>
                <a:lnTo>
                  <a:pt x="852" y="828"/>
                </a:lnTo>
                <a:lnTo>
                  <a:pt x="858" y="828"/>
                </a:lnTo>
                <a:lnTo>
                  <a:pt x="870" y="828"/>
                </a:lnTo>
                <a:lnTo>
                  <a:pt x="876" y="828"/>
                </a:lnTo>
                <a:lnTo>
                  <a:pt x="882" y="828"/>
                </a:lnTo>
                <a:lnTo>
                  <a:pt x="888" y="828"/>
                </a:lnTo>
                <a:lnTo>
                  <a:pt x="894" y="828"/>
                </a:lnTo>
                <a:lnTo>
                  <a:pt x="900" y="822"/>
                </a:lnTo>
                <a:lnTo>
                  <a:pt x="906" y="822"/>
                </a:lnTo>
                <a:lnTo>
                  <a:pt x="912" y="822"/>
                </a:lnTo>
                <a:lnTo>
                  <a:pt x="918" y="822"/>
                </a:lnTo>
                <a:lnTo>
                  <a:pt x="924" y="822"/>
                </a:lnTo>
                <a:lnTo>
                  <a:pt x="930" y="822"/>
                </a:lnTo>
                <a:lnTo>
                  <a:pt x="936" y="822"/>
                </a:lnTo>
                <a:lnTo>
                  <a:pt x="942" y="816"/>
                </a:lnTo>
                <a:lnTo>
                  <a:pt x="948" y="816"/>
                </a:lnTo>
                <a:lnTo>
                  <a:pt x="954" y="816"/>
                </a:lnTo>
                <a:lnTo>
                  <a:pt x="960" y="816"/>
                </a:lnTo>
                <a:lnTo>
                  <a:pt x="966" y="810"/>
                </a:lnTo>
                <a:lnTo>
                  <a:pt x="972" y="810"/>
                </a:lnTo>
                <a:lnTo>
                  <a:pt x="978" y="810"/>
                </a:lnTo>
                <a:lnTo>
                  <a:pt x="984" y="810"/>
                </a:lnTo>
                <a:lnTo>
                  <a:pt x="990" y="804"/>
                </a:lnTo>
                <a:lnTo>
                  <a:pt x="996" y="804"/>
                </a:lnTo>
                <a:lnTo>
                  <a:pt x="1002" y="798"/>
                </a:lnTo>
                <a:lnTo>
                  <a:pt x="1008" y="798"/>
                </a:lnTo>
                <a:lnTo>
                  <a:pt x="1014" y="792"/>
                </a:lnTo>
                <a:lnTo>
                  <a:pt x="1020" y="792"/>
                </a:lnTo>
                <a:lnTo>
                  <a:pt x="1026" y="786"/>
                </a:lnTo>
                <a:lnTo>
                  <a:pt x="1032" y="786"/>
                </a:lnTo>
                <a:lnTo>
                  <a:pt x="1038" y="774"/>
                </a:lnTo>
                <a:lnTo>
                  <a:pt x="1044" y="768"/>
                </a:lnTo>
                <a:lnTo>
                  <a:pt x="1050" y="762"/>
                </a:lnTo>
                <a:lnTo>
                  <a:pt x="1056" y="756"/>
                </a:lnTo>
                <a:lnTo>
                  <a:pt x="1062" y="750"/>
                </a:lnTo>
                <a:lnTo>
                  <a:pt x="1062" y="744"/>
                </a:lnTo>
                <a:lnTo>
                  <a:pt x="1068" y="738"/>
                </a:lnTo>
                <a:lnTo>
                  <a:pt x="1074" y="732"/>
                </a:lnTo>
                <a:lnTo>
                  <a:pt x="1074" y="726"/>
                </a:lnTo>
                <a:lnTo>
                  <a:pt x="1080" y="720"/>
                </a:lnTo>
                <a:lnTo>
                  <a:pt x="1080" y="708"/>
                </a:lnTo>
                <a:lnTo>
                  <a:pt x="1086" y="702"/>
                </a:lnTo>
                <a:lnTo>
                  <a:pt x="1086" y="696"/>
                </a:lnTo>
                <a:lnTo>
                  <a:pt x="1092" y="684"/>
                </a:lnTo>
                <a:lnTo>
                  <a:pt x="1092" y="672"/>
                </a:lnTo>
                <a:lnTo>
                  <a:pt x="1098" y="660"/>
                </a:lnTo>
                <a:lnTo>
                  <a:pt x="1098" y="648"/>
                </a:lnTo>
                <a:lnTo>
                  <a:pt x="1104" y="636"/>
                </a:lnTo>
                <a:lnTo>
                  <a:pt x="1104" y="624"/>
                </a:lnTo>
                <a:lnTo>
                  <a:pt x="1110" y="606"/>
                </a:lnTo>
                <a:lnTo>
                  <a:pt x="1110" y="594"/>
                </a:lnTo>
                <a:lnTo>
                  <a:pt x="1116" y="576"/>
                </a:lnTo>
                <a:lnTo>
                  <a:pt x="1116" y="558"/>
                </a:lnTo>
                <a:lnTo>
                  <a:pt x="1122" y="534"/>
                </a:lnTo>
                <a:lnTo>
                  <a:pt x="1122" y="516"/>
                </a:lnTo>
                <a:lnTo>
                  <a:pt x="1128" y="492"/>
                </a:lnTo>
                <a:lnTo>
                  <a:pt x="1128" y="444"/>
                </a:lnTo>
                <a:lnTo>
                  <a:pt x="1134" y="420"/>
                </a:lnTo>
                <a:lnTo>
                  <a:pt x="1134" y="390"/>
                </a:lnTo>
                <a:lnTo>
                  <a:pt x="1140" y="360"/>
                </a:lnTo>
                <a:lnTo>
                  <a:pt x="1140" y="330"/>
                </a:lnTo>
                <a:lnTo>
                  <a:pt x="1146" y="300"/>
                </a:lnTo>
                <a:lnTo>
                  <a:pt x="1146" y="228"/>
                </a:lnTo>
                <a:lnTo>
                  <a:pt x="1152" y="198"/>
                </a:lnTo>
                <a:lnTo>
                  <a:pt x="1152" y="162"/>
                </a:lnTo>
                <a:lnTo>
                  <a:pt x="1158" y="126"/>
                </a:lnTo>
                <a:lnTo>
                  <a:pt x="1158" y="96"/>
                </a:lnTo>
                <a:lnTo>
                  <a:pt x="1164" y="66"/>
                </a:lnTo>
                <a:lnTo>
                  <a:pt x="1164" y="18"/>
                </a:lnTo>
                <a:lnTo>
                  <a:pt x="1170" y="6"/>
                </a:lnTo>
                <a:lnTo>
                  <a:pt x="1170" y="0"/>
                </a:lnTo>
                <a:lnTo>
                  <a:pt x="1176" y="6"/>
                </a:lnTo>
                <a:lnTo>
                  <a:pt x="1176" y="24"/>
                </a:lnTo>
                <a:lnTo>
                  <a:pt x="1182" y="48"/>
                </a:lnTo>
                <a:lnTo>
                  <a:pt x="1182" y="114"/>
                </a:lnTo>
                <a:lnTo>
                  <a:pt x="1188" y="150"/>
                </a:lnTo>
                <a:lnTo>
                  <a:pt x="1188" y="234"/>
                </a:lnTo>
                <a:lnTo>
                  <a:pt x="1194" y="276"/>
                </a:lnTo>
                <a:lnTo>
                  <a:pt x="1194" y="312"/>
                </a:lnTo>
                <a:lnTo>
                  <a:pt x="1200" y="354"/>
                </a:lnTo>
                <a:lnTo>
                  <a:pt x="1200" y="426"/>
                </a:lnTo>
                <a:lnTo>
                  <a:pt x="1206" y="456"/>
                </a:lnTo>
                <a:lnTo>
                  <a:pt x="1206" y="516"/>
                </a:lnTo>
                <a:lnTo>
                  <a:pt x="1212" y="540"/>
                </a:lnTo>
                <a:lnTo>
                  <a:pt x="1212" y="588"/>
                </a:lnTo>
                <a:lnTo>
                  <a:pt x="1218" y="612"/>
                </a:lnTo>
                <a:lnTo>
                  <a:pt x="1218" y="654"/>
                </a:lnTo>
                <a:lnTo>
                  <a:pt x="1224" y="672"/>
                </a:lnTo>
                <a:lnTo>
                  <a:pt x="1224" y="702"/>
                </a:lnTo>
                <a:lnTo>
                  <a:pt x="1230" y="7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4124160" y="2333520"/>
            <a:ext cx="133560" cy="381240"/>
          </a:xfrm>
          <a:custGeom>
            <a:avLst/>
            <a:gdLst/>
            <a:ahLst/>
            <a:rect l="l" t="t" r="r" b="b"/>
            <a:pathLst>
              <a:path w="84" h="240">
                <a:moveTo>
                  <a:pt x="0" y="0"/>
                </a:moveTo>
                <a:lnTo>
                  <a:pt x="0" y="42"/>
                </a:lnTo>
                <a:lnTo>
                  <a:pt x="6" y="54"/>
                </a:lnTo>
                <a:lnTo>
                  <a:pt x="6" y="72"/>
                </a:lnTo>
                <a:lnTo>
                  <a:pt x="12" y="84"/>
                </a:lnTo>
                <a:lnTo>
                  <a:pt x="12" y="102"/>
                </a:lnTo>
                <a:lnTo>
                  <a:pt x="18" y="108"/>
                </a:lnTo>
                <a:lnTo>
                  <a:pt x="18" y="126"/>
                </a:lnTo>
                <a:lnTo>
                  <a:pt x="24" y="132"/>
                </a:lnTo>
                <a:lnTo>
                  <a:pt x="24" y="150"/>
                </a:lnTo>
                <a:lnTo>
                  <a:pt x="30" y="156"/>
                </a:lnTo>
                <a:lnTo>
                  <a:pt x="30" y="168"/>
                </a:lnTo>
                <a:lnTo>
                  <a:pt x="36" y="174"/>
                </a:lnTo>
                <a:lnTo>
                  <a:pt x="36" y="186"/>
                </a:lnTo>
                <a:lnTo>
                  <a:pt x="42" y="192"/>
                </a:lnTo>
                <a:lnTo>
                  <a:pt x="42" y="198"/>
                </a:lnTo>
                <a:lnTo>
                  <a:pt x="54" y="210"/>
                </a:lnTo>
                <a:lnTo>
                  <a:pt x="54" y="216"/>
                </a:lnTo>
                <a:lnTo>
                  <a:pt x="66" y="228"/>
                </a:lnTo>
                <a:lnTo>
                  <a:pt x="60" y="228"/>
                </a:lnTo>
                <a:lnTo>
                  <a:pt x="66" y="228"/>
                </a:lnTo>
                <a:lnTo>
                  <a:pt x="72" y="234"/>
                </a:lnTo>
                <a:lnTo>
                  <a:pt x="78" y="240"/>
                </a:lnTo>
                <a:lnTo>
                  <a:pt x="84" y="2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1882800" y="2505240"/>
            <a:ext cx="2374920" cy="80640"/>
          </a:xfrm>
          <a:custGeom>
            <a:avLst/>
            <a:gdLst/>
            <a:ahLst/>
            <a:rect l="l" t="t" r="r" b="b"/>
            <a:pathLst>
              <a:path w="1314" h="0">
                <a:moveTo>
                  <a:pt x="0" y="0"/>
                </a:moveTo>
                <a:lnTo>
                  <a:pt x="120" y="0"/>
                </a:lnTo>
                <a:lnTo>
                  <a:pt x="198" y="0"/>
                </a:lnTo>
                <a:lnTo>
                  <a:pt x="264" y="0"/>
                </a:lnTo>
                <a:lnTo>
                  <a:pt x="312" y="0"/>
                </a:lnTo>
                <a:lnTo>
                  <a:pt x="360" y="0"/>
                </a:lnTo>
                <a:lnTo>
                  <a:pt x="396" y="0"/>
                </a:lnTo>
                <a:lnTo>
                  <a:pt x="432" y="0"/>
                </a:lnTo>
                <a:lnTo>
                  <a:pt x="462" y="0"/>
                </a:lnTo>
                <a:lnTo>
                  <a:pt x="486" y="0"/>
                </a:lnTo>
                <a:lnTo>
                  <a:pt x="510" y="0"/>
                </a:lnTo>
                <a:lnTo>
                  <a:pt x="534" y="0"/>
                </a:lnTo>
                <a:lnTo>
                  <a:pt x="558" y="0"/>
                </a:lnTo>
                <a:lnTo>
                  <a:pt x="576" y="0"/>
                </a:lnTo>
                <a:lnTo>
                  <a:pt x="594" y="0"/>
                </a:lnTo>
                <a:lnTo>
                  <a:pt x="612" y="0"/>
                </a:lnTo>
                <a:lnTo>
                  <a:pt x="624" y="0"/>
                </a:lnTo>
                <a:lnTo>
                  <a:pt x="642" y="0"/>
                </a:lnTo>
                <a:lnTo>
                  <a:pt x="654" y="0"/>
                </a:lnTo>
                <a:lnTo>
                  <a:pt x="672" y="0"/>
                </a:lnTo>
                <a:lnTo>
                  <a:pt x="684" y="0"/>
                </a:lnTo>
                <a:lnTo>
                  <a:pt x="696" y="0"/>
                </a:lnTo>
                <a:lnTo>
                  <a:pt x="708" y="0"/>
                </a:lnTo>
                <a:lnTo>
                  <a:pt x="720" y="0"/>
                </a:lnTo>
                <a:lnTo>
                  <a:pt x="732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10" y="0"/>
                </a:lnTo>
                <a:lnTo>
                  <a:pt x="816" y="0"/>
                </a:lnTo>
                <a:lnTo>
                  <a:pt x="822" y="0"/>
                </a:lnTo>
                <a:lnTo>
                  <a:pt x="834" y="0"/>
                </a:lnTo>
                <a:lnTo>
                  <a:pt x="840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70" y="0"/>
                </a:lnTo>
                <a:lnTo>
                  <a:pt x="876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  <a:lnTo>
                  <a:pt x="960" y="0"/>
                </a:lnTo>
                <a:lnTo>
                  <a:pt x="966" y="0"/>
                </a:lnTo>
                <a:lnTo>
                  <a:pt x="972" y="0"/>
                </a:lnTo>
                <a:lnTo>
                  <a:pt x="978" y="0"/>
                </a:lnTo>
                <a:lnTo>
                  <a:pt x="984" y="0"/>
                </a:lnTo>
                <a:lnTo>
                  <a:pt x="990" y="0"/>
                </a:lnTo>
                <a:lnTo>
                  <a:pt x="996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0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56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 rot="16200000">
            <a:off x="50904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1979280" y="876240"/>
            <a:ext cx="216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plant productio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 flipV="1">
            <a:off x="5448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5448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 flipV="1">
            <a:off x="5400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5400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 flipV="1">
            <a:off x="5353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5353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 flipV="1">
            <a:off x="5286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5286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 flipV="1">
            <a:off x="5219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5219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 flipV="1">
            <a:off x="5448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5448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534312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54774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 flipV="1">
            <a:off x="5762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5762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 flipV="1">
            <a:off x="5943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5943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 flipV="1">
            <a:off x="6076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6076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 flipV="1">
            <a:off x="6181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6181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 flipV="1">
            <a:off x="6257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6257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 flipV="1">
            <a:off x="639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639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 flipV="1">
            <a:off x="6438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6438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 flipV="1">
            <a:off x="6486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>
            <a:off x="6486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 flipV="1">
            <a:off x="6486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6486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6381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6515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 flipV="1">
            <a:off x="6800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6800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 flipV="1">
            <a:off x="698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698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 flipV="1">
            <a:off x="7115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7115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 flipV="1">
            <a:off x="7219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7219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 flipV="1">
            <a:off x="7296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>
            <a:off x="7296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 flipV="1">
            <a:off x="7372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7372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 flipV="1">
            <a:off x="7429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7429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 flipV="1">
            <a:off x="7486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7486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503820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4904640" y="148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>
            <a:off x="5448240" y="1228680"/>
            <a:ext cx="1962360" cy="1295280"/>
          </a:xfrm>
          <a:custGeom>
            <a:avLst/>
            <a:gdLst/>
            <a:ahLst/>
            <a:rect l="l" t="t" r="r" b="b"/>
            <a:pathLst>
              <a:path w="1236" h="816">
                <a:moveTo>
                  <a:pt x="0" y="816"/>
                </a:moveTo>
                <a:lnTo>
                  <a:pt x="120" y="816"/>
                </a:lnTo>
                <a:lnTo>
                  <a:pt x="198" y="810"/>
                </a:lnTo>
                <a:lnTo>
                  <a:pt x="264" y="810"/>
                </a:lnTo>
                <a:lnTo>
                  <a:pt x="312" y="810"/>
                </a:lnTo>
                <a:lnTo>
                  <a:pt x="360" y="810"/>
                </a:lnTo>
                <a:lnTo>
                  <a:pt x="396" y="810"/>
                </a:lnTo>
                <a:lnTo>
                  <a:pt x="432" y="810"/>
                </a:lnTo>
                <a:lnTo>
                  <a:pt x="462" y="810"/>
                </a:lnTo>
                <a:lnTo>
                  <a:pt x="486" y="810"/>
                </a:lnTo>
                <a:lnTo>
                  <a:pt x="510" y="810"/>
                </a:lnTo>
                <a:lnTo>
                  <a:pt x="534" y="810"/>
                </a:lnTo>
                <a:lnTo>
                  <a:pt x="558" y="810"/>
                </a:lnTo>
                <a:lnTo>
                  <a:pt x="576" y="810"/>
                </a:lnTo>
                <a:lnTo>
                  <a:pt x="594" y="810"/>
                </a:lnTo>
                <a:lnTo>
                  <a:pt x="612" y="810"/>
                </a:lnTo>
                <a:lnTo>
                  <a:pt x="624" y="810"/>
                </a:lnTo>
                <a:lnTo>
                  <a:pt x="642" y="810"/>
                </a:lnTo>
                <a:lnTo>
                  <a:pt x="654" y="810"/>
                </a:lnTo>
                <a:lnTo>
                  <a:pt x="672" y="810"/>
                </a:lnTo>
                <a:lnTo>
                  <a:pt x="684" y="804"/>
                </a:lnTo>
                <a:lnTo>
                  <a:pt x="696" y="804"/>
                </a:lnTo>
                <a:lnTo>
                  <a:pt x="708" y="804"/>
                </a:lnTo>
                <a:lnTo>
                  <a:pt x="720" y="804"/>
                </a:lnTo>
                <a:lnTo>
                  <a:pt x="732" y="804"/>
                </a:lnTo>
                <a:lnTo>
                  <a:pt x="744" y="804"/>
                </a:lnTo>
                <a:lnTo>
                  <a:pt x="750" y="804"/>
                </a:lnTo>
                <a:lnTo>
                  <a:pt x="762" y="804"/>
                </a:lnTo>
                <a:lnTo>
                  <a:pt x="774" y="804"/>
                </a:lnTo>
                <a:lnTo>
                  <a:pt x="780" y="804"/>
                </a:lnTo>
                <a:lnTo>
                  <a:pt x="792" y="804"/>
                </a:lnTo>
                <a:lnTo>
                  <a:pt x="798" y="804"/>
                </a:lnTo>
                <a:lnTo>
                  <a:pt x="810" y="804"/>
                </a:lnTo>
                <a:lnTo>
                  <a:pt x="816" y="804"/>
                </a:lnTo>
                <a:lnTo>
                  <a:pt x="822" y="804"/>
                </a:lnTo>
                <a:lnTo>
                  <a:pt x="834" y="798"/>
                </a:lnTo>
                <a:lnTo>
                  <a:pt x="840" y="798"/>
                </a:lnTo>
                <a:lnTo>
                  <a:pt x="846" y="798"/>
                </a:lnTo>
                <a:lnTo>
                  <a:pt x="852" y="798"/>
                </a:lnTo>
                <a:lnTo>
                  <a:pt x="858" y="798"/>
                </a:lnTo>
                <a:lnTo>
                  <a:pt x="870" y="798"/>
                </a:lnTo>
                <a:lnTo>
                  <a:pt x="876" y="798"/>
                </a:lnTo>
                <a:lnTo>
                  <a:pt x="882" y="798"/>
                </a:lnTo>
                <a:lnTo>
                  <a:pt x="888" y="798"/>
                </a:lnTo>
                <a:lnTo>
                  <a:pt x="894" y="792"/>
                </a:lnTo>
                <a:lnTo>
                  <a:pt x="900" y="792"/>
                </a:lnTo>
                <a:lnTo>
                  <a:pt x="906" y="792"/>
                </a:lnTo>
                <a:lnTo>
                  <a:pt x="912" y="792"/>
                </a:lnTo>
                <a:lnTo>
                  <a:pt x="918" y="792"/>
                </a:lnTo>
                <a:lnTo>
                  <a:pt x="924" y="792"/>
                </a:lnTo>
                <a:lnTo>
                  <a:pt x="930" y="792"/>
                </a:lnTo>
                <a:lnTo>
                  <a:pt x="936" y="786"/>
                </a:lnTo>
                <a:lnTo>
                  <a:pt x="942" y="786"/>
                </a:lnTo>
                <a:lnTo>
                  <a:pt x="948" y="786"/>
                </a:lnTo>
                <a:lnTo>
                  <a:pt x="954" y="786"/>
                </a:lnTo>
                <a:lnTo>
                  <a:pt x="960" y="780"/>
                </a:lnTo>
                <a:lnTo>
                  <a:pt x="966" y="780"/>
                </a:lnTo>
                <a:lnTo>
                  <a:pt x="972" y="780"/>
                </a:lnTo>
                <a:lnTo>
                  <a:pt x="978" y="774"/>
                </a:lnTo>
                <a:lnTo>
                  <a:pt x="984" y="774"/>
                </a:lnTo>
                <a:lnTo>
                  <a:pt x="990" y="774"/>
                </a:lnTo>
                <a:lnTo>
                  <a:pt x="996" y="768"/>
                </a:lnTo>
                <a:lnTo>
                  <a:pt x="1002" y="768"/>
                </a:lnTo>
                <a:lnTo>
                  <a:pt x="1008" y="762"/>
                </a:lnTo>
                <a:lnTo>
                  <a:pt x="1014" y="762"/>
                </a:lnTo>
                <a:lnTo>
                  <a:pt x="1020" y="756"/>
                </a:lnTo>
                <a:lnTo>
                  <a:pt x="1026" y="750"/>
                </a:lnTo>
                <a:lnTo>
                  <a:pt x="1032" y="750"/>
                </a:lnTo>
                <a:lnTo>
                  <a:pt x="1038" y="744"/>
                </a:lnTo>
                <a:lnTo>
                  <a:pt x="1044" y="738"/>
                </a:lnTo>
                <a:lnTo>
                  <a:pt x="1050" y="732"/>
                </a:lnTo>
                <a:lnTo>
                  <a:pt x="1056" y="726"/>
                </a:lnTo>
                <a:lnTo>
                  <a:pt x="1062" y="714"/>
                </a:lnTo>
                <a:lnTo>
                  <a:pt x="1068" y="708"/>
                </a:lnTo>
                <a:lnTo>
                  <a:pt x="1074" y="702"/>
                </a:lnTo>
                <a:lnTo>
                  <a:pt x="1074" y="696"/>
                </a:lnTo>
                <a:lnTo>
                  <a:pt x="1080" y="690"/>
                </a:lnTo>
                <a:lnTo>
                  <a:pt x="1080" y="684"/>
                </a:lnTo>
                <a:lnTo>
                  <a:pt x="1086" y="678"/>
                </a:lnTo>
                <a:lnTo>
                  <a:pt x="1086" y="666"/>
                </a:lnTo>
                <a:lnTo>
                  <a:pt x="1092" y="660"/>
                </a:lnTo>
                <a:lnTo>
                  <a:pt x="1092" y="654"/>
                </a:lnTo>
                <a:lnTo>
                  <a:pt x="1098" y="642"/>
                </a:lnTo>
                <a:lnTo>
                  <a:pt x="1098" y="630"/>
                </a:lnTo>
                <a:lnTo>
                  <a:pt x="1104" y="618"/>
                </a:lnTo>
                <a:lnTo>
                  <a:pt x="1104" y="606"/>
                </a:lnTo>
                <a:lnTo>
                  <a:pt x="1110" y="594"/>
                </a:lnTo>
                <a:lnTo>
                  <a:pt x="1110" y="582"/>
                </a:lnTo>
                <a:lnTo>
                  <a:pt x="1116" y="570"/>
                </a:lnTo>
                <a:lnTo>
                  <a:pt x="1116" y="552"/>
                </a:lnTo>
                <a:lnTo>
                  <a:pt x="1122" y="534"/>
                </a:lnTo>
                <a:lnTo>
                  <a:pt x="1122" y="516"/>
                </a:lnTo>
                <a:lnTo>
                  <a:pt x="1128" y="498"/>
                </a:lnTo>
                <a:lnTo>
                  <a:pt x="1128" y="456"/>
                </a:lnTo>
                <a:lnTo>
                  <a:pt x="1134" y="432"/>
                </a:lnTo>
                <a:lnTo>
                  <a:pt x="1134" y="408"/>
                </a:lnTo>
                <a:lnTo>
                  <a:pt x="1140" y="384"/>
                </a:lnTo>
                <a:lnTo>
                  <a:pt x="1140" y="354"/>
                </a:lnTo>
                <a:lnTo>
                  <a:pt x="1146" y="330"/>
                </a:lnTo>
                <a:lnTo>
                  <a:pt x="1146" y="264"/>
                </a:lnTo>
                <a:lnTo>
                  <a:pt x="1152" y="234"/>
                </a:lnTo>
                <a:lnTo>
                  <a:pt x="1152" y="204"/>
                </a:lnTo>
                <a:lnTo>
                  <a:pt x="1158" y="168"/>
                </a:lnTo>
                <a:lnTo>
                  <a:pt x="1158" y="138"/>
                </a:lnTo>
                <a:lnTo>
                  <a:pt x="1164" y="108"/>
                </a:lnTo>
                <a:lnTo>
                  <a:pt x="1164" y="48"/>
                </a:lnTo>
                <a:lnTo>
                  <a:pt x="1170" y="30"/>
                </a:lnTo>
                <a:lnTo>
                  <a:pt x="1170" y="0"/>
                </a:lnTo>
                <a:lnTo>
                  <a:pt x="1176" y="0"/>
                </a:lnTo>
                <a:lnTo>
                  <a:pt x="1182" y="12"/>
                </a:lnTo>
                <a:lnTo>
                  <a:pt x="1182" y="48"/>
                </a:lnTo>
                <a:lnTo>
                  <a:pt x="1188" y="72"/>
                </a:lnTo>
                <a:lnTo>
                  <a:pt x="1188" y="126"/>
                </a:lnTo>
                <a:lnTo>
                  <a:pt x="1194" y="150"/>
                </a:lnTo>
                <a:lnTo>
                  <a:pt x="1194" y="180"/>
                </a:lnTo>
                <a:lnTo>
                  <a:pt x="1200" y="204"/>
                </a:lnTo>
                <a:lnTo>
                  <a:pt x="1200" y="258"/>
                </a:lnTo>
                <a:lnTo>
                  <a:pt x="1206" y="282"/>
                </a:lnTo>
                <a:lnTo>
                  <a:pt x="1206" y="324"/>
                </a:lnTo>
                <a:lnTo>
                  <a:pt x="1212" y="342"/>
                </a:lnTo>
                <a:lnTo>
                  <a:pt x="1212" y="378"/>
                </a:lnTo>
                <a:lnTo>
                  <a:pt x="1218" y="396"/>
                </a:lnTo>
                <a:lnTo>
                  <a:pt x="1218" y="426"/>
                </a:lnTo>
                <a:lnTo>
                  <a:pt x="1224" y="444"/>
                </a:lnTo>
                <a:lnTo>
                  <a:pt x="1224" y="468"/>
                </a:lnTo>
                <a:lnTo>
                  <a:pt x="1230" y="480"/>
                </a:lnTo>
                <a:lnTo>
                  <a:pt x="1230" y="510"/>
                </a:lnTo>
                <a:lnTo>
                  <a:pt x="1236" y="52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7410600" y="2057400"/>
            <a:ext cx="123840" cy="285840"/>
          </a:xfrm>
          <a:custGeom>
            <a:avLst/>
            <a:gdLst/>
            <a:ahLst/>
            <a:rect l="l" t="t" r="r" b="b"/>
            <a:pathLst>
              <a:path w="78" h="180">
                <a:moveTo>
                  <a:pt x="0" y="0"/>
                </a:moveTo>
                <a:lnTo>
                  <a:pt x="0" y="18"/>
                </a:lnTo>
                <a:lnTo>
                  <a:pt x="6" y="24"/>
                </a:lnTo>
                <a:lnTo>
                  <a:pt x="6" y="42"/>
                </a:lnTo>
                <a:lnTo>
                  <a:pt x="12" y="48"/>
                </a:lnTo>
                <a:lnTo>
                  <a:pt x="12" y="60"/>
                </a:lnTo>
                <a:lnTo>
                  <a:pt x="18" y="66"/>
                </a:lnTo>
                <a:lnTo>
                  <a:pt x="18" y="84"/>
                </a:lnTo>
                <a:lnTo>
                  <a:pt x="24" y="90"/>
                </a:lnTo>
                <a:lnTo>
                  <a:pt x="24" y="96"/>
                </a:lnTo>
                <a:lnTo>
                  <a:pt x="30" y="102"/>
                </a:lnTo>
                <a:lnTo>
                  <a:pt x="30" y="114"/>
                </a:lnTo>
                <a:lnTo>
                  <a:pt x="36" y="120"/>
                </a:lnTo>
                <a:lnTo>
                  <a:pt x="36" y="126"/>
                </a:lnTo>
                <a:lnTo>
                  <a:pt x="48" y="138"/>
                </a:lnTo>
                <a:lnTo>
                  <a:pt x="48" y="144"/>
                </a:lnTo>
                <a:lnTo>
                  <a:pt x="60" y="156"/>
                </a:lnTo>
                <a:lnTo>
                  <a:pt x="60" y="162"/>
                </a:lnTo>
                <a:lnTo>
                  <a:pt x="66" y="168"/>
                </a:lnTo>
                <a:lnTo>
                  <a:pt x="72" y="174"/>
                </a:lnTo>
                <a:lnTo>
                  <a:pt x="78" y="1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>
            <a:off x="5153040" y="2505240"/>
            <a:ext cx="2381400" cy="74520"/>
          </a:xfrm>
          <a:custGeom>
            <a:avLst/>
            <a:gdLst/>
            <a:ahLst/>
            <a:rect l="l" t="t" r="r" b="b"/>
            <a:pathLst>
              <a:path w="1314" h="0">
                <a:moveTo>
                  <a:pt x="0" y="0"/>
                </a:moveTo>
                <a:lnTo>
                  <a:pt x="120" y="0"/>
                </a:lnTo>
                <a:lnTo>
                  <a:pt x="198" y="0"/>
                </a:lnTo>
                <a:lnTo>
                  <a:pt x="264" y="0"/>
                </a:lnTo>
                <a:lnTo>
                  <a:pt x="312" y="0"/>
                </a:lnTo>
                <a:lnTo>
                  <a:pt x="360" y="0"/>
                </a:lnTo>
                <a:lnTo>
                  <a:pt x="396" y="0"/>
                </a:lnTo>
                <a:lnTo>
                  <a:pt x="432" y="0"/>
                </a:lnTo>
                <a:lnTo>
                  <a:pt x="462" y="0"/>
                </a:lnTo>
                <a:lnTo>
                  <a:pt x="486" y="0"/>
                </a:lnTo>
                <a:lnTo>
                  <a:pt x="510" y="0"/>
                </a:lnTo>
                <a:lnTo>
                  <a:pt x="534" y="0"/>
                </a:lnTo>
                <a:lnTo>
                  <a:pt x="558" y="0"/>
                </a:lnTo>
                <a:lnTo>
                  <a:pt x="576" y="0"/>
                </a:lnTo>
                <a:lnTo>
                  <a:pt x="594" y="0"/>
                </a:lnTo>
                <a:lnTo>
                  <a:pt x="612" y="0"/>
                </a:lnTo>
                <a:lnTo>
                  <a:pt x="624" y="0"/>
                </a:lnTo>
                <a:lnTo>
                  <a:pt x="642" y="0"/>
                </a:lnTo>
                <a:lnTo>
                  <a:pt x="654" y="0"/>
                </a:lnTo>
                <a:lnTo>
                  <a:pt x="672" y="0"/>
                </a:lnTo>
                <a:lnTo>
                  <a:pt x="684" y="0"/>
                </a:lnTo>
                <a:lnTo>
                  <a:pt x="696" y="0"/>
                </a:lnTo>
                <a:lnTo>
                  <a:pt x="708" y="0"/>
                </a:lnTo>
                <a:lnTo>
                  <a:pt x="720" y="0"/>
                </a:lnTo>
                <a:lnTo>
                  <a:pt x="732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10" y="0"/>
                </a:lnTo>
                <a:lnTo>
                  <a:pt x="816" y="0"/>
                </a:lnTo>
                <a:lnTo>
                  <a:pt x="822" y="0"/>
                </a:lnTo>
                <a:lnTo>
                  <a:pt x="834" y="0"/>
                </a:lnTo>
                <a:lnTo>
                  <a:pt x="840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70" y="0"/>
                </a:lnTo>
                <a:lnTo>
                  <a:pt x="876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  <a:lnTo>
                  <a:pt x="960" y="0"/>
                </a:lnTo>
                <a:lnTo>
                  <a:pt x="966" y="0"/>
                </a:lnTo>
                <a:lnTo>
                  <a:pt x="972" y="0"/>
                </a:lnTo>
                <a:lnTo>
                  <a:pt x="978" y="0"/>
                </a:lnTo>
                <a:lnTo>
                  <a:pt x="984" y="0"/>
                </a:lnTo>
                <a:lnTo>
                  <a:pt x="990" y="0"/>
                </a:lnTo>
                <a:lnTo>
                  <a:pt x="996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0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56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 rot="16200000">
            <a:off x="374760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5226840" y="876240"/>
            <a:ext cx="221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plant uptake of 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 flipV="1">
            <a:off x="2171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2171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 flipV="1">
            <a:off x="2124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2124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V="1">
            <a:off x="20764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>
            <a:off x="20764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 flipV="1">
            <a:off x="2009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2009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 flipV="1">
            <a:off x="1943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1943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 flipV="1">
            <a:off x="21718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21718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>
            <a:off x="20664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22006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 flipV="1">
            <a:off x="2486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2486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 flipV="1">
            <a:off x="2666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2666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 flipV="1">
            <a:off x="2800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>
            <a:off x="2800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 flipV="1">
            <a:off x="2905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2905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 flipV="1">
            <a:off x="29811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29811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V="1">
            <a:off x="3114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3114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 flipV="1">
            <a:off x="3162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3162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 flipV="1">
            <a:off x="3209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3209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 flipV="1">
            <a:off x="32097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2097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1046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3238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 flipV="1">
            <a:off x="3524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3524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 flipV="1">
            <a:off x="37051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37051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 flipV="1">
            <a:off x="3838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3838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 flipV="1">
            <a:off x="3943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3943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 flipV="1">
            <a:off x="4019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4019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 flipV="1">
            <a:off x="4095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4095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 flipV="1">
            <a:off x="4152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4152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 flipV="1">
            <a:off x="4210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4210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159012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176184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69524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162792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2171880" y="4038480"/>
            <a:ext cx="1952280" cy="1152720"/>
          </a:xfrm>
          <a:custGeom>
            <a:avLst/>
            <a:gdLst/>
            <a:ahLst/>
            <a:rect l="l" t="t" r="r" b="b"/>
            <a:pathLst>
              <a:path w="1230" h="726">
                <a:moveTo>
                  <a:pt x="0" y="486"/>
                </a:moveTo>
                <a:lnTo>
                  <a:pt x="120" y="486"/>
                </a:lnTo>
                <a:lnTo>
                  <a:pt x="198" y="486"/>
                </a:lnTo>
                <a:lnTo>
                  <a:pt x="264" y="486"/>
                </a:lnTo>
                <a:lnTo>
                  <a:pt x="312" y="486"/>
                </a:lnTo>
                <a:lnTo>
                  <a:pt x="360" y="486"/>
                </a:lnTo>
                <a:lnTo>
                  <a:pt x="396" y="486"/>
                </a:lnTo>
                <a:lnTo>
                  <a:pt x="432" y="486"/>
                </a:lnTo>
                <a:lnTo>
                  <a:pt x="462" y="486"/>
                </a:lnTo>
                <a:lnTo>
                  <a:pt x="486" y="492"/>
                </a:lnTo>
                <a:lnTo>
                  <a:pt x="510" y="492"/>
                </a:lnTo>
                <a:lnTo>
                  <a:pt x="534" y="492"/>
                </a:lnTo>
                <a:lnTo>
                  <a:pt x="558" y="492"/>
                </a:lnTo>
                <a:lnTo>
                  <a:pt x="576" y="492"/>
                </a:lnTo>
                <a:lnTo>
                  <a:pt x="594" y="492"/>
                </a:lnTo>
                <a:lnTo>
                  <a:pt x="612" y="492"/>
                </a:lnTo>
                <a:lnTo>
                  <a:pt x="624" y="492"/>
                </a:lnTo>
                <a:lnTo>
                  <a:pt x="642" y="492"/>
                </a:lnTo>
                <a:lnTo>
                  <a:pt x="654" y="492"/>
                </a:lnTo>
                <a:lnTo>
                  <a:pt x="672" y="492"/>
                </a:lnTo>
                <a:lnTo>
                  <a:pt x="684" y="492"/>
                </a:lnTo>
                <a:lnTo>
                  <a:pt x="696" y="492"/>
                </a:lnTo>
                <a:lnTo>
                  <a:pt x="708" y="492"/>
                </a:lnTo>
                <a:lnTo>
                  <a:pt x="720" y="492"/>
                </a:lnTo>
                <a:lnTo>
                  <a:pt x="732" y="492"/>
                </a:lnTo>
                <a:lnTo>
                  <a:pt x="744" y="492"/>
                </a:lnTo>
                <a:lnTo>
                  <a:pt x="750" y="492"/>
                </a:lnTo>
                <a:lnTo>
                  <a:pt x="762" y="492"/>
                </a:lnTo>
                <a:lnTo>
                  <a:pt x="774" y="492"/>
                </a:lnTo>
                <a:lnTo>
                  <a:pt x="780" y="492"/>
                </a:lnTo>
                <a:lnTo>
                  <a:pt x="792" y="498"/>
                </a:lnTo>
                <a:lnTo>
                  <a:pt x="798" y="498"/>
                </a:lnTo>
                <a:lnTo>
                  <a:pt x="810" y="498"/>
                </a:lnTo>
                <a:lnTo>
                  <a:pt x="816" y="498"/>
                </a:lnTo>
                <a:lnTo>
                  <a:pt x="822" y="498"/>
                </a:lnTo>
                <a:lnTo>
                  <a:pt x="834" y="498"/>
                </a:lnTo>
                <a:lnTo>
                  <a:pt x="840" y="498"/>
                </a:lnTo>
                <a:lnTo>
                  <a:pt x="846" y="498"/>
                </a:lnTo>
                <a:lnTo>
                  <a:pt x="852" y="498"/>
                </a:lnTo>
                <a:lnTo>
                  <a:pt x="858" y="498"/>
                </a:lnTo>
                <a:lnTo>
                  <a:pt x="870" y="498"/>
                </a:lnTo>
                <a:lnTo>
                  <a:pt x="876" y="498"/>
                </a:lnTo>
                <a:lnTo>
                  <a:pt x="882" y="498"/>
                </a:lnTo>
                <a:lnTo>
                  <a:pt x="888" y="498"/>
                </a:lnTo>
                <a:lnTo>
                  <a:pt x="894" y="498"/>
                </a:lnTo>
                <a:lnTo>
                  <a:pt x="900" y="498"/>
                </a:lnTo>
                <a:lnTo>
                  <a:pt x="906" y="498"/>
                </a:lnTo>
                <a:lnTo>
                  <a:pt x="912" y="498"/>
                </a:lnTo>
                <a:lnTo>
                  <a:pt x="918" y="498"/>
                </a:lnTo>
                <a:lnTo>
                  <a:pt x="924" y="504"/>
                </a:lnTo>
                <a:lnTo>
                  <a:pt x="930" y="504"/>
                </a:lnTo>
                <a:lnTo>
                  <a:pt x="936" y="504"/>
                </a:lnTo>
                <a:lnTo>
                  <a:pt x="942" y="504"/>
                </a:lnTo>
                <a:lnTo>
                  <a:pt x="948" y="504"/>
                </a:lnTo>
                <a:lnTo>
                  <a:pt x="954" y="504"/>
                </a:lnTo>
                <a:lnTo>
                  <a:pt x="960" y="504"/>
                </a:lnTo>
                <a:lnTo>
                  <a:pt x="966" y="504"/>
                </a:lnTo>
                <a:lnTo>
                  <a:pt x="972" y="504"/>
                </a:lnTo>
                <a:lnTo>
                  <a:pt x="978" y="504"/>
                </a:lnTo>
                <a:lnTo>
                  <a:pt x="984" y="498"/>
                </a:lnTo>
                <a:lnTo>
                  <a:pt x="990" y="498"/>
                </a:lnTo>
                <a:lnTo>
                  <a:pt x="996" y="498"/>
                </a:lnTo>
                <a:lnTo>
                  <a:pt x="1002" y="498"/>
                </a:lnTo>
                <a:lnTo>
                  <a:pt x="1008" y="498"/>
                </a:lnTo>
                <a:lnTo>
                  <a:pt x="1014" y="492"/>
                </a:lnTo>
                <a:lnTo>
                  <a:pt x="1020" y="492"/>
                </a:lnTo>
                <a:lnTo>
                  <a:pt x="1026" y="492"/>
                </a:lnTo>
                <a:lnTo>
                  <a:pt x="1032" y="486"/>
                </a:lnTo>
                <a:lnTo>
                  <a:pt x="1038" y="486"/>
                </a:lnTo>
                <a:lnTo>
                  <a:pt x="1044" y="480"/>
                </a:lnTo>
                <a:lnTo>
                  <a:pt x="1050" y="474"/>
                </a:lnTo>
                <a:lnTo>
                  <a:pt x="1056" y="468"/>
                </a:lnTo>
                <a:lnTo>
                  <a:pt x="1062" y="462"/>
                </a:lnTo>
                <a:lnTo>
                  <a:pt x="1068" y="456"/>
                </a:lnTo>
                <a:lnTo>
                  <a:pt x="1074" y="450"/>
                </a:lnTo>
                <a:lnTo>
                  <a:pt x="1074" y="444"/>
                </a:lnTo>
                <a:lnTo>
                  <a:pt x="1080" y="438"/>
                </a:lnTo>
                <a:lnTo>
                  <a:pt x="1080" y="432"/>
                </a:lnTo>
                <a:lnTo>
                  <a:pt x="1086" y="426"/>
                </a:lnTo>
                <a:lnTo>
                  <a:pt x="1086" y="414"/>
                </a:lnTo>
                <a:lnTo>
                  <a:pt x="1092" y="408"/>
                </a:lnTo>
                <a:lnTo>
                  <a:pt x="1092" y="402"/>
                </a:lnTo>
                <a:lnTo>
                  <a:pt x="1098" y="390"/>
                </a:lnTo>
                <a:lnTo>
                  <a:pt x="1098" y="378"/>
                </a:lnTo>
                <a:lnTo>
                  <a:pt x="1104" y="366"/>
                </a:lnTo>
                <a:lnTo>
                  <a:pt x="1104" y="360"/>
                </a:lnTo>
                <a:lnTo>
                  <a:pt x="1110" y="342"/>
                </a:lnTo>
                <a:lnTo>
                  <a:pt x="1110" y="330"/>
                </a:lnTo>
                <a:lnTo>
                  <a:pt x="1116" y="318"/>
                </a:lnTo>
                <a:lnTo>
                  <a:pt x="1116" y="300"/>
                </a:lnTo>
                <a:lnTo>
                  <a:pt x="1122" y="288"/>
                </a:lnTo>
                <a:lnTo>
                  <a:pt x="1122" y="270"/>
                </a:lnTo>
                <a:lnTo>
                  <a:pt x="1128" y="252"/>
                </a:lnTo>
                <a:lnTo>
                  <a:pt x="1128" y="216"/>
                </a:lnTo>
                <a:lnTo>
                  <a:pt x="1134" y="198"/>
                </a:lnTo>
                <a:lnTo>
                  <a:pt x="1134" y="174"/>
                </a:lnTo>
                <a:lnTo>
                  <a:pt x="1140" y="156"/>
                </a:lnTo>
                <a:lnTo>
                  <a:pt x="1140" y="138"/>
                </a:lnTo>
                <a:lnTo>
                  <a:pt x="1146" y="114"/>
                </a:lnTo>
                <a:lnTo>
                  <a:pt x="1146" y="72"/>
                </a:lnTo>
                <a:lnTo>
                  <a:pt x="1152" y="54"/>
                </a:lnTo>
                <a:lnTo>
                  <a:pt x="1152" y="36"/>
                </a:lnTo>
                <a:lnTo>
                  <a:pt x="1158" y="24"/>
                </a:lnTo>
                <a:lnTo>
                  <a:pt x="1158" y="12"/>
                </a:lnTo>
                <a:lnTo>
                  <a:pt x="1164" y="6"/>
                </a:lnTo>
                <a:lnTo>
                  <a:pt x="1164" y="0"/>
                </a:lnTo>
                <a:lnTo>
                  <a:pt x="1164" y="6"/>
                </a:lnTo>
                <a:lnTo>
                  <a:pt x="1170" y="12"/>
                </a:lnTo>
                <a:lnTo>
                  <a:pt x="1170" y="54"/>
                </a:lnTo>
                <a:lnTo>
                  <a:pt x="1176" y="84"/>
                </a:lnTo>
                <a:lnTo>
                  <a:pt x="1176" y="120"/>
                </a:lnTo>
                <a:lnTo>
                  <a:pt x="1182" y="156"/>
                </a:lnTo>
                <a:lnTo>
                  <a:pt x="1182" y="240"/>
                </a:lnTo>
                <a:lnTo>
                  <a:pt x="1188" y="282"/>
                </a:lnTo>
                <a:lnTo>
                  <a:pt x="1188" y="366"/>
                </a:lnTo>
                <a:lnTo>
                  <a:pt x="1194" y="402"/>
                </a:lnTo>
                <a:lnTo>
                  <a:pt x="1194" y="438"/>
                </a:lnTo>
                <a:lnTo>
                  <a:pt x="1200" y="474"/>
                </a:lnTo>
                <a:lnTo>
                  <a:pt x="1200" y="528"/>
                </a:lnTo>
                <a:lnTo>
                  <a:pt x="1206" y="552"/>
                </a:lnTo>
                <a:lnTo>
                  <a:pt x="1206" y="600"/>
                </a:lnTo>
                <a:lnTo>
                  <a:pt x="1212" y="618"/>
                </a:lnTo>
                <a:lnTo>
                  <a:pt x="1212" y="648"/>
                </a:lnTo>
                <a:lnTo>
                  <a:pt x="1218" y="666"/>
                </a:lnTo>
                <a:lnTo>
                  <a:pt x="1218" y="690"/>
                </a:lnTo>
                <a:lnTo>
                  <a:pt x="1224" y="696"/>
                </a:lnTo>
                <a:lnTo>
                  <a:pt x="1224" y="720"/>
                </a:lnTo>
                <a:lnTo>
                  <a:pt x="1230" y="72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>
            <a:off x="4124160" y="5191200"/>
            <a:ext cx="133560" cy="114120"/>
          </a:xfrm>
          <a:custGeom>
            <a:avLst/>
            <a:gdLst/>
            <a:ahLst/>
            <a:rect l="l" t="t" r="r" b="b"/>
            <a:pathLst>
              <a:path w="84" h="72">
                <a:moveTo>
                  <a:pt x="0" y="0"/>
                </a:moveTo>
                <a:lnTo>
                  <a:pt x="0" y="18"/>
                </a:lnTo>
                <a:lnTo>
                  <a:pt x="6" y="24"/>
                </a:lnTo>
                <a:lnTo>
                  <a:pt x="6" y="36"/>
                </a:lnTo>
                <a:lnTo>
                  <a:pt x="12" y="42"/>
                </a:lnTo>
                <a:lnTo>
                  <a:pt x="12" y="48"/>
                </a:lnTo>
                <a:lnTo>
                  <a:pt x="18" y="54"/>
                </a:lnTo>
                <a:lnTo>
                  <a:pt x="30" y="66"/>
                </a:lnTo>
                <a:lnTo>
                  <a:pt x="24" y="66"/>
                </a:lnTo>
                <a:lnTo>
                  <a:pt x="30" y="66"/>
                </a:lnTo>
                <a:lnTo>
                  <a:pt x="36" y="72"/>
                </a:lnTo>
                <a:lnTo>
                  <a:pt x="42" y="72"/>
                </a:lnTo>
                <a:lnTo>
                  <a:pt x="48" y="66"/>
                </a:lnTo>
                <a:lnTo>
                  <a:pt x="54" y="66"/>
                </a:lnTo>
                <a:lnTo>
                  <a:pt x="60" y="60"/>
                </a:lnTo>
                <a:lnTo>
                  <a:pt x="66" y="60"/>
                </a:lnTo>
                <a:lnTo>
                  <a:pt x="72" y="54"/>
                </a:lnTo>
                <a:lnTo>
                  <a:pt x="78" y="48"/>
                </a:lnTo>
                <a:lnTo>
                  <a:pt x="84" y="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>
            <a:off x="1874880" y="4809960"/>
            <a:ext cx="2382840" cy="78120"/>
          </a:xfrm>
          <a:custGeom>
            <a:avLst/>
            <a:gdLst/>
            <a:ahLst/>
            <a:rect l="l" t="t" r="r" b="b"/>
            <a:pathLst>
              <a:path w="1314" h="0">
                <a:moveTo>
                  <a:pt x="0" y="0"/>
                </a:moveTo>
                <a:lnTo>
                  <a:pt x="120" y="0"/>
                </a:lnTo>
                <a:lnTo>
                  <a:pt x="198" y="0"/>
                </a:lnTo>
                <a:lnTo>
                  <a:pt x="264" y="0"/>
                </a:lnTo>
                <a:lnTo>
                  <a:pt x="312" y="0"/>
                </a:lnTo>
                <a:lnTo>
                  <a:pt x="360" y="0"/>
                </a:lnTo>
                <a:lnTo>
                  <a:pt x="396" y="0"/>
                </a:lnTo>
                <a:lnTo>
                  <a:pt x="432" y="0"/>
                </a:lnTo>
                <a:lnTo>
                  <a:pt x="462" y="0"/>
                </a:lnTo>
                <a:lnTo>
                  <a:pt x="486" y="0"/>
                </a:lnTo>
                <a:lnTo>
                  <a:pt x="510" y="0"/>
                </a:lnTo>
                <a:lnTo>
                  <a:pt x="534" y="0"/>
                </a:lnTo>
                <a:lnTo>
                  <a:pt x="558" y="0"/>
                </a:lnTo>
                <a:lnTo>
                  <a:pt x="576" y="0"/>
                </a:lnTo>
                <a:lnTo>
                  <a:pt x="594" y="0"/>
                </a:lnTo>
                <a:lnTo>
                  <a:pt x="612" y="0"/>
                </a:lnTo>
                <a:lnTo>
                  <a:pt x="624" y="0"/>
                </a:lnTo>
                <a:lnTo>
                  <a:pt x="642" y="0"/>
                </a:lnTo>
                <a:lnTo>
                  <a:pt x="654" y="0"/>
                </a:lnTo>
                <a:lnTo>
                  <a:pt x="672" y="0"/>
                </a:lnTo>
                <a:lnTo>
                  <a:pt x="684" y="0"/>
                </a:lnTo>
                <a:lnTo>
                  <a:pt x="696" y="0"/>
                </a:lnTo>
                <a:lnTo>
                  <a:pt x="708" y="0"/>
                </a:lnTo>
                <a:lnTo>
                  <a:pt x="720" y="0"/>
                </a:lnTo>
                <a:lnTo>
                  <a:pt x="732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10" y="0"/>
                </a:lnTo>
                <a:lnTo>
                  <a:pt x="816" y="0"/>
                </a:lnTo>
                <a:lnTo>
                  <a:pt x="822" y="0"/>
                </a:lnTo>
                <a:lnTo>
                  <a:pt x="834" y="0"/>
                </a:lnTo>
                <a:lnTo>
                  <a:pt x="840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70" y="0"/>
                </a:lnTo>
                <a:lnTo>
                  <a:pt x="876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  <a:lnTo>
                  <a:pt x="960" y="0"/>
                </a:lnTo>
                <a:lnTo>
                  <a:pt x="966" y="0"/>
                </a:lnTo>
                <a:lnTo>
                  <a:pt x="972" y="0"/>
                </a:lnTo>
                <a:lnTo>
                  <a:pt x="978" y="0"/>
                </a:lnTo>
                <a:lnTo>
                  <a:pt x="984" y="0"/>
                </a:lnTo>
                <a:lnTo>
                  <a:pt x="990" y="0"/>
                </a:lnTo>
                <a:lnTo>
                  <a:pt x="996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0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56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 rot="16200000">
            <a:off x="46944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2057040" y="3467160"/>
            <a:ext cx="200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denitrificatio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 flipV="1">
            <a:off x="5448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>
            <a:off x="5448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 flipV="1">
            <a:off x="5400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5400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 flipV="1">
            <a:off x="5353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5353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 flipV="1">
            <a:off x="5286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>
            <a:off x="5286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 flipV="1">
            <a:off x="5219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5219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 flipV="1">
            <a:off x="5448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5448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534312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54774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 flipV="1">
            <a:off x="5762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5762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V="1">
            <a:off x="5943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5943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 flipV="1">
            <a:off x="6076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6076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 flipV="1">
            <a:off x="6181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6181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 flipV="1">
            <a:off x="6257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6257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V="1">
            <a:off x="639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639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 flipV="1">
            <a:off x="6438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6438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 flipV="1">
            <a:off x="6486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6486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 flipV="1">
            <a:off x="6486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6486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6381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6515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 flipV="1">
            <a:off x="6800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6800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 flipV="1">
            <a:off x="698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698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 flipV="1">
            <a:off x="7115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>
            <a:off x="7115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 flipV="1">
            <a:off x="7219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7219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 flipV="1">
            <a:off x="7296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7296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 flipV="1">
            <a:off x="7372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7372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7429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7429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 flipV="1">
            <a:off x="7486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7486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493344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503820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490464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5448240" y="3952800"/>
            <a:ext cx="1952640" cy="1181160"/>
          </a:xfrm>
          <a:custGeom>
            <a:avLst/>
            <a:gdLst/>
            <a:ahLst/>
            <a:rect l="l" t="t" r="r" b="b"/>
            <a:pathLst>
              <a:path w="1230" h="744">
                <a:moveTo>
                  <a:pt x="0" y="546"/>
                </a:moveTo>
                <a:lnTo>
                  <a:pt x="120" y="546"/>
                </a:lnTo>
                <a:lnTo>
                  <a:pt x="198" y="546"/>
                </a:lnTo>
                <a:lnTo>
                  <a:pt x="264" y="546"/>
                </a:lnTo>
                <a:lnTo>
                  <a:pt x="312" y="546"/>
                </a:lnTo>
                <a:lnTo>
                  <a:pt x="360" y="546"/>
                </a:lnTo>
                <a:lnTo>
                  <a:pt x="396" y="546"/>
                </a:lnTo>
                <a:lnTo>
                  <a:pt x="432" y="546"/>
                </a:lnTo>
                <a:lnTo>
                  <a:pt x="462" y="546"/>
                </a:lnTo>
                <a:lnTo>
                  <a:pt x="486" y="546"/>
                </a:lnTo>
                <a:lnTo>
                  <a:pt x="510" y="546"/>
                </a:lnTo>
                <a:lnTo>
                  <a:pt x="534" y="546"/>
                </a:lnTo>
                <a:lnTo>
                  <a:pt x="558" y="546"/>
                </a:lnTo>
                <a:lnTo>
                  <a:pt x="576" y="546"/>
                </a:lnTo>
                <a:lnTo>
                  <a:pt x="594" y="546"/>
                </a:lnTo>
                <a:lnTo>
                  <a:pt x="612" y="546"/>
                </a:lnTo>
                <a:lnTo>
                  <a:pt x="624" y="546"/>
                </a:lnTo>
                <a:lnTo>
                  <a:pt x="642" y="546"/>
                </a:lnTo>
                <a:lnTo>
                  <a:pt x="654" y="546"/>
                </a:lnTo>
                <a:lnTo>
                  <a:pt x="672" y="546"/>
                </a:lnTo>
                <a:lnTo>
                  <a:pt x="684" y="546"/>
                </a:lnTo>
                <a:lnTo>
                  <a:pt x="696" y="546"/>
                </a:lnTo>
                <a:lnTo>
                  <a:pt x="708" y="546"/>
                </a:lnTo>
                <a:lnTo>
                  <a:pt x="720" y="546"/>
                </a:lnTo>
                <a:lnTo>
                  <a:pt x="732" y="546"/>
                </a:lnTo>
                <a:lnTo>
                  <a:pt x="744" y="546"/>
                </a:lnTo>
                <a:lnTo>
                  <a:pt x="750" y="546"/>
                </a:lnTo>
                <a:lnTo>
                  <a:pt x="762" y="546"/>
                </a:lnTo>
                <a:lnTo>
                  <a:pt x="774" y="546"/>
                </a:lnTo>
                <a:lnTo>
                  <a:pt x="780" y="546"/>
                </a:lnTo>
                <a:lnTo>
                  <a:pt x="792" y="546"/>
                </a:lnTo>
                <a:lnTo>
                  <a:pt x="798" y="546"/>
                </a:lnTo>
                <a:lnTo>
                  <a:pt x="810" y="546"/>
                </a:lnTo>
                <a:lnTo>
                  <a:pt x="816" y="552"/>
                </a:lnTo>
                <a:lnTo>
                  <a:pt x="822" y="552"/>
                </a:lnTo>
                <a:lnTo>
                  <a:pt x="834" y="552"/>
                </a:lnTo>
                <a:lnTo>
                  <a:pt x="840" y="552"/>
                </a:lnTo>
                <a:lnTo>
                  <a:pt x="846" y="552"/>
                </a:lnTo>
                <a:lnTo>
                  <a:pt x="852" y="552"/>
                </a:lnTo>
                <a:lnTo>
                  <a:pt x="858" y="552"/>
                </a:lnTo>
                <a:lnTo>
                  <a:pt x="870" y="552"/>
                </a:lnTo>
                <a:lnTo>
                  <a:pt x="876" y="552"/>
                </a:lnTo>
                <a:lnTo>
                  <a:pt x="882" y="552"/>
                </a:lnTo>
                <a:lnTo>
                  <a:pt x="888" y="552"/>
                </a:lnTo>
                <a:lnTo>
                  <a:pt x="894" y="552"/>
                </a:lnTo>
                <a:lnTo>
                  <a:pt x="900" y="552"/>
                </a:lnTo>
                <a:lnTo>
                  <a:pt x="906" y="552"/>
                </a:lnTo>
                <a:lnTo>
                  <a:pt x="912" y="552"/>
                </a:lnTo>
                <a:lnTo>
                  <a:pt x="918" y="552"/>
                </a:lnTo>
                <a:lnTo>
                  <a:pt x="924" y="552"/>
                </a:lnTo>
                <a:lnTo>
                  <a:pt x="930" y="552"/>
                </a:lnTo>
                <a:lnTo>
                  <a:pt x="936" y="552"/>
                </a:lnTo>
                <a:lnTo>
                  <a:pt x="942" y="552"/>
                </a:lnTo>
                <a:lnTo>
                  <a:pt x="948" y="552"/>
                </a:lnTo>
                <a:lnTo>
                  <a:pt x="954" y="552"/>
                </a:lnTo>
                <a:lnTo>
                  <a:pt x="960" y="552"/>
                </a:lnTo>
                <a:lnTo>
                  <a:pt x="966" y="552"/>
                </a:lnTo>
                <a:lnTo>
                  <a:pt x="972" y="552"/>
                </a:lnTo>
                <a:lnTo>
                  <a:pt x="978" y="552"/>
                </a:lnTo>
                <a:lnTo>
                  <a:pt x="984" y="552"/>
                </a:lnTo>
                <a:lnTo>
                  <a:pt x="990" y="552"/>
                </a:lnTo>
                <a:lnTo>
                  <a:pt x="996" y="546"/>
                </a:lnTo>
                <a:lnTo>
                  <a:pt x="1002" y="546"/>
                </a:lnTo>
                <a:lnTo>
                  <a:pt x="1008" y="546"/>
                </a:lnTo>
                <a:lnTo>
                  <a:pt x="1014" y="540"/>
                </a:lnTo>
                <a:lnTo>
                  <a:pt x="1020" y="540"/>
                </a:lnTo>
                <a:lnTo>
                  <a:pt x="1026" y="540"/>
                </a:lnTo>
                <a:lnTo>
                  <a:pt x="1032" y="534"/>
                </a:lnTo>
                <a:lnTo>
                  <a:pt x="1038" y="528"/>
                </a:lnTo>
                <a:lnTo>
                  <a:pt x="1044" y="522"/>
                </a:lnTo>
                <a:lnTo>
                  <a:pt x="1050" y="522"/>
                </a:lnTo>
                <a:lnTo>
                  <a:pt x="1056" y="516"/>
                </a:lnTo>
                <a:lnTo>
                  <a:pt x="1062" y="504"/>
                </a:lnTo>
                <a:lnTo>
                  <a:pt x="1068" y="498"/>
                </a:lnTo>
                <a:lnTo>
                  <a:pt x="1074" y="492"/>
                </a:lnTo>
                <a:lnTo>
                  <a:pt x="1074" y="486"/>
                </a:lnTo>
                <a:lnTo>
                  <a:pt x="1080" y="480"/>
                </a:lnTo>
                <a:lnTo>
                  <a:pt x="1080" y="474"/>
                </a:lnTo>
                <a:lnTo>
                  <a:pt x="1086" y="468"/>
                </a:lnTo>
                <a:lnTo>
                  <a:pt x="1086" y="456"/>
                </a:lnTo>
                <a:lnTo>
                  <a:pt x="1092" y="450"/>
                </a:lnTo>
                <a:lnTo>
                  <a:pt x="1092" y="438"/>
                </a:lnTo>
                <a:lnTo>
                  <a:pt x="1098" y="432"/>
                </a:lnTo>
                <a:lnTo>
                  <a:pt x="1098" y="420"/>
                </a:lnTo>
                <a:lnTo>
                  <a:pt x="1104" y="408"/>
                </a:lnTo>
                <a:lnTo>
                  <a:pt x="1104" y="396"/>
                </a:lnTo>
                <a:lnTo>
                  <a:pt x="1110" y="384"/>
                </a:lnTo>
                <a:lnTo>
                  <a:pt x="1110" y="372"/>
                </a:lnTo>
                <a:lnTo>
                  <a:pt x="1116" y="354"/>
                </a:lnTo>
                <a:lnTo>
                  <a:pt x="1116" y="336"/>
                </a:lnTo>
                <a:lnTo>
                  <a:pt x="1122" y="324"/>
                </a:lnTo>
                <a:lnTo>
                  <a:pt x="1122" y="306"/>
                </a:lnTo>
                <a:lnTo>
                  <a:pt x="1128" y="288"/>
                </a:lnTo>
                <a:lnTo>
                  <a:pt x="1128" y="246"/>
                </a:lnTo>
                <a:lnTo>
                  <a:pt x="1134" y="228"/>
                </a:lnTo>
                <a:lnTo>
                  <a:pt x="1134" y="204"/>
                </a:lnTo>
                <a:lnTo>
                  <a:pt x="1140" y="180"/>
                </a:lnTo>
                <a:lnTo>
                  <a:pt x="1140" y="162"/>
                </a:lnTo>
                <a:lnTo>
                  <a:pt x="1146" y="138"/>
                </a:lnTo>
                <a:lnTo>
                  <a:pt x="1146" y="90"/>
                </a:lnTo>
                <a:lnTo>
                  <a:pt x="1152" y="72"/>
                </a:lnTo>
                <a:lnTo>
                  <a:pt x="1152" y="48"/>
                </a:lnTo>
                <a:lnTo>
                  <a:pt x="1158" y="30"/>
                </a:lnTo>
                <a:lnTo>
                  <a:pt x="1158" y="18"/>
                </a:lnTo>
                <a:lnTo>
                  <a:pt x="1164" y="6"/>
                </a:lnTo>
                <a:lnTo>
                  <a:pt x="1164" y="0"/>
                </a:lnTo>
                <a:lnTo>
                  <a:pt x="1170" y="6"/>
                </a:lnTo>
                <a:lnTo>
                  <a:pt x="1170" y="36"/>
                </a:lnTo>
                <a:lnTo>
                  <a:pt x="1176" y="66"/>
                </a:lnTo>
                <a:lnTo>
                  <a:pt x="1176" y="96"/>
                </a:lnTo>
                <a:lnTo>
                  <a:pt x="1182" y="132"/>
                </a:lnTo>
                <a:lnTo>
                  <a:pt x="1182" y="216"/>
                </a:lnTo>
                <a:lnTo>
                  <a:pt x="1188" y="258"/>
                </a:lnTo>
                <a:lnTo>
                  <a:pt x="1188" y="342"/>
                </a:lnTo>
                <a:lnTo>
                  <a:pt x="1194" y="384"/>
                </a:lnTo>
                <a:lnTo>
                  <a:pt x="1194" y="420"/>
                </a:lnTo>
                <a:lnTo>
                  <a:pt x="1200" y="450"/>
                </a:lnTo>
                <a:lnTo>
                  <a:pt x="1200" y="510"/>
                </a:lnTo>
                <a:lnTo>
                  <a:pt x="1206" y="534"/>
                </a:lnTo>
                <a:lnTo>
                  <a:pt x="1206" y="582"/>
                </a:lnTo>
                <a:lnTo>
                  <a:pt x="1212" y="600"/>
                </a:lnTo>
                <a:lnTo>
                  <a:pt x="1212" y="636"/>
                </a:lnTo>
                <a:lnTo>
                  <a:pt x="1218" y="654"/>
                </a:lnTo>
                <a:lnTo>
                  <a:pt x="1218" y="678"/>
                </a:lnTo>
                <a:lnTo>
                  <a:pt x="1224" y="690"/>
                </a:lnTo>
                <a:lnTo>
                  <a:pt x="1224" y="708"/>
                </a:lnTo>
                <a:lnTo>
                  <a:pt x="1230" y="720"/>
                </a:lnTo>
                <a:lnTo>
                  <a:pt x="1230" y="7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7400880" y="5133960"/>
            <a:ext cx="133560" cy="95400"/>
          </a:xfrm>
          <a:custGeom>
            <a:avLst/>
            <a:gdLst/>
            <a:ahLst/>
            <a:rect l="l" t="t" r="r" b="b"/>
            <a:pathLst>
              <a:path w="84" h="60">
                <a:moveTo>
                  <a:pt x="0" y="0"/>
                </a:moveTo>
                <a:lnTo>
                  <a:pt x="6" y="6"/>
                </a:lnTo>
                <a:lnTo>
                  <a:pt x="6" y="18"/>
                </a:lnTo>
                <a:lnTo>
                  <a:pt x="12" y="24"/>
                </a:lnTo>
                <a:lnTo>
                  <a:pt x="12" y="30"/>
                </a:lnTo>
                <a:lnTo>
                  <a:pt x="24" y="42"/>
                </a:lnTo>
                <a:lnTo>
                  <a:pt x="24" y="54"/>
                </a:lnTo>
                <a:lnTo>
                  <a:pt x="30" y="54"/>
                </a:lnTo>
                <a:lnTo>
                  <a:pt x="36" y="60"/>
                </a:lnTo>
                <a:lnTo>
                  <a:pt x="42" y="60"/>
                </a:lnTo>
                <a:lnTo>
                  <a:pt x="48" y="60"/>
                </a:lnTo>
                <a:lnTo>
                  <a:pt x="54" y="60"/>
                </a:lnTo>
                <a:lnTo>
                  <a:pt x="60" y="60"/>
                </a:lnTo>
                <a:lnTo>
                  <a:pt x="66" y="54"/>
                </a:lnTo>
                <a:lnTo>
                  <a:pt x="72" y="54"/>
                </a:lnTo>
                <a:lnTo>
                  <a:pt x="78" y="48"/>
                </a:lnTo>
                <a:lnTo>
                  <a:pt x="84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5157720" y="4809960"/>
            <a:ext cx="2376720" cy="74880"/>
          </a:xfrm>
          <a:custGeom>
            <a:avLst/>
            <a:gdLst/>
            <a:ahLst/>
            <a:rect l="l" t="t" r="r" b="b"/>
            <a:pathLst>
              <a:path w="1314" h="0">
                <a:moveTo>
                  <a:pt x="0" y="0"/>
                </a:moveTo>
                <a:lnTo>
                  <a:pt x="120" y="0"/>
                </a:lnTo>
                <a:lnTo>
                  <a:pt x="198" y="0"/>
                </a:lnTo>
                <a:lnTo>
                  <a:pt x="264" y="0"/>
                </a:lnTo>
                <a:lnTo>
                  <a:pt x="312" y="0"/>
                </a:lnTo>
                <a:lnTo>
                  <a:pt x="360" y="0"/>
                </a:lnTo>
                <a:lnTo>
                  <a:pt x="396" y="0"/>
                </a:lnTo>
                <a:lnTo>
                  <a:pt x="432" y="0"/>
                </a:lnTo>
                <a:lnTo>
                  <a:pt x="462" y="0"/>
                </a:lnTo>
                <a:lnTo>
                  <a:pt x="486" y="0"/>
                </a:lnTo>
                <a:lnTo>
                  <a:pt x="510" y="0"/>
                </a:lnTo>
                <a:lnTo>
                  <a:pt x="534" y="0"/>
                </a:lnTo>
                <a:lnTo>
                  <a:pt x="558" y="0"/>
                </a:lnTo>
                <a:lnTo>
                  <a:pt x="576" y="0"/>
                </a:lnTo>
                <a:lnTo>
                  <a:pt x="594" y="0"/>
                </a:lnTo>
                <a:lnTo>
                  <a:pt x="612" y="0"/>
                </a:lnTo>
                <a:lnTo>
                  <a:pt x="624" y="0"/>
                </a:lnTo>
                <a:lnTo>
                  <a:pt x="642" y="0"/>
                </a:lnTo>
                <a:lnTo>
                  <a:pt x="654" y="0"/>
                </a:lnTo>
                <a:lnTo>
                  <a:pt x="672" y="0"/>
                </a:lnTo>
                <a:lnTo>
                  <a:pt x="684" y="0"/>
                </a:lnTo>
                <a:lnTo>
                  <a:pt x="696" y="0"/>
                </a:lnTo>
                <a:lnTo>
                  <a:pt x="708" y="0"/>
                </a:lnTo>
                <a:lnTo>
                  <a:pt x="720" y="0"/>
                </a:lnTo>
                <a:lnTo>
                  <a:pt x="732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10" y="0"/>
                </a:lnTo>
                <a:lnTo>
                  <a:pt x="816" y="0"/>
                </a:lnTo>
                <a:lnTo>
                  <a:pt x="822" y="0"/>
                </a:lnTo>
                <a:lnTo>
                  <a:pt x="834" y="0"/>
                </a:lnTo>
                <a:lnTo>
                  <a:pt x="840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70" y="0"/>
                </a:lnTo>
                <a:lnTo>
                  <a:pt x="876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  <a:lnTo>
                  <a:pt x="960" y="0"/>
                </a:lnTo>
                <a:lnTo>
                  <a:pt x="966" y="0"/>
                </a:lnTo>
                <a:lnTo>
                  <a:pt x="972" y="0"/>
                </a:lnTo>
                <a:lnTo>
                  <a:pt x="978" y="0"/>
                </a:lnTo>
                <a:lnTo>
                  <a:pt x="984" y="0"/>
                </a:lnTo>
                <a:lnTo>
                  <a:pt x="990" y="0"/>
                </a:lnTo>
                <a:lnTo>
                  <a:pt x="996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0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56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 rot="16200000">
            <a:off x="374760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5456160" y="3467160"/>
            <a:ext cx="1756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retentio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3269880" y="22860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01:48:37Z</dcterms:created>
  <dc:creator>dlewis1</dc:creator>
  <dc:description/>
  <dc:language>en-US</dc:language>
  <cp:lastModifiedBy>John Schade</cp:lastModifiedBy>
  <dcterms:modified xsi:type="dcterms:W3CDTF">2003-10-10T16:01:02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26316141</vt:r8>
  </property>
  <property fmtid="{D5CDD505-2E9C-101B-9397-08002B2CF9AE}" pid="3" name="_AuthorEmail">
    <vt:lpwstr>David.Lewis@asu.edu</vt:lpwstr>
  </property>
  <property fmtid="{D5CDD505-2E9C-101B-9397-08002B2CF9AE}" pid="4" name="_AuthorEmailDisplayName">
    <vt:lpwstr>David Lewis</vt:lpwstr>
  </property>
  <property fmtid="{D5CDD505-2E9C-101B-9397-08002B2CF9AE}" pid="5" name="_EmailSubject">
    <vt:lpwstr>Baccharis model output</vt:lpwstr>
  </property>
</Properties>
</file>