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C53-4458-43FB-B9B0-CFD97ED4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783-575B-4203-A156-9CB6426D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B7B-CDCD-4EA8-B43F-6E360E40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CDD-BDCB-4C1E-899F-10BB9144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357-E85B-41A5-8C5B-734B6FD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9D3-F90F-45DC-82DD-1B97729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268-07CC-49B5-A998-1882BBF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57A-67CB-4A2F-9D75-13C1602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463-A7DD-4C14-88AD-2AB43D51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C3D-6E71-418D-B89F-4260624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3C3-FCA2-4400-B21E-260F1DB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DFC-D914-43A4-AE01-06E23FC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16C-C18B-4B23-8304-76F47007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4800" y="417600"/>
            <a:ext cx="5932440" cy="8067240"/>
            <a:chOff x="334800" y="417600"/>
            <a:chExt cx="5932440" cy="8067240"/>
          </a:xfrm>
        </p:grpSpPr>
        <p:sp>
          <p:nvSpPr>
            <p:cNvPr id="42" name=""/>
            <p:cNvSpPr/>
            <p:nvPr/>
          </p:nvSpPr>
          <p:spPr>
            <a:xfrm>
              <a:off x="639000" y="41760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) Constant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640" y="462924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 Response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34800" y="5167440"/>
              <a:ext cx="5932440" cy="3317400"/>
              <a:chOff x="334800" y="5167440"/>
              <a:chExt cx="5932440" cy="3317400"/>
            </a:xfrm>
          </p:grpSpPr>
          <p:sp>
            <p:nvSpPr>
              <p:cNvPr id="45" name=""/>
              <p:cNvSpPr/>
              <p:nvPr/>
            </p:nvSpPr>
            <p:spPr>
              <a:xfrm>
                <a:off x="2914560" y="5511960"/>
                <a:ext cx="803520" cy="404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oot m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424160" y="5708520"/>
                <a:ext cx="1481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075040" y="5621400"/>
                <a:ext cx="169560" cy="183960"/>
              </a:xfrm>
              <a:prstGeom prst="flowChartCollat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728880" y="5708520"/>
                <a:ext cx="148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79760" y="5621400"/>
                <a:ext cx="169920" cy="183960"/>
              </a:xfrm>
              <a:prstGeom prst="flowChartCollat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23880" y="516744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oot Production (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ρ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55520" y="5167440"/>
                <a:ext cx="144720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oot Decompos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9520" y="7010280"/>
                <a:ext cx="1039680" cy="40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nt Avail.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N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71600" y="7219800"/>
                <a:ext cx="144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22480" y="7132680"/>
                <a:ext cx="168120" cy="183960"/>
              </a:xfrm>
              <a:prstGeom prst="flowChartCollat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86200" y="7219800"/>
                <a:ext cx="13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35560" y="7132680"/>
                <a:ext cx="168120" cy="183960"/>
              </a:xfrm>
              <a:prstGeom prst="flowChartCollat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4800" y="7074000"/>
                <a:ext cx="1154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 input (N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*Q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21680" y="8183520"/>
                <a:ext cx="10494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 export (N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e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41960" y="7721640"/>
                <a:ext cx="358560" cy="318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%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3206520" y="7426440"/>
                <a:ext cx="212760" cy="774720"/>
                <a:chOff x="3206520" y="7426440"/>
                <a:chExt cx="212760" cy="774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318480" y="7426440"/>
                  <a:ext cx="0" cy="77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5400000">
                  <a:off x="3268800" y="7704360"/>
                  <a:ext cx="88200" cy="212760"/>
                </a:xfrm>
                <a:prstGeom prst="flowChartCollat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5207040" y="7083360"/>
                <a:ext cx="106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 Uptake (N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1514520" y="6246720"/>
                <a:ext cx="3343320" cy="295200"/>
                <a:chOff x="1514520" y="6246720"/>
                <a:chExt cx="3343320" cy="29520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1514520" y="6246720"/>
                  <a:ext cx="2412000" cy="295200"/>
                  <a:chOff x="1514520" y="6246720"/>
                  <a:chExt cx="2412000" cy="2952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514520" y="6246720"/>
                    <a:ext cx="338400" cy="2952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: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572200" y="6246720"/>
                    <a:ext cx="338400" cy="2952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δ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588120" y="6246720"/>
                    <a:ext cx="338400" cy="2952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4519440" y="6246720"/>
                  <a:ext cx="338400" cy="295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2106720" y="6513480"/>
                <a:ext cx="498240" cy="61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819520" y="5916600"/>
                <a:ext cx="217440" cy="39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766880" y="5805360"/>
                <a:ext cx="339840" cy="44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2274480" y="5805360"/>
                <a:ext cx="1320840" cy="50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736800" y="5805360"/>
                <a:ext cx="655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4476600" y="5805360"/>
                <a:ext cx="168480" cy="44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638520" y="6541560"/>
                <a:ext cx="74520" cy="46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17880" y="6499080"/>
                <a:ext cx="54936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4518000" y="7316280"/>
                <a:ext cx="0" cy="40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1828800" y="6462720"/>
                <a:ext cx="99072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9880" y="7453440"/>
                <a:ext cx="53352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914560" y="1258920"/>
              <a:ext cx="803520" cy="404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ot m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24160" y="1455840"/>
              <a:ext cx="148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5040" y="1368360"/>
              <a:ext cx="169560" cy="18432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28880" y="1455840"/>
              <a:ext cx="148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79760" y="1368360"/>
              <a:ext cx="169920" cy="18432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91440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ot Producti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55520" y="914400"/>
              <a:ext cx="1447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ot Decom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757600"/>
              <a:ext cx="103968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nt Avail.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296712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22480" y="2879640"/>
              <a:ext cx="168120" cy="18432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86200" y="2967120"/>
              <a:ext cx="13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35560" y="2879640"/>
              <a:ext cx="168120" cy="18432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" y="2820960"/>
              <a:ext cx="1154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 input (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Q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21680" y="3930480"/>
              <a:ext cx="1049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 export (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ex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1960" y="3468600"/>
              <a:ext cx="358560" cy="319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06520" y="3173400"/>
              <a:ext cx="212760" cy="774720"/>
              <a:chOff x="3206520" y="3173400"/>
              <a:chExt cx="212760" cy="774720"/>
            </a:xfrm>
          </p:grpSpPr>
          <p:sp>
            <p:nvSpPr>
              <p:cNvPr id="97" name=""/>
              <p:cNvSpPr/>
              <p:nvPr/>
            </p:nvSpPr>
            <p:spPr>
              <a:xfrm>
                <a:off x="3318480" y="3173400"/>
                <a:ext cx="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3268800" y="3451320"/>
                <a:ext cx="88200" cy="212760"/>
              </a:xfrm>
              <a:prstGeom prst="flowChartCollat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207040" y="2830680"/>
              <a:ext cx="1060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 Uptake (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14520" y="1994040"/>
              <a:ext cx="3343320" cy="295200"/>
              <a:chOff x="1514520" y="1994040"/>
              <a:chExt cx="3343320" cy="2952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514520" y="1994040"/>
                <a:ext cx="2412000" cy="295200"/>
                <a:chOff x="1514520" y="1994040"/>
                <a:chExt cx="2412000" cy="2952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514520" y="1994040"/>
                  <a:ext cx="338400" cy="295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: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2200" y="1994040"/>
                  <a:ext cx="338400" cy="295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δ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588120" y="1994040"/>
                  <a:ext cx="338400" cy="295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4519440" y="1994040"/>
                <a:ext cx="338400" cy="295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2106720" y="2260440"/>
              <a:ext cx="498240" cy="61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19520" y="1663560"/>
              <a:ext cx="217440" cy="39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766880" y="1552680"/>
              <a:ext cx="33984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74480" y="1552320"/>
              <a:ext cx="132084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6800" y="1552680"/>
              <a:ext cx="65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476600" y="1552680"/>
              <a:ext cx="16848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638520" y="2289240"/>
              <a:ext cx="7452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7880" y="2246400"/>
              <a:ext cx="54936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518000" y="3063960"/>
              <a:ext cx="0" cy="4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1:53:16Z</dcterms:created>
  <dc:creator>John Schade</dc:creator>
  <dc:description/>
  <dc:language>en-US</dc:language>
  <cp:lastModifiedBy>John Schade</cp:lastModifiedBy>
  <dcterms:modified xsi:type="dcterms:W3CDTF">2003-10-27T17:54:43Z</dcterms:modified>
  <cp:revision>12</cp:revision>
  <dc:subject/>
  <dc:title>PowerPoint Presentation</dc:title>
</cp:coreProperties>
</file>