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942-1624-4EED-B8B1-1AB43A8D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2F8-4FEE-42F2-B401-F3658AC3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A9B-4EE8-41F1-A085-8AF49579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9B4-09A0-44D2-9269-F3144CBB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00B-F92C-42E3-BDCA-682A8D0F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E88-8165-4876-8FE2-A0982F8A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F44-DDA2-41F2-B81E-77E4DC6E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ED3-2D87-411E-B6C9-1629F22D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49E-00AE-4D43-BF71-E58E1CFA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D52-6FD2-4D41-BCD6-787E0955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594-3875-47B7-9793-10B0400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C04-23F3-4E78-A15D-5CB1EAA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ECDB-F609-407D-B515-AACCDE46C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80512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262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27288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&amp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752480" y="3262320"/>
            <a:ext cx="0" cy="12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495680"/>
            <a:ext cx="3429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urface delivery of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 microbial N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3262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280512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81280" cy="51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 physiological response (N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424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262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05120"/>
            <a:ext cx="1828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ator-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267080"/>
            <a:ext cx="4114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bitat Complexity, cover from pred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tritional quality, N an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sication 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629400" y="3262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23:34:03Z</dcterms:created>
  <dc:creator>John Schade</dc:creator>
  <dc:description/>
  <dc:language>en-US</dc:language>
  <cp:lastModifiedBy>John Schade</cp:lastModifiedBy>
  <dcterms:modified xsi:type="dcterms:W3CDTF">2003-10-21T00:27:10Z</dcterms:modified>
  <cp:revision>2</cp:revision>
  <dc:subject/>
  <dc:title>PowerPoint Presentation</dc:title>
</cp:coreProperties>
</file>