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368-35F0-4FF9-B496-88C35F4B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298-90F5-410F-8C9A-F948BCB9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36D-4152-482B-AB78-833DF6BA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5F9-BAAF-44AC-A23B-321F8B43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AFB-47E2-4680-BAD9-DC93AD12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7E1-F585-4371-9443-17719FF9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ECC-6ED8-47B6-AC08-FC17BCA9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31F-4CE1-4377-BBCF-AD83A999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AE4-2DD2-46AA-AA9D-C3DC9887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40D-203E-4EA2-BBF9-4368E085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F7B-B3F8-4875-B465-40A2C8BD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717-32CB-419E-9652-94995C30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7DDF-BE95-4D5A-BE1A-1767CD0A5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47920" y="0"/>
          <a:ext cx="4074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0"/>
                    <a:ext cx="4074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6576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N max = .06, k = 0.25; these are based on this relationship; I would use max of 0.04 for %N, that would be more reaso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31240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 max = 10, k = 0.42; these are based on this relationship and are probably O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1814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 = a*exp(-b*x); a = 0.69, b = 2.74 from the grap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18:29:00Z</dcterms:created>
  <dc:creator>John Schade</dc:creator>
  <dc:description/>
  <dc:language>en-US</dc:language>
  <cp:lastModifiedBy>John Schade</cp:lastModifiedBy>
  <dcterms:modified xsi:type="dcterms:W3CDTF">2003-02-03T18:39:02Z</dcterms:modified>
  <cp:revision>3</cp:revision>
  <dc:subject/>
  <dc:title>PowerPoint Presentation</dc:title>
</cp:coreProperties>
</file>