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744-348A-425B-B3DA-C76152C8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D78-D2BB-4E35-800A-8C1FE037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1C4-DB97-4CBC-8C81-52325743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A16-8F1A-4B1A-AFA6-3FF87692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9E1-DD72-4744-BC75-5B25BBE4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566-FBEE-4FFD-BB37-C67FCB0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D9B-6C82-452A-BB62-9AA73604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183-F18E-437B-9D41-B5F3A77C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F2B-E65B-4126-B373-013671D9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B12-67C0-4339-B96F-3AC07757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A12-357A-4FF2-95AB-15A12C39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A9C-A1BC-4233-B3F9-05EB1030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3CE4-F279-4C30-8711-85E3201E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6132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1720" y="1133640"/>
            <a:ext cx="2171520" cy="1457280"/>
          </a:xfrm>
          <a:custGeom>
            <a:avLst/>
            <a:gdLst/>
            <a:ahLst/>
            <a:rect l="l" t="t" r="r" b="b"/>
            <a:pathLst>
              <a:path w="1368" h="918">
                <a:moveTo>
                  <a:pt x="0" y="918"/>
                </a:moveTo>
                <a:lnTo>
                  <a:pt x="72" y="768"/>
                </a:lnTo>
                <a:lnTo>
                  <a:pt x="144" y="642"/>
                </a:lnTo>
                <a:lnTo>
                  <a:pt x="216" y="540"/>
                </a:lnTo>
                <a:lnTo>
                  <a:pt x="288" y="450"/>
                </a:lnTo>
                <a:lnTo>
                  <a:pt x="360" y="378"/>
                </a:lnTo>
                <a:lnTo>
                  <a:pt x="432" y="318"/>
                </a:lnTo>
                <a:lnTo>
                  <a:pt x="504" y="270"/>
                </a:lnTo>
                <a:lnTo>
                  <a:pt x="576" y="228"/>
                </a:lnTo>
                <a:lnTo>
                  <a:pt x="648" y="192"/>
                </a:lnTo>
                <a:lnTo>
                  <a:pt x="720" y="162"/>
                </a:lnTo>
                <a:lnTo>
                  <a:pt x="792" y="132"/>
                </a:lnTo>
                <a:lnTo>
                  <a:pt x="864" y="108"/>
                </a:lnTo>
                <a:lnTo>
                  <a:pt x="936" y="84"/>
                </a:lnTo>
                <a:lnTo>
                  <a:pt x="1008" y="66"/>
                </a:lnTo>
                <a:lnTo>
                  <a:pt x="1080" y="54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1720" y="1428840"/>
            <a:ext cx="2171520" cy="1238040"/>
          </a:xfrm>
          <a:custGeom>
            <a:avLst/>
            <a:gdLst/>
            <a:ahLst/>
            <a:rect l="l" t="t" r="r" b="b"/>
            <a:pathLst>
              <a:path w="1368" h="780">
                <a:moveTo>
                  <a:pt x="0" y="780"/>
                </a:moveTo>
                <a:lnTo>
                  <a:pt x="72" y="660"/>
                </a:lnTo>
                <a:lnTo>
                  <a:pt x="144" y="564"/>
                </a:lnTo>
                <a:lnTo>
                  <a:pt x="216" y="480"/>
                </a:lnTo>
                <a:lnTo>
                  <a:pt x="288" y="408"/>
                </a:lnTo>
                <a:lnTo>
                  <a:pt x="360" y="348"/>
                </a:lnTo>
                <a:lnTo>
                  <a:pt x="432" y="300"/>
                </a:lnTo>
                <a:lnTo>
                  <a:pt x="504" y="252"/>
                </a:lnTo>
                <a:lnTo>
                  <a:pt x="576" y="216"/>
                </a:lnTo>
                <a:lnTo>
                  <a:pt x="648" y="180"/>
                </a:lnTo>
                <a:lnTo>
                  <a:pt x="720" y="156"/>
                </a:lnTo>
                <a:lnTo>
                  <a:pt x="792" y="126"/>
                </a:lnTo>
                <a:lnTo>
                  <a:pt x="864" y="102"/>
                </a:lnTo>
                <a:lnTo>
                  <a:pt x="936" y="84"/>
                </a:lnTo>
                <a:lnTo>
                  <a:pt x="1008" y="66"/>
                </a:lnTo>
                <a:lnTo>
                  <a:pt x="1080" y="48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9666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48440" y="21146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48440" y="21146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48084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5240" y="511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5240" y="4734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5240" y="4362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524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1720" y="3809880"/>
            <a:ext cx="2171520" cy="1457280"/>
          </a:xfrm>
          <a:custGeom>
            <a:avLst/>
            <a:gdLst/>
            <a:ahLst/>
            <a:rect l="l" t="t" r="r" b="b"/>
            <a:pathLst>
              <a:path w="1368" h="918">
                <a:moveTo>
                  <a:pt x="0" y="918"/>
                </a:moveTo>
                <a:lnTo>
                  <a:pt x="72" y="762"/>
                </a:lnTo>
                <a:lnTo>
                  <a:pt x="144" y="636"/>
                </a:lnTo>
                <a:lnTo>
                  <a:pt x="216" y="534"/>
                </a:lnTo>
                <a:lnTo>
                  <a:pt x="288" y="450"/>
                </a:lnTo>
                <a:lnTo>
                  <a:pt x="360" y="378"/>
                </a:lnTo>
                <a:lnTo>
                  <a:pt x="432" y="318"/>
                </a:lnTo>
                <a:lnTo>
                  <a:pt x="504" y="270"/>
                </a:lnTo>
                <a:lnTo>
                  <a:pt x="576" y="222"/>
                </a:lnTo>
                <a:lnTo>
                  <a:pt x="648" y="186"/>
                </a:lnTo>
                <a:lnTo>
                  <a:pt x="720" y="156"/>
                </a:lnTo>
                <a:lnTo>
                  <a:pt x="792" y="126"/>
                </a:lnTo>
                <a:lnTo>
                  <a:pt x="864" y="102"/>
                </a:lnTo>
                <a:lnTo>
                  <a:pt x="936" y="84"/>
                </a:lnTo>
                <a:lnTo>
                  <a:pt x="1008" y="66"/>
                </a:lnTo>
                <a:lnTo>
                  <a:pt x="1080" y="48"/>
                </a:lnTo>
                <a:lnTo>
                  <a:pt x="1152" y="36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1720" y="4095720"/>
            <a:ext cx="2171520" cy="1247760"/>
          </a:xfrm>
          <a:custGeom>
            <a:avLst/>
            <a:gdLst/>
            <a:ahLst/>
            <a:rect l="l" t="t" r="r" b="b"/>
            <a:pathLst>
              <a:path w="1368" h="786">
                <a:moveTo>
                  <a:pt x="0" y="786"/>
                </a:moveTo>
                <a:lnTo>
                  <a:pt x="72" y="666"/>
                </a:lnTo>
                <a:lnTo>
                  <a:pt x="144" y="564"/>
                </a:lnTo>
                <a:lnTo>
                  <a:pt x="216" y="480"/>
                </a:lnTo>
                <a:lnTo>
                  <a:pt x="288" y="414"/>
                </a:lnTo>
                <a:lnTo>
                  <a:pt x="360" y="354"/>
                </a:lnTo>
                <a:lnTo>
                  <a:pt x="432" y="300"/>
                </a:lnTo>
                <a:lnTo>
                  <a:pt x="504" y="258"/>
                </a:lnTo>
                <a:lnTo>
                  <a:pt x="576" y="216"/>
                </a:lnTo>
                <a:lnTo>
                  <a:pt x="648" y="186"/>
                </a:lnTo>
                <a:lnTo>
                  <a:pt x="720" y="156"/>
                </a:lnTo>
                <a:lnTo>
                  <a:pt x="792" y="132"/>
                </a:lnTo>
                <a:lnTo>
                  <a:pt x="864" y="108"/>
                </a:lnTo>
                <a:lnTo>
                  <a:pt x="936" y="90"/>
                </a:lnTo>
                <a:lnTo>
                  <a:pt x="1008" y="72"/>
                </a:lnTo>
                <a:lnTo>
                  <a:pt x="1080" y="54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68544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6648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6648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648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8440" y="3781440"/>
            <a:ext cx="2171520" cy="1476360"/>
          </a:xfrm>
          <a:custGeom>
            <a:avLst/>
            <a:gdLst/>
            <a:ahLst/>
            <a:rect l="l" t="t" r="r" b="b"/>
            <a:pathLst>
              <a:path w="1368" h="930">
                <a:moveTo>
                  <a:pt x="0" y="930"/>
                </a:moveTo>
                <a:lnTo>
                  <a:pt x="72" y="774"/>
                </a:lnTo>
                <a:lnTo>
                  <a:pt x="144" y="642"/>
                </a:lnTo>
                <a:lnTo>
                  <a:pt x="216" y="540"/>
                </a:lnTo>
                <a:lnTo>
                  <a:pt x="288" y="456"/>
                </a:lnTo>
                <a:lnTo>
                  <a:pt x="360" y="384"/>
                </a:lnTo>
                <a:lnTo>
                  <a:pt x="432" y="324"/>
                </a:lnTo>
                <a:lnTo>
                  <a:pt x="504" y="270"/>
                </a:lnTo>
                <a:lnTo>
                  <a:pt x="576" y="228"/>
                </a:lnTo>
                <a:lnTo>
                  <a:pt x="648" y="192"/>
                </a:lnTo>
                <a:lnTo>
                  <a:pt x="720" y="162"/>
                </a:lnTo>
                <a:lnTo>
                  <a:pt x="792" y="132"/>
                </a:lnTo>
                <a:lnTo>
                  <a:pt x="864" y="108"/>
                </a:lnTo>
                <a:lnTo>
                  <a:pt x="936" y="84"/>
                </a:lnTo>
                <a:lnTo>
                  <a:pt x="1008" y="66"/>
                </a:lnTo>
                <a:lnTo>
                  <a:pt x="1080" y="54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8440" y="4076640"/>
            <a:ext cx="2171520" cy="1257480"/>
          </a:xfrm>
          <a:custGeom>
            <a:avLst/>
            <a:gdLst/>
            <a:ahLst/>
            <a:rect l="l" t="t" r="r" b="b"/>
            <a:pathLst>
              <a:path w="1368" h="792">
                <a:moveTo>
                  <a:pt x="0" y="792"/>
                </a:moveTo>
                <a:lnTo>
                  <a:pt x="72" y="666"/>
                </a:lnTo>
                <a:lnTo>
                  <a:pt x="144" y="570"/>
                </a:lnTo>
                <a:lnTo>
                  <a:pt x="216" y="480"/>
                </a:lnTo>
                <a:lnTo>
                  <a:pt x="288" y="414"/>
                </a:lnTo>
                <a:lnTo>
                  <a:pt x="360" y="348"/>
                </a:lnTo>
                <a:lnTo>
                  <a:pt x="432" y="300"/>
                </a:lnTo>
                <a:lnTo>
                  <a:pt x="504" y="252"/>
                </a:lnTo>
                <a:lnTo>
                  <a:pt x="576" y="216"/>
                </a:lnTo>
                <a:lnTo>
                  <a:pt x="648" y="186"/>
                </a:lnTo>
                <a:lnTo>
                  <a:pt x="720" y="156"/>
                </a:lnTo>
                <a:lnTo>
                  <a:pt x="792" y="126"/>
                </a:lnTo>
                <a:lnTo>
                  <a:pt x="864" y="108"/>
                </a:lnTo>
                <a:lnTo>
                  <a:pt x="936" y="84"/>
                </a:lnTo>
                <a:lnTo>
                  <a:pt x="1008" y="66"/>
                </a:lnTo>
                <a:lnTo>
                  <a:pt x="1080" y="48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37029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62792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62792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971720" y="1362240"/>
            <a:ext cx="2171520" cy="3780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18"/>
                </a:lnTo>
                <a:lnTo>
                  <a:pt x="144" y="18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971720" y="29052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9414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838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838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248440" y="1467000"/>
            <a:ext cx="2171520" cy="1218960"/>
          </a:xfrm>
          <a:custGeom>
            <a:avLst/>
            <a:gdLst/>
            <a:ahLst/>
            <a:rect l="l" t="t" r="r" b="b"/>
            <a:pathLst>
              <a:path w="1368" h="768">
                <a:moveTo>
                  <a:pt x="0" y="0"/>
                </a:moveTo>
                <a:lnTo>
                  <a:pt x="72" y="126"/>
                </a:lnTo>
                <a:lnTo>
                  <a:pt x="144" y="228"/>
                </a:lnTo>
                <a:lnTo>
                  <a:pt x="216" y="312"/>
                </a:lnTo>
                <a:lnTo>
                  <a:pt x="288" y="384"/>
                </a:lnTo>
                <a:lnTo>
                  <a:pt x="360" y="444"/>
                </a:lnTo>
                <a:lnTo>
                  <a:pt x="432" y="492"/>
                </a:lnTo>
                <a:lnTo>
                  <a:pt x="504" y="534"/>
                </a:lnTo>
                <a:lnTo>
                  <a:pt x="576" y="570"/>
                </a:lnTo>
                <a:lnTo>
                  <a:pt x="648" y="606"/>
                </a:lnTo>
                <a:lnTo>
                  <a:pt x="720" y="630"/>
                </a:lnTo>
                <a:lnTo>
                  <a:pt x="792" y="654"/>
                </a:lnTo>
                <a:lnTo>
                  <a:pt x="864" y="672"/>
                </a:lnTo>
                <a:lnTo>
                  <a:pt x="936" y="690"/>
                </a:lnTo>
                <a:lnTo>
                  <a:pt x="1008" y="708"/>
                </a:lnTo>
                <a:lnTo>
                  <a:pt x="1080" y="720"/>
                </a:lnTo>
                <a:lnTo>
                  <a:pt x="1152" y="738"/>
                </a:lnTo>
                <a:lnTo>
                  <a:pt x="1224" y="744"/>
                </a:lnTo>
                <a:lnTo>
                  <a:pt x="1296" y="756"/>
                </a:lnTo>
                <a:lnTo>
                  <a:pt x="1368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248440" y="2514600"/>
            <a:ext cx="2171520" cy="361800"/>
          </a:xfrm>
          <a:custGeom>
            <a:avLst/>
            <a:gdLst/>
            <a:ahLst/>
            <a:rect l="l" t="t" r="r" b="b"/>
            <a:pathLst>
              <a:path w="1368" h="228">
                <a:moveTo>
                  <a:pt x="0" y="0"/>
                </a:moveTo>
                <a:lnTo>
                  <a:pt x="72" y="36"/>
                </a:lnTo>
                <a:lnTo>
                  <a:pt x="144" y="66"/>
                </a:lnTo>
                <a:lnTo>
                  <a:pt x="216" y="90"/>
                </a:lnTo>
                <a:lnTo>
                  <a:pt x="288" y="114"/>
                </a:lnTo>
                <a:lnTo>
                  <a:pt x="360" y="132"/>
                </a:lnTo>
                <a:lnTo>
                  <a:pt x="432" y="144"/>
                </a:lnTo>
                <a:lnTo>
                  <a:pt x="504" y="156"/>
                </a:lnTo>
                <a:lnTo>
                  <a:pt x="576" y="168"/>
                </a:lnTo>
                <a:lnTo>
                  <a:pt x="648" y="180"/>
                </a:lnTo>
                <a:lnTo>
                  <a:pt x="720" y="186"/>
                </a:lnTo>
                <a:lnTo>
                  <a:pt x="792" y="192"/>
                </a:lnTo>
                <a:lnTo>
                  <a:pt x="864" y="198"/>
                </a:lnTo>
                <a:lnTo>
                  <a:pt x="936" y="204"/>
                </a:lnTo>
                <a:lnTo>
                  <a:pt x="1008" y="210"/>
                </a:lnTo>
                <a:lnTo>
                  <a:pt x="1080" y="216"/>
                </a:lnTo>
                <a:lnTo>
                  <a:pt x="1152" y="222"/>
                </a:lnTo>
                <a:lnTo>
                  <a:pt x="1224" y="222"/>
                </a:lnTo>
                <a:lnTo>
                  <a:pt x="1296" y="228"/>
                </a:lnTo>
                <a:lnTo>
                  <a:pt x="1368" y="22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52316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523160" y="5019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45296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45296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45296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971720" y="518148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971720" y="38480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rot="16200000">
            <a:off x="30744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830120" y="549576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830120" y="48672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4830120" y="423864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87296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248440" y="3705120"/>
            <a:ext cx="2171520" cy="524160"/>
          </a:xfrm>
          <a:custGeom>
            <a:avLst/>
            <a:gdLst/>
            <a:ahLst/>
            <a:rect l="l" t="t" r="r" b="b"/>
            <a:pathLst>
              <a:path w="1368" h="330">
                <a:moveTo>
                  <a:pt x="0" y="108"/>
                </a:moveTo>
                <a:lnTo>
                  <a:pt x="72" y="24"/>
                </a:lnTo>
                <a:lnTo>
                  <a:pt x="144" y="0"/>
                </a:lnTo>
                <a:lnTo>
                  <a:pt x="216" y="18"/>
                </a:lnTo>
                <a:lnTo>
                  <a:pt x="288" y="48"/>
                </a:lnTo>
                <a:lnTo>
                  <a:pt x="360" y="84"/>
                </a:lnTo>
                <a:lnTo>
                  <a:pt x="432" y="120"/>
                </a:lnTo>
                <a:lnTo>
                  <a:pt x="504" y="156"/>
                </a:lnTo>
                <a:lnTo>
                  <a:pt x="576" y="192"/>
                </a:lnTo>
                <a:lnTo>
                  <a:pt x="648" y="216"/>
                </a:lnTo>
                <a:lnTo>
                  <a:pt x="720" y="240"/>
                </a:lnTo>
                <a:lnTo>
                  <a:pt x="792" y="264"/>
                </a:lnTo>
                <a:lnTo>
                  <a:pt x="864" y="276"/>
                </a:lnTo>
                <a:lnTo>
                  <a:pt x="936" y="294"/>
                </a:lnTo>
                <a:lnTo>
                  <a:pt x="1008" y="300"/>
                </a:lnTo>
                <a:lnTo>
                  <a:pt x="1080" y="312"/>
                </a:lnTo>
                <a:lnTo>
                  <a:pt x="1152" y="318"/>
                </a:lnTo>
                <a:lnTo>
                  <a:pt x="1224" y="324"/>
                </a:lnTo>
                <a:lnTo>
                  <a:pt x="1296" y="330"/>
                </a:lnTo>
                <a:lnTo>
                  <a:pt x="1368" y="3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248440" y="5267160"/>
            <a:ext cx="2171520" cy="209880"/>
          </a:xfrm>
          <a:custGeom>
            <a:avLst/>
            <a:gdLst/>
            <a:ahLst/>
            <a:rect l="l" t="t" r="r" b="b"/>
            <a:pathLst>
              <a:path w="1368" h="132">
                <a:moveTo>
                  <a:pt x="0" y="132"/>
                </a:moveTo>
                <a:lnTo>
                  <a:pt x="72" y="66"/>
                </a:lnTo>
                <a:lnTo>
                  <a:pt x="144" y="36"/>
                </a:lnTo>
                <a:lnTo>
                  <a:pt x="216" y="12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6"/>
                </a:lnTo>
                <a:lnTo>
                  <a:pt x="576" y="6"/>
                </a:lnTo>
                <a:lnTo>
                  <a:pt x="648" y="12"/>
                </a:lnTo>
                <a:lnTo>
                  <a:pt x="720" y="18"/>
                </a:lnTo>
                <a:lnTo>
                  <a:pt x="792" y="24"/>
                </a:lnTo>
                <a:lnTo>
                  <a:pt x="864" y="24"/>
                </a:lnTo>
                <a:lnTo>
                  <a:pt x="936" y="30"/>
                </a:lnTo>
                <a:lnTo>
                  <a:pt x="1008" y="30"/>
                </a:lnTo>
                <a:lnTo>
                  <a:pt x="1080" y="36"/>
                </a:lnTo>
                <a:lnTo>
                  <a:pt x="1152" y="36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rot="16200000">
            <a:off x="3711240" y="4514400"/>
            <a:ext cx="187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867280" y="3809880"/>
            <a:ext cx="2133720" cy="152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variable is used for the stopping criteria when the model is run to steady state (stop when delta-production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.  Here, since we’re running model for fixed amount of time (5 yrs), we can see how close we come to steady state by the time we stop. At [N]=0.5 mg/L, the response model is at the threshold of steady state by the 5-yr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156132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971720" y="145728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1720" y="27622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483804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83804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83804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248440" y="123840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8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248440" y="289548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1456200" y="54957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456200" y="50198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45620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45620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45620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971720" y="537228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36"/>
                </a:lnTo>
                <a:lnTo>
                  <a:pt x="144" y="30"/>
                </a:lnTo>
                <a:lnTo>
                  <a:pt x="216" y="30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971720" y="39625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rot="16200000">
            <a:off x="60624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5248440" y="4086360"/>
            <a:ext cx="2171520" cy="1238040"/>
          </a:xfrm>
          <a:custGeom>
            <a:avLst/>
            <a:gdLst/>
            <a:ahLst/>
            <a:rect l="l" t="t" r="r" b="b"/>
            <a:pathLst>
              <a:path w="1368" h="780">
                <a:moveTo>
                  <a:pt x="0" y="780"/>
                </a:moveTo>
                <a:lnTo>
                  <a:pt x="72" y="648"/>
                </a:lnTo>
                <a:lnTo>
                  <a:pt x="144" y="546"/>
                </a:lnTo>
                <a:lnTo>
                  <a:pt x="216" y="462"/>
                </a:lnTo>
                <a:lnTo>
                  <a:pt x="288" y="390"/>
                </a:lnTo>
                <a:lnTo>
                  <a:pt x="360" y="330"/>
                </a:lnTo>
                <a:lnTo>
                  <a:pt x="432" y="276"/>
                </a:lnTo>
                <a:lnTo>
                  <a:pt x="504" y="234"/>
                </a:lnTo>
                <a:lnTo>
                  <a:pt x="576" y="198"/>
                </a:lnTo>
                <a:lnTo>
                  <a:pt x="648" y="168"/>
                </a:lnTo>
                <a:lnTo>
                  <a:pt x="720" y="138"/>
                </a:lnTo>
                <a:lnTo>
                  <a:pt x="792" y="114"/>
                </a:lnTo>
                <a:lnTo>
                  <a:pt x="864" y="96"/>
                </a:lnTo>
                <a:lnTo>
                  <a:pt x="936" y="78"/>
                </a:lnTo>
                <a:lnTo>
                  <a:pt x="1008" y="60"/>
                </a:lnTo>
                <a:lnTo>
                  <a:pt x="1080" y="42"/>
                </a:lnTo>
                <a:lnTo>
                  <a:pt x="1152" y="30"/>
                </a:lnTo>
                <a:lnTo>
                  <a:pt x="1224" y="18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5248440" y="5133960"/>
            <a:ext cx="2171520" cy="361800"/>
          </a:xfrm>
          <a:custGeom>
            <a:avLst/>
            <a:gdLst/>
            <a:ahLst/>
            <a:rect l="l" t="t" r="r" b="b"/>
            <a:pathLst>
              <a:path w="1368" h="228">
                <a:moveTo>
                  <a:pt x="0" y="228"/>
                </a:moveTo>
                <a:lnTo>
                  <a:pt x="72" y="192"/>
                </a:lnTo>
                <a:lnTo>
                  <a:pt x="144" y="162"/>
                </a:lnTo>
                <a:lnTo>
                  <a:pt x="216" y="138"/>
                </a:lnTo>
                <a:lnTo>
                  <a:pt x="288" y="120"/>
                </a:lnTo>
                <a:lnTo>
                  <a:pt x="360" y="102"/>
                </a:lnTo>
                <a:lnTo>
                  <a:pt x="432" y="84"/>
                </a:lnTo>
                <a:lnTo>
                  <a:pt x="504" y="72"/>
                </a:lnTo>
                <a:lnTo>
                  <a:pt x="576" y="60"/>
                </a:lnTo>
                <a:lnTo>
                  <a:pt x="648" y="54"/>
                </a:lnTo>
                <a:lnTo>
                  <a:pt x="720" y="48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9012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159012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159012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197172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1971720" y="16765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86648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86648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86648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5248440" y="16095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656720" y="50198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656720" y="45529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65672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971720" y="39625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1971720" y="54673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rot="16200000">
            <a:off x="391212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rot="16200000">
            <a:off x="470160" y="453096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9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1971720" y="1104840"/>
            <a:ext cx="2171520" cy="1476360"/>
          </a:xfrm>
          <a:custGeom>
            <a:avLst/>
            <a:gdLst/>
            <a:ahLst/>
            <a:rect l="l" t="t" r="r" b="b"/>
            <a:pathLst>
              <a:path w="1368" h="930">
                <a:moveTo>
                  <a:pt x="0" y="930"/>
                </a:moveTo>
                <a:lnTo>
                  <a:pt x="72" y="780"/>
                </a:lnTo>
                <a:lnTo>
                  <a:pt x="144" y="660"/>
                </a:lnTo>
                <a:lnTo>
                  <a:pt x="216" y="558"/>
                </a:lnTo>
                <a:lnTo>
                  <a:pt x="288" y="468"/>
                </a:lnTo>
                <a:lnTo>
                  <a:pt x="360" y="402"/>
                </a:lnTo>
                <a:lnTo>
                  <a:pt x="432" y="336"/>
                </a:lnTo>
                <a:lnTo>
                  <a:pt x="504" y="288"/>
                </a:lnTo>
                <a:lnTo>
                  <a:pt x="576" y="240"/>
                </a:lnTo>
                <a:lnTo>
                  <a:pt x="648" y="204"/>
                </a:lnTo>
                <a:lnTo>
                  <a:pt x="720" y="174"/>
                </a:lnTo>
                <a:lnTo>
                  <a:pt x="792" y="144"/>
                </a:lnTo>
                <a:lnTo>
                  <a:pt x="864" y="120"/>
                </a:lnTo>
                <a:lnTo>
                  <a:pt x="936" y="96"/>
                </a:lnTo>
                <a:lnTo>
                  <a:pt x="1008" y="78"/>
                </a:lnTo>
                <a:lnTo>
                  <a:pt x="1080" y="60"/>
                </a:lnTo>
                <a:lnTo>
                  <a:pt x="1152" y="42"/>
                </a:lnTo>
                <a:lnTo>
                  <a:pt x="1224" y="30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1971720" y="2181240"/>
            <a:ext cx="2171520" cy="581040"/>
          </a:xfrm>
          <a:custGeom>
            <a:avLst/>
            <a:gdLst/>
            <a:ahLst/>
            <a:rect l="l" t="t" r="r" b="b"/>
            <a:pathLst>
              <a:path w="1368" h="366">
                <a:moveTo>
                  <a:pt x="0" y="366"/>
                </a:moveTo>
                <a:lnTo>
                  <a:pt x="72" y="306"/>
                </a:lnTo>
                <a:lnTo>
                  <a:pt x="144" y="258"/>
                </a:lnTo>
                <a:lnTo>
                  <a:pt x="216" y="222"/>
                </a:lnTo>
                <a:lnTo>
                  <a:pt x="288" y="186"/>
                </a:lnTo>
                <a:lnTo>
                  <a:pt x="360" y="162"/>
                </a:lnTo>
                <a:lnTo>
                  <a:pt x="432" y="138"/>
                </a:lnTo>
                <a:lnTo>
                  <a:pt x="504" y="114"/>
                </a:lnTo>
                <a:lnTo>
                  <a:pt x="576" y="96"/>
                </a:lnTo>
                <a:lnTo>
                  <a:pt x="648" y="84"/>
                </a:lnTo>
                <a:lnTo>
                  <a:pt x="720" y="72"/>
                </a:lnTo>
                <a:lnTo>
                  <a:pt x="792" y="60"/>
                </a:lnTo>
                <a:lnTo>
                  <a:pt x="864" y="48"/>
                </a:lnTo>
                <a:lnTo>
                  <a:pt x="936" y="42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rot="16200000">
            <a:off x="9666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248440" y="20098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248440" y="20098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rot="16200000">
            <a:off x="348084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169524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169524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1971720" y="3800520"/>
            <a:ext cx="2171520" cy="1476360"/>
          </a:xfrm>
          <a:custGeom>
            <a:avLst/>
            <a:gdLst/>
            <a:ahLst/>
            <a:rect l="l" t="t" r="r" b="b"/>
            <a:pathLst>
              <a:path w="1368" h="930">
                <a:moveTo>
                  <a:pt x="0" y="930"/>
                </a:moveTo>
                <a:lnTo>
                  <a:pt x="72" y="780"/>
                </a:lnTo>
                <a:lnTo>
                  <a:pt x="144" y="654"/>
                </a:lnTo>
                <a:lnTo>
                  <a:pt x="216" y="552"/>
                </a:lnTo>
                <a:lnTo>
                  <a:pt x="288" y="468"/>
                </a:lnTo>
                <a:lnTo>
                  <a:pt x="360" y="396"/>
                </a:lnTo>
                <a:lnTo>
                  <a:pt x="432" y="336"/>
                </a:lnTo>
                <a:lnTo>
                  <a:pt x="504" y="282"/>
                </a:lnTo>
                <a:lnTo>
                  <a:pt x="576" y="240"/>
                </a:lnTo>
                <a:lnTo>
                  <a:pt x="648" y="204"/>
                </a:lnTo>
                <a:lnTo>
                  <a:pt x="720" y="168"/>
                </a:lnTo>
                <a:lnTo>
                  <a:pt x="792" y="138"/>
                </a:lnTo>
                <a:lnTo>
                  <a:pt x="864" y="114"/>
                </a:lnTo>
                <a:lnTo>
                  <a:pt x="936" y="90"/>
                </a:lnTo>
                <a:lnTo>
                  <a:pt x="1008" y="72"/>
                </a:lnTo>
                <a:lnTo>
                  <a:pt x="1080" y="54"/>
                </a:lnTo>
                <a:lnTo>
                  <a:pt x="1152" y="42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1971720" y="4876920"/>
            <a:ext cx="2171520" cy="581040"/>
          </a:xfrm>
          <a:custGeom>
            <a:avLst/>
            <a:gdLst/>
            <a:ahLst/>
            <a:rect l="l" t="t" r="r" b="b"/>
            <a:pathLst>
              <a:path w="1368" h="366">
                <a:moveTo>
                  <a:pt x="0" y="366"/>
                </a:moveTo>
                <a:lnTo>
                  <a:pt x="72" y="306"/>
                </a:lnTo>
                <a:lnTo>
                  <a:pt x="144" y="258"/>
                </a:lnTo>
                <a:lnTo>
                  <a:pt x="216" y="216"/>
                </a:lnTo>
                <a:lnTo>
                  <a:pt x="288" y="186"/>
                </a:lnTo>
                <a:lnTo>
                  <a:pt x="360" y="156"/>
                </a:lnTo>
                <a:lnTo>
                  <a:pt x="432" y="132"/>
                </a:lnTo>
                <a:lnTo>
                  <a:pt x="504" y="114"/>
                </a:lnTo>
                <a:lnTo>
                  <a:pt x="576" y="96"/>
                </a:lnTo>
                <a:lnTo>
                  <a:pt x="648" y="78"/>
                </a:lnTo>
                <a:lnTo>
                  <a:pt x="720" y="66"/>
                </a:lnTo>
                <a:lnTo>
                  <a:pt x="792" y="54"/>
                </a:lnTo>
                <a:lnTo>
                  <a:pt x="864" y="48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rot="16200000">
            <a:off x="68544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486648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486648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486648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5248440" y="4133880"/>
            <a:ext cx="2171520" cy="1190520"/>
          </a:xfrm>
          <a:custGeom>
            <a:avLst/>
            <a:gdLst/>
            <a:ahLst/>
            <a:rect l="l" t="t" r="r" b="b"/>
            <a:pathLst>
              <a:path w="1368" h="750">
                <a:moveTo>
                  <a:pt x="0" y="750"/>
                </a:moveTo>
                <a:lnTo>
                  <a:pt x="72" y="630"/>
                </a:lnTo>
                <a:lnTo>
                  <a:pt x="144" y="528"/>
                </a:lnTo>
                <a:lnTo>
                  <a:pt x="216" y="444"/>
                </a:lnTo>
                <a:lnTo>
                  <a:pt x="288" y="378"/>
                </a:lnTo>
                <a:lnTo>
                  <a:pt x="360" y="318"/>
                </a:lnTo>
                <a:lnTo>
                  <a:pt x="432" y="270"/>
                </a:lnTo>
                <a:lnTo>
                  <a:pt x="504" y="228"/>
                </a:lnTo>
                <a:lnTo>
                  <a:pt x="576" y="192"/>
                </a:lnTo>
                <a:lnTo>
                  <a:pt x="648" y="162"/>
                </a:lnTo>
                <a:lnTo>
                  <a:pt x="720" y="132"/>
                </a:lnTo>
                <a:lnTo>
                  <a:pt x="792" y="108"/>
                </a:lnTo>
                <a:lnTo>
                  <a:pt x="864" y="90"/>
                </a:lnTo>
                <a:lnTo>
                  <a:pt x="936" y="72"/>
                </a:lnTo>
                <a:lnTo>
                  <a:pt x="1008" y="54"/>
                </a:lnTo>
                <a:lnTo>
                  <a:pt x="1080" y="42"/>
                </a:lnTo>
                <a:lnTo>
                  <a:pt x="1152" y="30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5248440" y="5000760"/>
            <a:ext cx="2171520" cy="476280"/>
          </a:xfrm>
          <a:custGeom>
            <a:avLst/>
            <a:gdLst/>
            <a:ahLst/>
            <a:rect l="l" t="t" r="r" b="b"/>
            <a:pathLst>
              <a:path w="1368" h="300">
                <a:moveTo>
                  <a:pt x="0" y="300"/>
                </a:moveTo>
                <a:lnTo>
                  <a:pt x="72" y="252"/>
                </a:lnTo>
                <a:lnTo>
                  <a:pt x="144" y="210"/>
                </a:lnTo>
                <a:lnTo>
                  <a:pt x="216" y="180"/>
                </a:lnTo>
                <a:lnTo>
                  <a:pt x="288" y="150"/>
                </a:lnTo>
                <a:lnTo>
                  <a:pt x="360" y="126"/>
                </a:lnTo>
                <a:lnTo>
                  <a:pt x="432" y="108"/>
                </a:lnTo>
                <a:lnTo>
                  <a:pt x="504" y="90"/>
                </a:lnTo>
                <a:lnTo>
                  <a:pt x="576" y="78"/>
                </a:lnTo>
                <a:lnTo>
                  <a:pt x="648" y="66"/>
                </a:lnTo>
                <a:lnTo>
                  <a:pt x="720" y="54"/>
                </a:lnTo>
                <a:lnTo>
                  <a:pt x="792" y="48"/>
                </a:lnTo>
                <a:lnTo>
                  <a:pt x="864" y="36"/>
                </a:lnTo>
                <a:lnTo>
                  <a:pt x="936" y="30"/>
                </a:lnTo>
                <a:lnTo>
                  <a:pt x="1008" y="24"/>
                </a:lnTo>
                <a:lnTo>
                  <a:pt x="1080" y="18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rot="16200000">
            <a:off x="37029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186696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162792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186696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425772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186696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1971720" y="119052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1971720" y="26478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490464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490464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4904640" y="148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5248440" y="26100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5248440" y="12574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rot="16200000">
            <a:off x="42184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156132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56132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56132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1971720" y="531504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24"/>
                </a:lnTo>
                <a:lnTo>
                  <a:pt x="144" y="24"/>
                </a:lnTo>
                <a:lnTo>
                  <a:pt x="216" y="18"/>
                </a:lnTo>
                <a:lnTo>
                  <a:pt x="288" y="18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1971720" y="380052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497160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5248440" y="395280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5248440" y="55339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 rot="16200000">
            <a:off x="4113720" y="455292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971720" y="14191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1971720" y="2971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49330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493308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93308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493308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493308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49330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5248440" y="11048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5248440" y="28288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 rot="16200000">
            <a:off x="371520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1656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656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1656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1656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1971720" y="55530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1971720" y="38289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rot="16200000">
            <a:off x="4644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5038200" y="4362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503820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5248440" y="39528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5248440" y="5419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176184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1627920" y="2428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1971720" y="14763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1971720" y="26384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 rot="16200000">
            <a:off x="9414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483804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83804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3804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5248440" y="1143000"/>
            <a:ext cx="2171520" cy="1467000"/>
          </a:xfrm>
          <a:custGeom>
            <a:avLst/>
            <a:gdLst/>
            <a:ahLst/>
            <a:rect l="l" t="t" r="r" b="b"/>
            <a:pathLst>
              <a:path w="1368" h="924">
                <a:moveTo>
                  <a:pt x="0" y="0"/>
                </a:moveTo>
                <a:lnTo>
                  <a:pt x="72" y="150"/>
                </a:lnTo>
                <a:lnTo>
                  <a:pt x="144" y="270"/>
                </a:lnTo>
                <a:lnTo>
                  <a:pt x="216" y="372"/>
                </a:lnTo>
                <a:lnTo>
                  <a:pt x="288" y="462"/>
                </a:lnTo>
                <a:lnTo>
                  <a:pt x="360" y="528"/>
                </a:lnTo>
                <a:lnTo>
                  <a:pt x="432" y="588"/>
                </a:lnTo>
                <a:lnTo>
                  <a:pt x="504" y="642"/>
                </a:lnTo>
                <a:lnTo>
                  <a:pt x="576" y="684"/>
                </a:lnTo>
                <a:lnTo>
                  <a:pt x="648" y="726"/>
                </a:lnTo>
                <a:lnTo>
                  <a:pt x="720" y="756"/>
                </a:lnTo>
                <a:lnTo>
                  <a:pt x="792" y="786"/>
                </a:lnTo>
                <a:lnTo>
                  <a:pt x="864" y="810"/>
                </a:lnTo>
                <a:lnTo>
                  <a:pt x="936" y="834"/>
                </a:lnTo>
                <a:lnTo>
                  <a:pt x="1008" y="852"/>
                </a:lnTo>
                <a:lnTo>
                  <a:pt x="1080" y="870"/>
                </a:lnTo>
                <a:lnTo>
                  <a:pt x="1152" y="882"/>
                </a:lnTo>
                <a:lnTo>
                  <a:pt x="1224" y="900"/>
                </a:lnTo>
                <a:lnTo>
                  <a:pt x="1296" y="912"/>
                </a:lnTo>
                <a:lnTo>
                  <a:pt x="1368" y="9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5248440" y="2571840"/>
            <a:ext cx="2171520" cy="323640"/>
          </a:xfrm>
          <a:custGeom>
            <a:avLst/>
            <a:gdLst/>
            <a:ahLst/>
            <a:rect l="l" t="t" r="r" b="b"/>
            <a:pathLst>
              <a:path w="1368" h="204">
                <a:moveTo>
                  <a:pt x="0" y="0"/>
                </a:moveTo>
                <a:lnTo>
                  <a:pt x="72" y="36"/>
                </a:lnTo>
                <a:lnTo>
                  <a:pt x="144" y="60"/>
                </a:lnTo>
                <a:lnTo>
                  <a:pt x="216" y="84"/>
                </a:lnTo>
                <a:lnTo>
                  <a:pt x="288" y="102"/>
                </a:lnTo>
                <a:lnTo>
                  <a:pt x="360" y="114"/>
                </a:lnTo>
                <a:lnTo>
                  <a:pt x="432" y="132"/>
                </a:lnTo>
                <a:lnTo>
                  <a:pt x="504" y="138"/>
                </a:lnTo>
                <a:lnTo>
                  <a:pt x="576" y="150"/>
                </a:lnTo>
                <a:lnTo>
                  <a:pt x="648" y="156"/>
                </a:lnTo>
                <a:lnTo>
                  <a:pt x="720" y="168"/>
                </a:lnTo>
                <a:lnTo>
                  <a:pt x="792" y="174"/>
                </a:lnTo>
                <a:lnTo>
                  <a:pt x="864" y="180"/>
                </a:lnTo>
                <a:lnTo>
                  <a:pt x="936" y="180"/>
                </a:lnTo>
                <a:lnTo>
                  <a:pt x="1008" y="186"/>
                </a:lnTo>
                <a:lnTo>
                  <a:pt x="1080" y="192"/>
                </a:lnTo>
                <a:lnTo>
                  <a:pt x="1152" y="192"/>
                </a:lnTo>
                <a:lnTo>
                  <a:pt x="1224" y="198"/>
                </a:lnTo>
                <a:lnTo>
                  <a:pt x="1296" y="198"/>
                </a:lnTo>
                <a:lnTo>
                  <a:pt x="1368" y="20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152316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52960" y="48672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1452960" y="4238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145296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971720" y="54482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1971720" y="38196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rot="16200000">
            <a:off x="41220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4830120" y="549576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4830120" y="47340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4830120" y="39816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5248440" y="3828960"/>
            <a:ext cx="2171520" cy="1400400"/>
          </a:xfrm>
          <a:custGeom>
            <a:avLst/>
            <a:gdLst/>
            <a:ahLst/>
            <a:rect l="l" t="t" r="r" b="b"/>
            <a:pathLst>
              <a:path w="1368" h="882">
                <a:moveTo>
                  <a:pt x="0" y="498"/>
                </a:moveTo>
                <a:lnTo>
                  <a:pt x="72" y="150"/>
                </a:lnTo>
                <a:lnTo>
                  <a:pt x="144" y="18"/>
                </a:lnTo>
                <a:lnTo>
                  <a:pt x="216" y="0"/>
                </a:lnTo>
                <a:lnTo>
                  <a:pt x="288" y="48"/>
                </a:lnTo>
                <a:lnTo>
                  <a:pt x="360" y="126"/>
                </a:lnTo>
                <a:lnTo>
                  <a:pt x="432" y="222"/>
                </a:lnTo>
                <a:lnTo>
                  <a:pt x="504" y="318"/>
                </a:lnTo>
                <a:lnTo>
                  <a:pt x="576" y="402"/>
                </a:lnTo>
                <a:lnTo>
                  <a:pt x="648" y="486"/>
                </a:lnTo>
                <a:lnTo>
                  <a:pt x="720" y="558"/>
                </a:lnTo>
                <a:lnTo>
                  <a:pt x="792" y="618"/>
                </a:lnTo>
                <a:lnTo>
                  <a:pt x="864" y="672"/>
                </a:lnTo>
                <a:lnTo>
                  <a:pt x="936" y="720"/>
                </a:lnTo>
                <a:lnTo>
                  <a:pt x="1008" y="756"/>
                </a:lnTo>
                <a:lnTo>
                  <a:pt x="1080" y="792"/>
                </a:lnTo>
                <a:lnTo>
                  <a:pt x="1152" y="822"/>
                </a:lnTo>
                <a:lnTo>
                  <a:pt x="1224" y="846"/>
                </a:lnTo>
                <a:lnTo>
                  <a:pt x="1296" y="864"/>
                </a:lnTo>
                <a:lnTo>
                  <a:pt x="1368" y="8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248440" y="4343400"/>
            <a:ext cx="2171520" cy="190440"/>
          </a:xfrm>
          <a:custGeom>
            <a:avLst/>
            <a:gdLst/>
            <a:ahLst/>
            <a:rect l="l" t="t" r="r" b="b"/>
            <a:pathLst>
              <a:path w="1368" h="120">
                <a:moveTo>
                  <a:pt x="0" y="120"/>
                </a:moveTo>
                <a:lnTo>
                  <a:pt x="72" y="48"/>
                </a:lnTo>
                <a:lnTo>
                  <a:pt x="144" y="12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18"/>
                </a:lnTo>
                <a:lnTo>
                  <a:pt x="504" y="30"/>
                </a:lnTo>
                <a:lnTo>
                  <a:pt x="576" y="42"/>
                </a:lnTo>
                <a:lnTo>
                  <a:pt x="648" y="54"/>
                </a:lnTo>
                <a:lnTo>
                  <a:pt x="720" y="66"/>
                </a:lnTo>
                <a:lnTo>
                  <a:pt x="792" y="72"/>
                </a:lnTo>
                <a:lnTo>
                  <a:pt x="864" y="84"/>
                </a:lnTo>
                <a:lnTo>
                  <a:pt x="936" y="90"/>
                </a:lnTo>
                <a:lnTo>
                  <a:pt x="1008" y="96"/>
                </a:lnTo>
                <a:lnTo>
                  <a:pt x="1080" y="102"/>
                </a:lnTo>
                <a:lnTo>
                  <a:pt x="1152" y="108"/>
                </a:lnTo>
                <a:lnTo>
                  <a:pt x="1224" y="114"/>
                </a:lnTo>
                <a:lnTo>
                  <a:pt x="1296" y="114"/>
                </a:lnTo>
                <a:lnTo>
                  <a:pt x="1368" y="12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rot="16200000">
            <a:off x="3711240" y="4514400"/>
            <a:ext cx="187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5867280" y="3809880"/>
            <a:ext cx="2133720" cy="152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variable is used for the stopping criteria when the model is run to steady state (stop when delta-production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.  Here, since we’re running model for fixed amount of time (5 yrs), we can see how close we come to steady state by the time we stop. At [N]=0.7 mg/L, both models are in steady state by the 5-yr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561320" y="2590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1561320" y="1333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1971720" y="13716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1971720" y="28670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483804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483804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5248440" y="1266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5248440" y="26100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1456200" y="51148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1456200" y="43624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145620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1971720" y="5267160"/>
            <a:ext cx="2171520" cy="6696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42"/>
                </a:moveTo>
                <a:lnTo>
                  <a:pt x="72" y="30"/>
                </a:lnTo>
                <a:lnTo>
                  <a:pt x="144" y="24"/>
                </a:lnTo>
                <a:lnTo>
                  <a:pt x="216" y="24"/>
                </a:lnTo>
                <a:lnTo>
                  <a:pt x="288" y="18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1971720" y="40194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 rot="16200000">
            <a:off x="56520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4838040" y="50198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483804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5248440" y="3800520"/>
            <a:ext cx="2171520" cy="1476360"/>
          </a:xfrm>
          <a:custGeom>
            <a:avLst/>
            <a:gdLst/>
            <a:ahLst/>
            <a:rect l="l" t="t" r="r" b="b"/>
            <a:pathLst>
              <a:path w="1368" h="930">
                <a:moveTo>
                  <a:pt x="0" y="930"/>
                </a:moveTo>
                <a:lnTo>
                  <a:pt x="72" y="780"/>
                </a:lnTo>
                <a:lnTo>
                  <a:pt x="144" y="654"/>
                </a:lnTo>
                <a:lnTo>
                  <a:pt x="216" y="552"/>
                </a:lnTo>
                <a:lnTo>
                  <a:pt x="288" y="468"/>
                </a:lnTo>
                <a:lnTo>
                  <a:pt x="360" y="396"/>
                </a:lnTo>
                <a:lnTo>
                  <a:pt x="432" y="336"/>
                </a:lnTo>
                <a:lnTo>
                  <a:pt x="504" y="282"/>
                </a:lnTo>
                <a:lnTo>
                  <a:pt x="576" y="240"/>
                </a:lnTo>
                <a:lnTo>
                  <a:pt x="648" y="204"/>
                </a:lnTo>
                <a:lnTo>
                  <a:pt x="720" y="168"/>
                </a:lnTo>
                <a:lnTo>
                  <a:pt x="792" y="138"/>
                </a:lnTo>
                <a:lnTo>
                  <a:pt x="864" y="114"/>
                </a:lnTo>
                <a:lnTo>
                  <a:pt x="936" y="90"/>
                </a:lnTo>
                <a:lnTo>
                  <a:pt x="1008" y="72"/>
                </a:lnTo>
                <a:lnTo>
                  <a:pt x="1080" y="54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5248440" y="5191200"/>
            <a:ext cx="2171520" cy="314280"/>
          </a:xfrm>
          <a:custGeom>
            <a:avLst/>
            <a:gdLst/>
            <a:ahLst/>
            <a:rect l="l" t="t" r="r" b="b"/>
            <a:pathLst>
              <a:path w="1368" h="198">
                <a:moveTo>
                  <a:pt x="0" y="198"/>
                </a:moveTo>
                <a:lnTo>
                  <a:pt x="72" y="168"/>
                </a:lnTo>
                <a:lnTo>
                  <a:pt x="144" y="138"/>
                </a:lnTo>
                <a:lnTo>
                  <a:pt x="216" y="120"/>
                </a:lnTo>
                <a:lnTo>
                  <a:pt x="288" y="102"/>
                </a:lnTo>
                <a:lnTo>
                  <a:pt x="360" y="84"/>
                </a:lnTo>
                <a:lnTo>
                  <a:pt x="432" y="72"/>
                </a:lnTo>
                <a:lnTo>
                  <a:pt x="504" y="60"/>
                </a:lnTo>
                <a:lnTo>
                  <a:pt x="576" y="48"/>
                </a:lnTo>
                <a:lnTo>
                  <a:pt x="648" y="42"/>
                </a:lnTo>
                <a:lnTo>
                  <a:pt x="720" y="36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7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159012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9012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159012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197172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1971720" y="14670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4866480" y="29052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4866480" y="1962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4866480" y="101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5248440" y="14479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1656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1656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1656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1656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1720" y="39052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1971720" y="522936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rot="16200000">
            <a:off x="391212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 rot="16200000">
            <a:off x="470160" y="453096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1723680" y="2905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1618920" y="242892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1723680" y="19620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1618920" y="148608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1971720" y="1428840"/>
            <a:ext cx="2171520" cy="1342800"/>
          </a:xfrm>
          <a:custGeom>
            <a:avLst/>
            <a:gdLst/>
            <a:ahLst/>
            <a:rect l="l" t="t" r="r" b="b"/>
            <a:pathLst>
              <a:path w="1368" h="846">
                <a:moveTo>
                  <a:pt x="0" y="0"/>
                </a:moveTo>
                <a:lnTo>
                  <a:pt x="72" y="168"/>
                </a:lnTo>
                <a:lnTo>
                  <a:pt x="144" y="294"/>
                </a:lnTo>
                <a:lnTo>
                  <a:pt x="216" y="402"/>
                </a:lnTo>
                <a:lnTo>
                  <a:pt x="288" y="480"/>
                </a:lnTo>
                <a:lnTo>
                  <a:pt x="360" y="552"/>
                </a:lnTo>
                <a:lnTo>
                  <a:pt x="432" y="606"/>
                </a:lnTo>
                <a:lnTo>
                  <a:pt x="504" y="648"/>
                </a:lnTo>
                <a:lnTo>
                  <a:pt x="576" y="684"/>
                </a:lnTo>
                <a:lnTo>
                  <a:pt x="648" y="714"/>
                </a:lnTo>
                <a:lnTo>
                  <a:pt x="720" y="738"/>
                </a:lnTo>
                <a:lnTo>
                  <a:pt x="792" y="756"/>
                </a:lnTo>
                <a:lnTo>
                  <a:pt x="864" y="774"/>
                </a:lnTo>
                <a:lnTo>
                  <a:pt x="936" y="792"/>
                </a:lnTo>
                <a:lnTo>
                  <a:pt x="1008" y="804"/>
                </a:lnTo>
                <a:lnTo>
                  <a:pt x="1080" y="816"/>
                </a:lnTo>
                <a:lnTo>
                  <a:pt x="1152" y="828"/>
                </a:lnTo>
                <a:lnTo>
                  <a:pt x="1224" y="834"/>
                </a:lnTo>
                <a:lnTo>
                  <a:pt x="1296" y="840"/>
                </a:lnTo>
                <a:lnTo>
                  <a:pt x="1368" y="84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1971720" y="1228680"/>
            <a:ext cx="2171520" cy="457200"/>
          </a:xfrm>
          <a:custGeom>
            <a:avLst/>
            <a:gdLst/>
            <a:ahLst/>
            <a:rect l="l" t="t" r="r" b="b"/>
            <a:pathLst>
              <a:path w="1368" h="288">
                <a:moveTo>
                  <a:pt x="0" y="0"/>
                </a:moveTo>
                <a:lnTo>
                  <a:pt x="72" y="66"/>
                </a:lnTo>
                <a:lnTo>
                  <a:pt x="144" y="114"/>
                </a:lnTo>
                <a:lnTo>
                  <a:pt x="216" y="150"/>
                </a:lnTo>
                <a:lnTo>
                  <a:pt x="288" y="180"/>
                </a:lnTo>
                <a:lnTo>
                  <a:pt x="360" y="204"/>
                </a:lnTo>
                <a:lnTo>
                  <a:pt x="432" y="222"/>
                </a:lnTo>
                <a:lnTo>
                  <a:pt x="504" y="234"/>
                </a:lnTo>
                <a:lnTo>
                  <a:pt x="576" y="246"/>
                </a:lnTo>
                <a:lnTo>
                  <a:pt x="648" y="258"/>
                </a:lnTo>
                <a:lnTo>
                  <a:pt x="720" y="264"/>
                </a:lnTo>
                <a:lnTo>
                  <a:pt x="792" y="270"/>
                </a:lnTo>
                <a:lnTo>
                  <a:pt x="864" y="270"/>
                </a:lnTo>
                <a:lnTo>
                  <a:pt x="936" y="276"/>
                </a:lnTo>
                <a:lnTo>
                  <a:pt x="1008" y="276"/>
                </a:lnTo>
                <a:lnTo>
                  <a:pt x="1080" y="282"/>
                </a:lnTo>
                <a:lnTo>
                  <a:pt x="1152" y="282"/>
                </a:lnTo>
                <a:lnTo>
                  <a:pt x="1224" y="282"/>
                </a:lnTo>
                <a:lnTo>
                  <a:pt x="1296" y="282"/>
                </a:lnTo>
                <a:lnTo>
                  <a:pt x="1368" y="28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1971720" y="1162080"/>
            <a:ext cx="2171520" cy="228600"/>
          </a:xfrm>
          <a:custGeom>
            <a:avLst/>
            <a:gdLst/>
            <a:ahLst/>
            <a:rect l="l" t="t" r="r" b="b"/>
            <a:pathLst>
              <a:path w="1368" h="144">
                <a:moveTo>
                  <a:pt x="0" y="0"/>
                </a:moveTo>
                <a:lnTo>
                  <a:pt x="72" y="36"/>
                </a:lnTo>
                <a:lnTo>
                  <a:pt x="144" y="66"/>
                </a:lnTo>
                <a:lnTo>
                  <a:pt x="216" y="84"/>
                </a:lnTo>
                <a:lnTo>
                  <a:pt x="288" y="102"/>
                </a:lnTo>
                <a:lnTo>
                  <a:pt x="360" y="114"/>
                </a:lnTo>
                <a:lnTo>
                  <a:pt x="432" y="120"/>
                </a:lnTo>
                <a:lnTo>
                  <a:pt x="504" y="126"/>
                </a:lnTo>
                <a:lnTo>
                  <a:pt x="576" y="132"/>
                </a:lnTo>
                <a:lnTo>
                  <a:pt x="648" y="138"/>
                </a:lnTo>
                <a:lnTo>
                  <a:pt x="720" y="138"/>
                </a:lnTo>
                <a:lnTo>
                  <a:pt x="792" y="138"/>
                </a:lnTo>
                <a:lnTo>
                  <a:pt x="864" y="144"/>
                </a:lnTo>
                <a:lnTo>
                  <a:pt x="936" y="144"/>
                </a:lnTo>
                <a:lnTo>
                  <a:pt x="1008" y="144"/>
                </a:lnTo>
                <a:lnTo>
                  <a:pt x="1080" y="144"/>
                </a:lnTo>
                <a:lnTo>
                  <a:pt x="1152" y="144"/>
                </a:lnTo>
                <a:lnTo>
                  <a:pt x="1224" y="144"/>
                </a:lnTo>
                <a:lnTo>
                  <a:pt x="1296" y="144"/>
                </a:lnTo>
                <a:lnTo>
                  <a:pt x="1368" y="14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1971720" y="1238400"/>
            <a:ext cx="2171520" cy="685800"/>
          </a:xfrm>
          <a:custGeom>
            <a:avLst/>
            <a:gdLst/>
            <a:ahLst/>
            <a:rect l="l" t="t" r="r" b="b"/>
            <a:pathLst>
              <a:path w="1368" h="432">
                <a:moveTo>
                  <a:pt x="0" y="0"/>
                </a:moveTo>
                <a:lnTo>
                  <a:pt x="72" y="72"/>
                </a:lnTo>
                <a:lnTo>
                  <a:pt x="144" y="132"/>
                </a:lnTo>
                <a:lnTo>
                  <a:pt x="216" y="180"/>
                </a:lnTo>
                <a:lnTo>
                  <a:pt x="288" y="222"/>
                </a:lnTo>
                <a:lnTo>
                  <a:pt x="360" y="258"/>
                </a:lnTo>
                <a:lnTo>
                  <a:pt x="432" y="282"/>
                </a:lnTo>
                <a:lnTo>
                  <a:pt x="504" y="306"/>
                </a:lnTo>
                <a:lnTo>
                  <a:pt x="576" y="330"/>
                </a:lnTo>
                <a:lnTo>
                  <a:pt x="648" y="342"/>
                </a:lnTo>
                <a:lnTo>
                  <a:pt x="720" y="360"/>
                </a:lnTo>
                <a:lnTo>
                  <a:pt x="792" y="372"/>
                </a:lnTo>
                <a:lnTo>
                  <a:pt x="864" y="384"/>
                </a:lnTo>
                <a:lnTo>
                  <a:pt x="936" y="390"/>
                </a:lnTo>
                <a:lnTo>
                  <a:pt x="1008" y="402"/>
                </a:lnTo>
                <a:lnTo>
                  <a:pt x="1080" y="408"/>
                </a:lnTo>
                <a:lnTo>
                  <a:pt x="1152" y="414"/>
                </a:lnTo>
                <a:lnTo>
                  <a:pt x="1224" y="420"/>
                </a:lnTo>
                <a:lnTo>
                  <a:pt x="1296" y="426"/>
                </a:lnTo>
                <a:lnTo>
                  <a:pt x="1368" y="43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1971720" y="1238400"/>
            <a:ext cx="2171520" cy="723600"/>
          </a:xfrm>
          <a:custGeom>
            <a:avLst/>
            <a:gdLst/>
            <a:ahLst/>
            <a:rect l="l" t="t" r="r" b="b"/>
            <a:pathLst>
              <a:path w="1368" h="456">
                <a:moveTo>
                  <a:pt x="0" y="0"/>
                </a:moveTo>
                <a:lnTo>
                  <a:pt x="72" y="78"/>
                </a:lnTo>
                <a:lnTo>
                  <a:pt x="144" y="138"/>
                </a:lnTo>
                <a:lnTo>
                  <a:pt x="216" y="186"/>
                </a:lnTo>
                <a:lnTo>
                  <a:pt x="288" y="228"/>
                </a:lnTo>
                <a:lnTo>
                  <a:pt x="360" y="264"/>
                </a:lnTo>
                <a:lnTo>
                  <a:pt x="432" y="294"/>
                </a:lnTo>
                <a:lnTo>
                  <a:pt x="504" y="318"/>
                </a:lnTo>
                <a:lnTo>
                  <a:pt x="576" y="342"/>
                </a:lnTo>
                <a:lnTo>
                  <a:pt x="648" y="360"/>
                </a:lnTo>
                <a:lnTo>
                  <a:pt x="720" y="378"/>
                </a:lnTo>
                <a:lnTo>
                  <a:pt x="792" y="390"/>
                </a:lnTo>
                <a:lnTo>
                  <a:pt x="864" y="402"/>
                </a:lnTo>
                <a:lnTo>
                  <a:pt x="936" y="414"/>
                </a:lnTo>
                <a:lnTo>
                  <a:pt x="1008" y="420"/>
                </a:lnTo>
                <a:lnTo>
                  <a:pt x="1080" y="432"/>
                </a:lnTo>
                <a:lnTo>
                  <a:pt x="1152" y="438"/>
                </a:lnTo>
                <a:lnTo>
                  <a:pt x="1224" y="444"/>
                </a:lnTo>
                <a:lnTo>
                  <a:pt x="1296" y="450"/>
                </a:lnTo>
                <a:lnTo>
                  <a:pt x="1368" y="45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1971720" y="1209600"/>
            <a:ext cx="2171520" cy="600120"/>
          </a:xfrm>
          <a:custGeom>
            <a:avLst/>
            <a:gdLst/>
            <a:ahLst/>
            <a:rect l="l" t="t" r="r" b="b"/>
            <a:pathLst>
              <a:path w="1368" h="378">
                <a:moveTo>
                  <a:pt x="0" y="0"/>
                </a:moveTo>
                <a:lnTo>
                  <a:pt x="72" y="60"/>
                </a:lnTo>
                <a:lnTo>
                  <a:pt x="144" y="114"/>
                </a:lnTo>
                <a:lnTo>
                  <a:pt x="216" y="150"/>
                </a:lnTo>
                <a:lnTo>
                  <a:pt x="288" y="186"/>
                </a:lnTo>
                <a:lnTo>
                  <a:pt x="360" y="216"/>
                </a:lnTo>
                <a:lnTo>
                  <a:pt x="432" y="240"/>
                </a:lnTo>
                <a:lnTo>
                  <a:pt x="504" y="264"/>
                </a:lnTo>
                <a:lnTo>
                  <a:pt x="576" y="282"/>
                </a:lnTo>
                <a:lnTo>
                  <a:pt x="648" y="294"/>
                </a:lnTo>
                <a:lnTo>
                  <a:pt x="720" y="306"/>
                </a:lnTo>
                <a:lnTo>
                  <a:pt x="792" y="318"/>
                </a:lnTo>
                <a:lnTo>
                  <a:pt x="864" y="330"/>
                </a:lnTo>
                <a:lnTo>
                  <a:pt x="936" y="336"/>
                </a:lnTo>
                <a:lnTo>
                  <a:pt x="1008" y="348"/>
                </a:lnTo>
                <a:lnTo>
                  <a:pt x="1080" y="354"/>
                </a:lnTo>
                <a:lnTo>
                  <a:pt x="1152" y="360"/>
                </a:lnTo>
                <a:lnTo>
                  <a:pt x="1224" y="366"/>
                </a:lnTo>
                <a:lnTo>
                  <a:pt x="1296" y="372"/>
                </a:lnTo>
                <a:lnTo>
                  <a:pt x="1368" y="378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197172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2527920" y="87624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5000400" y="2905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4895640" y="242892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4933080" y="1486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5156280" y="87624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1657080" y="5019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165708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1657080" y="40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176184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1971720" y="4714920"/>
            <a:ext cx="2171520" cy="95040"/>
          </a:xfrm>
          <a:custGeom>
            <a:avLst/>
            <a:gdLst/>
            <a:ahLst/>
            <a:rect l="l" t="t" r="r" b="b"/>
            <a:pathLst>
              <a:path w="1368" h="60">
                <a:moveTo>
                  <a:pt x="0" y="60"/>
                </a:moveTo>
                <a:lnTo>
                  <a:pt x="72" y="54"/>
                </a:lnTo>
                <a:lnTo>
                  <a:pt x="144" y="54"/>
                </a:lnTo>
                <a:lnTo>
                  <a:pt x="216" y="48"/>
                </a:lnTo>
                <a:lnTo>
                  <a:pt x="288" y="42"/>
                </a:lnTo>
                <a:lnTo>
                  <a:pt x="360" y="36"/>
                </a:lnTo>
                <a:lnTo>
                  <a:pt x="432" y="36"/>
                </a:lnTo>
                <a:lnTo>
                  <a:pt x="504" y="30"/>
                </a:lnTo>
                <a:lnTo>
                  <a:pt x="576" y="30"/>
                </a:lnTo>
                <a:lnTo>
                  <a:pt x="648" y="24"/>
                </a:lnTo>
                <a:lnTo>
                  <a:pt x="720" y="24"/>
                </a:lnTo>
                <a:lnTo>
                  <a:pt x="792" y="18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1971720" y="4248000"/>
            <a:ext cx="2171520" cy="142920"/>
          </a:xfrm>
          <a:custGeom>
            <a:avLst/>
            <a:gdLst/>
            <a:ahLst/>
            <a:rect l="l" t="t" r="r" b="b"/>
            <a:pathLst>
              <a:path w="1368" h="90">
                <a:moveTo>
                  <a:pt x="0" y="90"/>
                </a:moveTo>
                <a:lnTo>
                  <a:pt x="72" y="78"/>
                </a:lnTo>
                <a:lnTo>
                  <a:pt x="144" y="72"/>
                </a:lnTo>
                <a:lnTo>
                  <a:pt x="216" y="66"/>
                </a:lnTo>
                <a:lnTo>
                  <a:pt x="288" y="60"/>
                </a:lnTo>
                <a:lnTo>
                  <a:pt x="360" y="54"/>
                </a:lnTo>
                <a:lnTo>
                  <a:pt x="432" y="48"/>
                </a:lnTo>
                <a:lnTo>
                  <a:pt x="504" y="42"/>
                </a:lnTo>
                <a:lnTo>
                  <a:pt x="576" y="36"/>
                </a:lnTo>
                <a:lnTo>
                  <a:pt x="648" y="30"/>
                </a:lnTo>
                <a:lnTo>
                  <a:pt x="720" y="30"/>
                </a:lnTo>
                <a:lnTo>
                  <a:pt x="792" y="24"/>
                </a:lnTo>
                <a:lnTo>
                  <a:pt x="864" y="18"/>
                </a:lnTo>
                <a:lnTo>
                  <a:pt x="936" y="18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1971720" y="4076640"/>
            <a:ext cx="2171520" cy="171360"/>
          </a:xfrm>
          <a:custGeom>
            <a:avLst/>
            <a:gdLst/>
            <a:ahLst/>
            <a:rect l="l" t="t" r="r" b="b"/>
            <a:pathLst>
              <a:path w="1368" h="108">
                <a:moveTo>
                  <a:pt x="0" y="108"/>
                </a:moveTo>
                <a:lnTo>
                  <a:pt x="72" y="102"/>
                </a:lnTo>
                <a:lnTo>
                  <a:pt x="144" y="90"/>
                </a:lnTo>
                <a:lnTo>
                  <a:pt x="216" y="78"/>
                </a:lnTo>
                <a:lnTo>
                  <a:pt x="288" y="72"/>
                </a:lnTo>
                <a:lnTo>
                  <a:pt x="360" y="66"/>
                </a:lnTo>
                <a:lnTo>
                  <a:pt x="432" y="54"/>
                </a:lnTo>
                <a:lnTo>
                  <a:pt x="504" y="48"/>
                </a:lnTo>
                <a:lnTo>
                  <a:pt x="576" y="42"/>
                </a:lnTo>
                <a:lnTo>
                  <a:pt x="648" y="36"/>
                </a:lnTo>
                <a:lnTo>
                  <a:pt x="720" y="30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2"/>
                </a:lnTo>
                <a:lnTo>
                  <a:pt x="1080" y="12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1971720" y="4848120"/>
            <a:ext cx="2171520" cy="4788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24"/>
                </a:lnTo>
                <a:lnTo>
                  <a:pt x="144" y="24"/>
                </a:lnTo>
                <a:lnTo>
                  <a:pt x="216" y="18"/>
                </a:lnTo>
                <a:lnTo>
                  <a:pt x="288" y="18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1971720" y="511488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1971720" y="51912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1971720" y="3686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2118960" y="346716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4933440" y="5019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4933440" y="40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5248440" y="4695840"/>
            <a:ext cx="2171520" cy="11412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72"/>
                </a:moveTo>
                <a:lnTo>
                  <a:pt x="72" y="60"/>
                </a:lnTo>
                <a:lnTo>
                  <a:pt x="144" y="54"/>
                </a:lnTo>
                <a:lnTo>
                  <a:pt x="216" y="48"/>
                </a:lnTo>
                <a:lnTo>
                  <a:pt x="288" y="48"/>
                </a:lnTo>
                <a:lnTo>
                  <a:pt x="360" y="42"/>
                </a:lnTo>
                <a:lnTo>
                  <a:pt x="432" y="36"/>
                </a:lnTo>
                <a:lnTo>
                  <a:pt x="504" y="30"/>
                </a:lnTo>
                <a:lnTo>
                  <a:pt x="576" y="30"/>
                </a:lnTo>
                <a:lnTo>
                  <a:pt x="648" y="24"/>
                </a:lnTo>
                <a:lnTo>
                  <a:pt x="720" y="18"/>
                </a:lnTo>
                <a:lnTo>
                  <a:pt x="792" y="18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5248440" y="4238640"/>
            <a:ext cx="2171520" cy="152280"/>
          </a:xfrm>
          <a:custGeom>
            <a:avLst/>
            <a:gdLst/>
            <a:ahLst/>
            <a:rect l="l" t="t" r="r" b="b"/>
            <a:pathLst>
              <a:path w="1368" h="96">
                <a:moveTo>
                  <a:pt x="0" y="96"/>
                </a:moveTo>
                <a:lnTo>
                  <a:pt x="72" y="84"/>
                </a:lnTo>
                <a:lnTo>
                  <a:pt x="144" y="78"/>
                </a:lnTo>
                <a:lnTo>
                  <a:pt x="216" y="66"/>
                </a:lnTo>
                <a:lnTo>
                  <a:pt x="288" y="60"/>
                </a:lnTo>
                <a:lnTo>
                  <a:pt x="360" y="54"/>
                </a:lnTo>
                <a:lnTo>
                  <a:pt x="432" y="48"/>
                </a:lnTo>
                <a:lnTo>
                  <a:pt x="504" y="42"/>
                </a:lnTo>
                <a:lnTo>
                  <a:pt x="576" y="36"/>
                </a:lnTo>
                <a:lnTo>
                  <a:pt x="648" y="30"/>
                </a:lnTo>
                <a:lnTo>
                  <a:pt x="720" y="24"/>
                </a:lnTo>
                <a:lnTo>
                  <a:pt x="792" y="24"/>
                </a:lnTo>
                <a:lnTo>
                  <a:pt x="864" y="18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5248440" y="4067280"/>
            <a:ext cx="2171520" cy="180720"/>
          </a:xfrm>
          <a:custGeom>
            <a:avLst/>
            <a:gdLst/>
            <a:ahLst/>
            <a:rect l="l" t="t" r="r" b="b"/>
            <a:pathLst>
              <a:path w="1368" h="114">
                <a:moveTo>
                  <a:pt x="0" y="114"/>
                </a:moveTo>
                <a:lnTo>
                  <a:pt x="72" y="102"/>
                </a:lnTo>
                <a:lnTo>
                  <a:pt x="144" y="96"/>
                </a:lnTo>
                <a:lnTo>
                  <a:pt x="216" y="84"/>
                </a:lnTo>
                <a:lnTo>
                  <a:pt x="288" y="78"/>
                </a:lnTo>
                <a:lnTo>
                  <a:pt x="360" y="66"/>
                </a:lnTo>
                <a:lnTo>
                  <a:pt x="432" y="60"/>
                </a:lnTo>
                <a:lnTo>
                  <a:pt x="504" y="54"/>
                </a:lnTo>
                <a:lnTo>
                  <a:pt x="576" y="48"/>
                </a:lnTo>
                <a:lnTo>
                  <a:pt x="648" y="42"/>
                </a:lnTo>
                <a:lnTo>
                  <a:pt x="720" y="36"/>
                </a:lnTo>
                <a:lnTo>
                  <a:pt x="792" y="30"/>
                </a:lnTo>
                <a:lnTo>
                  <a:pt x="864" y="24"/>
                </a:lnTo>
                <a:lnTo>
                  <a:pt x="936" y="18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5248440" y="483876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30"/>
                </a:lnTo>
                <a:lnTo>
                  <a:pt x="144" y="24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5248440" y="51055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5248440" y="518148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5248440" y="3686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5318280" y="346716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rot="16200000">
            <a:off x="361368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 rot="16200000">
            <a:off x="361368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9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3650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1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3652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9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61320" y="25239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6132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6132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6132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71720" y="118116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18"/>
                </a:lnTo>
                <a:lnTo>
                  <a:pt x="144" y="18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71720" y="269568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0464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48440" y="28670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48440" y="140004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6"/>
                </a:moveTo>
                <a:lnTo>
                  <a:pt x="72" y="30"/>
                </a:lnTo>
                <a:lnTo>
                  <a:pt x="144" y="24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42184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27920" y="5495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27920" y="50198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61320" y="40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71720" y="521028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18"/>
                </a:lnTo>
                <a:lnTo>
                  <a:pt x="144" y="18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71720" y="376236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54"/>
                </a:moveTo>
                <a:lnTo>
                  <a:pt x="72" y="48"/>
                </a:lnTo>
                <a:lnTo>
                  <a:pt x="144" y="42"/>
                </a:lnTo>
                <a:lnTo>
                  <a:pt x="216" y="36"/>
                </a:lnTo>
                <a:lnTo>
                  <a:pt x="288" y="30"/>
                </a:lnTo>
                <a:lnTo>
                  <a:pt x="360" y="24"/>
                </a:lnTo>
                <a:lnTo>
                  <a:pt x="432" y="24"/>
                </a:lnTo>
                <a:lnTo>
                  <a:pt x="504" y="18"/>
                </a:lnTo>
                <a:lnTo>
                  <a:pt x="576" y="18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43680" y="5257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505640" y="5257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7160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43680" y="49435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505640" y="494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7160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43680" y="4314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505640" y="4314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7160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3680" y="40006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505640" y="4000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71600" y="392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48440" y="382896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8"/>
                </a:lnTo>
                <a:lnTo>
                  <a:pt x="288" y="18"/>
                </a:lnTo>
                <a:lnTo>
                  <a:pt x="360" y="24"/>
                </a:lnTo>
                <a:lnTo>
                  <a:pt x="432" y="24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48440" y="536256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0"/>
                </a:moveTo>
                <a:lnTo>
                  <a:pt x="72" y="6"/>
                </a:lnTo>
                <a:lnTo>
                  <a:pt x="144" y="18"/>
                </a:lnTo>
                <a:lnTo>
                  <a:pt x="216" y="24"/>
                </a:lnTo>
                <a:lnTo>
                  <a:pt x="288" y="30"/>
                </a:lnTo>
                <a:lnTo>
                  <a:pt x="360" y="30"/>
                </a:lnTo>
                <a:lnTo>
                  <a:pt x="432" y="36"/>
                </a:lnTo>
                <a:lnTo>
                  <a:pt x="504" y="36"/>
                </a:lnTo>
                <a:lnTo>
                  <a:pt x="576" y="36"/>
                </a:lnTo>
                <a:lnTo>
                  <a:pt x="648" y="42"/>
                </a:lnTo>
                <a:lnTo>
                  <a:pt x="720" y="42"/>
                </a:lnTo>
                <a:lnTo>
                  <a:pt x="792" y="42"/>
                </a:lnTo>
                <a:lnTo>
                  <a:pt x="864" y="42"/>
                </a:lnTo>
                <a:lnTo>
                  <a:pt x="936" y="42"/>
                </a:lnTo>
                <a:lnTo>
                  <a:pt x="1008" y="48"/>
                </a:lnTo>
                <a:lnTo>
                  <a:pt x="1080" y="48"/>
                </a:lnTo>
                <a:lnTo>
                  <a:pt x="1152" y="48"/>
                </a:lnTo>
                <a:lnTo>
                  <a:pt x="1224" y="48"/>
                </a:lnTo>
                <a:lnTo>
                  <a:pt x="1296" y="48"/>
                </a:lnTo>
                <a:lnTo>
                  <a:pt x="1368" y="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6200000">
            <a:off x="4113720" y="454752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1971720" y="19526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1971720" y="188604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1971720" y="119052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8"/>
                </a:lnTo>
                <a:lnTo>
                  <a:pt x="144" y="42"/>
                </a:lnTo>
                <a:lnTo>
                  <a:pt x="216" y="30"/>
                </a:lnTo>
                <a:lnTo>
                  <a:pt x="288" y="24"/>
                </a:lnTo>
                <a:lnTo>
                  <a:pt x="360" y="12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12"/>
                </a:lnTo>
                <a:lnTo>
                  <a:pt x="864" y="12"/>
                </a:lnTo>
                <a:lnTo>
                  <a:pt x="936" y="18"/>
                </a:lnTo>
                <a:lnTo>
                  <a:pt x="1008" y="18"/>
                </a:lnTo>
                <a:lnTo>
                  <a:pt x="1080" y="24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1971720" y="259092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8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971720" y="28764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1971720" y="29336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2330280" y="87624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5038200" y="2523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4904640" y="214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4904640" y="1771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4904640" y="1390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5248440" y="26668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5248440" y="24861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5248440" y="126684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42"/>
                </a:moveTo>
                <a:lnTo>
                  <a:pt x="72" y="36"/>
                </a:lnTo>
                <a:lnTo>
                  <a:pt x="144" y="30"/>
                </a:lnTo>
                <a:lnTo>
                  <a:pt x="216" y="18"/>
                </a:lnTo>
                <a:lnTo>
                  <a:pt x="288" y="12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6"/>
                </a:lnTo>
                <a:lnTo>
                  <a:pt x="864" y="6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5248440" y="188604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8"/>
                </a:lnTo>
                <a:lnTo>
                  <a:pt x="648" y="24"/>
                </a:lnTo>
                <a:lnTo>
                  <a:pt x="720" y="24"/>
                </a:lnTo>
                <a:lnTo>
                  <a:pt x="792" y="30"/>
                </a:lnTo>
                <a:lnTo>
                  <a:pt x="864" y="30"/>
                </a:lnTo>
                <a:lnTo>
                  <a:pt x="936" y="36"/>
                </a:lnTo>
                <a:lnTo>
                  <a:pt x="1008" y="36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5248440" y="232416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2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5248440" y="240048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5248440" y="26002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5690160" y="87624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1695240" y="518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1971720" y="53722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1971720" y="52768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1971720" y="3933720"/>
            <a:ext cx="2171520" cy="85680"/>
          </a:xfrm>
          <a:custGeom>
            <a:avLst/>
            <a:gdLst/>
            <a:ahLst/>
            <a:rect l="l" t="t" r="r" b="b"/>
            <a:pathLst>
              <a:path w="1368" h="54">
                <a:moveTo>
                  <a:pt x="0" y="54"/>
                </a:moveTo>
                <a:lnTo>
                  <a:pt x="72" y="48"/>
                </a:lnTo>
                <a:lnTo>
                  <a:pt x="144" y="36"/>
                </a:lnTo>
                <a:lnTo>
                  <a:pt x="216" y="24"/>
                </a:lnTo>
                <a:lnTo>
                  <a:pt x="288" y="18"/>
                </a:lnTo>
                <a:lnTo>
                  <a:pt x="360" y="12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1971720" y="4543560"/>
            <a:ext cx="2171520" cy="95040"/>
          </a:xfrm>
          <a:custGeom>
            <a:avLst/>
            <a:gdLst/>
            <a:ahLst/>
            <a:rect l="l" t="t" r="r" b="b"/>
            <a:pathLst>
              <a:path w="1368" h="60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8"/>
                </a:lnTo>
                <a:lnTo>
                  <a:pt x="432" y="24"/>
                </a:lnTo>
                <a:lnTo>
                  <a:pt x="504" y="24"/>
                </a:lnTo>
                <a:lnTo>
                  <a:pt x="576" y="30"/>
                </a:lnTo>
                <a:lnTo>
                  <a:pt x="648" y="36"/>
                </a:lnTo>
                <a:lnTo>
                  <a:pt x="720" y="42"/>
                </a:lnTo>
                <a:lnTo>
                  <a:pt x="792" y="42"/>
                </a:lnTo>
                <a:lnTo>
                  <a:pt x="864" y="48"/>
                </a:lnTo>
                <a:lnTo>
                  <a:pt x="936" y="48"/>
                </a:lnTo>
                <a:lnTo>
                  <a:pt x="1008" y="54"/>
                </a:lnTo>
                <a:lnTo>
                  <a:pt x="1080" y="54"/>
                </a:lnTo>
                <a:lnTo>
                  <a:pt x="1152" y="54"/>
                </a:lnTo>
                <a:lnTo>
                  <a:pt x="1224" y="60"/>
                </a:lnTo>
                <a:lnTo>
                  <a:pt x="1296" y="60"/>
                </a:lnTo>
                <a:lnTo>
                  <a:pt x="1368" y="6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1971720" y="52862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12"/>
                </a:moveTo>
                <a:lnTo>
                  <a:pt x="72" y="6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12"/>
                </a:lnTo>
                <a:lnTo>
                  <a:pt x="720" y="12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1971720" y="55245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1971720" y="55720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2462040" y="346716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493344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4933440" y="5019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4933440" y="4552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4933440" y="40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5248440" y="39625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5248440" y="383868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6"/>
                </a:lnTo>
                <a:lnTo>
                  <a:pt x="1224" y="0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5248440" y="404820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6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5248440" y="488628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5248440" y="52387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5248440" y="53244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5248440" y="3686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5452560" y="3467160"/>
            <a:ext cx="163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 rot="16200000">
            <a:off x="361368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 rot="16200000">
            <a:off x="361368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4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3875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3877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4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165708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1657080" y="1486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1971720" y="132408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8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1971720" y="12477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1971720" y="182880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1971720" y="23623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971720" y="2552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1971720" y="25812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197172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2400480" y="8762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4933440" y="2905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493344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5038200" y="148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497160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5248440" y="13240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5248440" y="14954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5248440" y="20383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5248440" y="25052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5248440" y="27622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5248440" y="28288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5248440" y="1562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5181840" y="87624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159012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1627920" y="4867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1627920" y="4552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1627920" y="4238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1627920" y="392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1971720" y="53910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1971720" y="53150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1971720" y="455292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1971720" y="40575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1971720" y="3876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1971720" y="38862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1971720" y="5257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1932120" y="34671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4933440" y="50198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5038200" y="4552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490464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5248440" y="36860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5248440" y="43340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5248440" y="53341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5248440" y="54482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5248440" y="54770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5248440" y="54864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5648400" y="346716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 rot="16200000">
            <a:off x="361368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 rot="16200000">
            <a:off x="361368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6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097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8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099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6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>
            <a:off x="1657080" y="2590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1657080" y="2276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1657080" y="196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1657080" y="164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1761840" y="133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1695240" y="101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1971720" y="14000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1971720" y="14000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1971720" y="176220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8"/>
                </a:lnTo>
                <a:lnTo>
                  <a:pt x="504" y="18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1971720" y="241920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1971720" y="26193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1971720" y="26668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1971720" y="1409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2496960" y="87624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5214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5214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>
            <a:off x="5214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7605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5214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>
            <a:off x="5214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 flipV="1">
            <a:off x="5214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V="1">
            <a:off x="5214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5214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 flipV="1">
            <a:off x="5776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5776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 flipV="1">
            <a:off x="6348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6348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V="1">
            <a:off x="6919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6919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 flipV="1">
            <a:off x="7491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7491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5214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 flipH="1">
            <a:off x="7576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4938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5214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 flipH="1">
            <a:off x="7576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5005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5214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 flipH="1">
            <a:off x="7576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5005080" y="2143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5214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 flipH="1">
            <a:off x="7576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5005080" y="1771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5214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 flipH="1">
            <a:off x="7576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5005080" y="1390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5214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 flipH="1">
            <a:off x="7576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5109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5214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5214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 flipV="1">
            <a:off x="7605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 flipV="1">
            <a:off x="5214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5319720" y="10954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5319720" y="109548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18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5319720" y="1638360"/>
            <a:ext cx="2171520" cy="237960"/>
          </a:xfrm>
          <a:custGeom>
            <a:avLst/>
            <a:gdLst/>
            <a:ahLst/>
            <a:rect l="l" t="t" r="r" b="b"/>
            <a:pathLst>
              <a:path w="1368" h="150">
                <a:moveTo>
                  <a:pt x="0" y="150"/>
                </a:moveTo>
                <a:lnTo>
                  <a:pt x="72" y="132"/>
                </a:lnTo>
                <a:lnTo>
                  <a:pt x="144" y="120"/>
                </a:lnTo>
                <a:lnTo>
                  <a:pt x="216" y="108"/>
                </a:lnTo>
                <a:lnTo>
                  <a:pt x="288" y="96"/>
                </a:lnTo>
                <a:lnTo>
                  <a:pt x="360" y="84"/>
                </a:lnTo>
                <a:lnTo>
                  <a:pt x="432" y="78"/>
                </a:lnTo>
                <a:lnTo>
                  <a:pt x="504" y="66"/>
                </a:lnTo>
                <a:lnTo>
                  <a:pt x="576" y="54"/>
                </a:lnTo>
                <a:lnTo>
                  <a:pt x="648" y="48"/>
                </a:lnTo>
                <a:lnTo>
                  <a:pt x="720" y="42"/>
                </a:lnTo>
                <a:lnTo>
                  <a:pt x="792" y="36"/>
                </a:lnTo>
                <a:lnTo>
                  <a:pt x="864" y="30"/>
                </a:lnTo>
                <a:lnTo>
                  <a:pt x="936" y="24"/>
                </a:lnTo>
                <a:lnTo>
                  <a:pt x="1008" y="18"/>
                </a:lnTo>
                <a:lnTo>
                  <a:pt x="1080" y="12"/>
                </a:lnTo>
                <a:lnTo>
                  <a:pt x="1152" y="12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5319720" y="2352600"/>
            <a:ext cx="2171520" cy="4788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30"/>
                </a:lnTo>
                <a:lnTo>
                  <a:pt x="144" y="24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5319720" y="255276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5319720" y="26100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531972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5559840" y="87624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169524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1695240" y="392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1627920" y="3610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1971720" y="5257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1971720" y="50673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1971720" y="3876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1971720" y="406728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1971720" y="43718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1971720" y="45244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1971720" y="5257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2087280" y="346716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5214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5214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5214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 flipV="1">
            <a:off x="7605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 flipV="1">
            <a:off x="5214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5214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 flipV="1">
            <a:off x="5214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5214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5214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 flipV="1">
            <a:off x="5776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5776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 flipV="1">
            <a:off x="6348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6348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 flipV="1">
            <a:off x="6919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6919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 flipV="1">
            <a:off x="7491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7491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5214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 flipH="1">
            <a:off x="7576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4682160" y="5495760"/>
            <a:ext cx="49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5214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 flipH="1">
            <a:off x="7576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4752000" y="48672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5214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 flipH="1">
            <a:off x="7576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5109840" y="423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5214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 flipH="1">
            <a:off x="7576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479484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5214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5214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 flipV="1">
            <a:off x="7605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 flipV="1">
            <a:off x="5214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5319720" y="429588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12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48"/>
                </a:lnTo>
                <a:lnTo>
                  <a:pt x="720" y="0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5319720" y="4286160"/>
            <a:ext cx="2171520" cy="104760"/>
          </a:xfrm>
          <a:custGeom>
            <a:avLst/>
            <a:gdLst/>
            <a:ahLst/>
            <a:rect l="l" t="t" r="r" b="b"/>
            <a:pathLst>
              <a:path w="1368" h="66">
                <a:moveTo>
                  <a:pt x="0" y="18"/>
                </a:moveTo>
                <a:lnTo>
                  <a:pt x="72" y="18"/>
                </a:lnTo>
                <a:lnTo>
                  <a:pt x="144" y="18"/>
                </a:lnTo>
                <a:lnTo>
                  <a:pt x="216" y="18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24"/>
                </a:lnTo>
                <a:lnTo>
                  <a:pt x="648" y="66"/>
                </a:lnTo>
                <a:lnTo>
                  <a:pt x="720" y="0"/>
                </a:lnTo>
                <a:lnTo>
                  <a:pt x="792" y="6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5319720" y="3705120"/>
            <a:ext cx="2171520" cy="1552680"/>
          </a:xfrm>
          <a:custGeom>
            <a:avLst/>
            <a:gdLst/>
            <a:ahLst/>
            <a:rect l="l" t="t" r="r" b="b"/>
            <a:pathLst>
              <a:path w="1368" h="978">
                <a:moveTo>
                  <a:pt x="0" y="420"/>
                </a:moveTo>
                <a:lnTo>
                  <a:pt x="72" y="408"/>
                </a:lnTo>
                <a:lnTo>
                  <a:pt x="144" y="408"/>
                </a:lnTo>
                <a:lnTo>
                  <a:pt x="216" y="408"/>
                </a:lnTo>
                <a:lnTo>
                  <a:pt x="288" y="414"/>
                </a:lnTo>
                <a:lnTo>
                  <a:pt x="360" y="426"/>
                </a:lnTo>
                <a:lnTo>
                  <a:pt x="432" y="456"/>
                </a:lnTo>
                <a:lnTo>
                  <a:pt x="504" y="522"/>
                </a:lnTo>
                <a:lnTo>
                  <a:pt x="576" y="978"/>
                </a:lnTo>
                <a:lnTo>
                  <a:pt x="648" y="0"/>
                </a:lnTo>
                <a:lnTo>
                  <a:pt x="720" y="210"/>
                </a:lnTo>
                <a:lnTo>
                  <a:pt x="792" y="258"/>
                </a:lnTo>
                <a:lnTo>
                  <a:pt x="864" y="282"/>
                </a:lnTo>
                <a:lnTo>
                  <a:pt x="936" y="288"/>
                </a:lnTo>
                <a:lnTo>
                  <a:pt x="1008" y="294"/>
                </a:lnTo>
                <a:lnTo>
                  <a:pt x="1080" y="300"/>
                </a:lnTo>
                <a:lnTo>
                  <a:pt x="1152" y="300"/>
                </a:lnTo>
                <a:lnTo>
                  <a:pt x="1224" y="300"/>
                </a:lnTo>
                <a:lnTo>
                  <a:pt x="1296" y="300"/>
                </a:lnTo>
                <a:lnTo>
                  <a:pt x="1368" y="30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5319720" y="423864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36"/>
                </a:moveTo>
                <a:lnTo>
                  <a:pt x="72" y="24"/>
                </a:lnTo>
                <a:lnTo>
                  <a:pt x="144" y="0"/>
                </a:lnTo>
                <a:lnTo>
                  <a:pt x="216" y="18"/>
                </a:lnTo>
                <a:lnTo>
                  <a:pt x="288" y="30"/>
                </a:lnTo>
                <a:lnTo>
                  <a:pt x="360" y="36"/>
                </a:lnTo>
                <a:lnTo>
                  <a:pt x="432" y="42"/>
                </a:lnTo>
                <a:lnTo>
                  <a:pt x="504" y="42"/>
                </a:lnTo>
                <a:lnTo>
                  <a:pt x="576" y="42"/>
                </a:lnTo>
                <a:lnTo>
                  <a:pt x="648" y="42"/>
                </a:lnTo>
                <a:lnTo>
                  <a:pt x="720" y="42"/>
                </a:lnTo>
                <a:lnTo>
                  <a:pt x="792" y="42"/>
                </a:lnTo>
                <a:lnTo>
                  <a:pt x="864" y="42"/>
                </a:lnTo>
                <a:lnTo>
                  <a:pt x="936" y="42"/>
                </a:lnTo>
                <a:lnTo>
                  <a:pt x="1008" y="42"/>
                </a:lnTo>
                <a:lnTo>
                  <a:pt x="1080" y="42"/>
                </a:lnTo>
                <a:lnTo>
                  <a:pt x="1152" y="42"/>
                </a:lnTo>
                <a:lnTo>
                  <a:pt x="1224" y="42"/>
                </a:lnTo>
                <a:lnTo>
                  <a:pt x="1296" y="42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5319720" y="43052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5319720" y="43149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5319720" y="43149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203508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5056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5618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6190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6761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7333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538308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 rot="16200000">
            <a:off x="368496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rot="16200000">
            <a:off x="341352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1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312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3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314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1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2" name=""/>
          <p:cNvSpPr/>
          <p:nvPr/>
        </p:nvSpPr>
        <p:spPr>
          <a:xfrm>
            <a:off x="5024520" y="3467160"/>
            <a:ext cx="26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203508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531144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5410080" y="3429000"/>
            <a:ext cx="2133720" cy="228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[N]=0.35 mg/L, and intermediate kd,  the response and constant models appear to have VERY different (by 500-1000-fold) values of delta P (i.e., day-to-day change in the rate of plant production; i.e., mg per day per day, or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.  These huge percentages, however, occur because we’re dealing with very small numbers – roughly 0.0006 vs. 0.6.  Thus, in the response model, plant growth rate (not size, but growth rate) has yet to reach an equilibrium.  Growth rate (mg/d) is continuing to rise by 0.6 each day – thus 0.6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1866960" y="26002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 flipH="1">
            <a:off x="4228920" y="26002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165708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1866960" y="2219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 flipH="1">
            <a:off x="4228920" y="2219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1657080" y="2143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1866960" y="18478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4228920" y="1847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1657080" y="1771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1866960" y="14670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 flipH="1">
            <a:off x="4228920" y="1467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1657080" y="1390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176184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1971720" y="11048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1971720" y="11239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71720" y="180972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1971720" y="23814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1971720" y="256212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1971720" y="26100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197172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2306160" y="87624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4933440" y="2523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4933440" y="2143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4933440" y="1771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4933440" y="1390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5038200" y="101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5248440" y="11048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5248440" y="11336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5248440" y="189540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8"/>
                </a:lnTo>
                <a:lnTo>
                  <a:pt x="864" y="18"/>
                </a:lnTo>
                <a:lnTo>
                  <a:pt x="936" y="18"/>
                </a:lnTo>
                <a:lnTo>
                  <a:pt x="1008" y="18"/>
                </a:lnTo>
                <a:lnTo>
                  <a:pt x="1080" y="18"/>
                </a:lnTo>
                <a:lnTo>
                  <a:pt x="1152" y="18"/>
                </a:lnTo>
                <a:lnTo>
                  <a:pt x="1224" y="18"/>
                </a:lnTo>
                <a:lnTo>
                  <a:pt x="1296" y="18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5248440" y="2409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5248440" y="25621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5248440" y="26100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5248440" y="10954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5135040" y="87624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1657080" y="5495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1761840" y="518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169524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1695240" y="4238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1695240" y="392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1971720" y="52671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1971720" y="50385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1971720" y="3876840"/>
            <a:ext cx="2171520" cy="1872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12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1971720" y="438156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1971720" y="48578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1971720" y="50864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1971720" y="525780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2278080" y="346716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4866480" y="549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493344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4933440" y="47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4933440" y="4362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4933440" y="39816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5038200" y="3610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5248440" y="370512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>
            <a:off x="5248440" y="3743280"/>
            <a:ext cx="2171520" cy="2880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5248440" y="4572000"/>
            <a:ext cx="2171520" cy="7632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2"/>
                </a:lnTo>
                <a:lnTo>
                  <a:pt x="144" y="42"/>
                </a:lnTo>
                <a:lnTo>
                  <a:pt x="216" y="36"/>
                </a:lnTo>
                <a:lnTo>
                  <a:pt x="288" y="30"/>
                </a:lnTo>
                <a:lnTo>
                  <a:pt x="360" y="30"/>
                </a:lnTo>
                <a:lnTo>
                  <a:pt x="432" y="24"/>
                </a:lnTo>
                <a:lnTo>
                  <a:pt x="504" y="24"/>
                </a:lnTo>
                <a:lnTo>
                  <a:pt x="576" y="18"/>
                </a:lnTo>
                <a:lnTo>
                  <a:pt x="648" y="18"/>
                </a:lnTo>
                <a:lnTo>
                  <a:pt x="720" y="18"/>
                </a:lnTo>
                <a:lnTo>
                  <a:pt x="792" y="12"/>
                </a:lnTo>
                <a:lnTo>
                  <a:pt x="864" y="12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5248440" y="5019840"/>
            <a:ext cx="2171520" cy="1872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12"/>
                </a:lnTo>
                <a:lnTo>
                  <a:pt x="216" y="12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5248440" y="51624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5248440" y="52102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5248440" y="368604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5525640" y="34671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 rot="16200000">
            <a:off x="361368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 rot="16200000">
            <a:off x="28944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 rot="16200000">
            <a:off x="3613680" y="45104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6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557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8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559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6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"/>
          <p:cNvSpPr/>
          <p:nvPr/>
        </p:nvSpPr>
        <p:spPr>
          <a:xfrm>
            <a:off x="2642040" y="24300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159012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165708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17618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169524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1971720" y="26575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1971720" y="2571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1971720" y="172404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18"/>
                </a:lnTo>
                <a:lnTo>
                  <a:pt x="144" y="12"/>
                </a:lnTo>
                <a:lnTo>
                  <a:pt x="216" y="12"/>
                </a:lnTo>
                <a:lnTo>
                  <a:pt x="288" y="12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1971720" y="13809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1971720" y="12762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1971720" y="1219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197172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4866480" y="2905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>
            <a:off x="5143680" y="2505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 flipH="1">
            <a:off x="7505640" y="250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4933440" y="242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>
            <a:off x="5038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5143680" y="1562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 flipH="1">
            <a:off x="7505640" y="156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4971600" y="14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5248440" y="2552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5248440" y="23907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5248440" y="155268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5248440" y="13525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5248440" y="12668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5248440" y="120960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5248440" y="20383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1866960" y="393372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1866960" y="39337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>
            <a:off x="1866960" y="5819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 flipV="1">
            <a:off x="425772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 flipV="1">
            <a:off x="186696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1866960" y="5819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 flipV="1">
            <a:off x="186696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 flipV="1">
            <a:off x="1866960" y="57909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1866960" y="3933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 flipV="1">
            <a:off x="2428920" y="57909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2428920" y="3933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 flipV="1">
            <a:off x="3000240" y="57909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3000240" y="39337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 flipV="1">
            <a:off x="3571920" y="57909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3571920" y="3933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 flipV="1">
            <a:off x="4143240" y="57909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4143240" y="393372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1866960" y="581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 flipH="1">
            <a:off x="4228920" y="581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1590120" y="5743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1866960" y="550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 flipH="1">
            <a:off x="4228920" y="550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1657080" y="54291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1657080" y="5114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1866960" y="4876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 flipH="1">
            <a:off x="4228920" y="4876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1657080" y="48006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1866960" y="4562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 flipH="1">
            <a:off x="4228920" y="45626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1657080" y="44863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1866960" y="4248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 flipH="1">
            <a:off x="4228920" y="42480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1761840" y="417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1866960" y="39337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 flipH="1">
            <a:off x="4228920" y="39337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1695240" y="385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1866960" y="39337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1866960" y="5819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 flipV="1">
            <a:off x="425772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 flipV="1">
            <a:off x="186696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1971720" y="41529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1971720" y="41911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1971720" y="4848120"/>
            <a:ext cx="2171520" cy="4788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30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1971720" y="53816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1971720" y="54957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1971720" y="55245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1971720" y="42480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5143680" y="393372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5143680" y="39337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5143680" y="5819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753444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 flipV="1">
            <a:off x="514368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5143680" y="5819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 flipV="1">
            <a:off x="514368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 flipV="1">
            <a:off x="5143680" y="57909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5143680" y="3933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 flipV="1">
            <a:off x="5705640" y="57909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5705640" y="3933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 flipV="1">
            <a:off x="6276960" y="57909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6276960" y="3933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 flipV="1">
            <a:off x="6848640" y="57909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6848640" y="3933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 flipV="1">
            <a:off x="7419960" y="57909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7419960" y="393372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5143680" y="581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 flipH="1">
            <a:off x="7505640" y="581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5000400" y="57434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5143680" y="53434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 flipH="1">
            <a:off x="7505640" y="53434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4895640" y="526716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5143680" y="48769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 flipH="1">
            <a:off x="7505640" y="48769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5038200" y="480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5143680" y="44006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 flipH="1">
            <a:off x="7505640" y="44006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4933080" y="4324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5143680" y="393372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 flipH="1">
            <a:off x="7505640" y="39337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5038200" y="3857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5143680" y="393372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5143680" y="581976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 flipV="1">
            <a:off x="753444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 flipV="1">
            <a:off x="5143680" y="393336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5248440" y="48769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5248440" y="48769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5248440" y="48769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5248440" y="48769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>
            <a:off x="5248440" y="48769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5248440" y="48769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5248440" y="487692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170892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227088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284256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341388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398556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2109600" y="601020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498564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554760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611892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669060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7261920" y="5872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5386320" y="601020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 rot="16200000">
            <a:off x="28944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 rot="16200000">
            <a:off x="3613680" y="188964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 rot="16200000">
            <a:off x="289440" y="475812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 rot="16200000">
            <a:off x="3613680" y="4758120"/>
            <a:ext cx="216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dev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sponse model from constant mod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4" name=""/>
          <p:cNvGrpSpPr/>
          <p:nvPr/>
        </p:nvGrpSpPr>
        <p:grpSpPr>
          <a:xfrm>
            <a:off x="7696080" y="1033560"/>
            <a:ext cx="1219320" cy="1523880"/>
            <a:chOff x="7696080" y="1033560"/>
            <a:chExt cx="1219320" cy="1523880"/>
          </a:xfrm>
        </p:grpSpPr>
        <p:sp>
          <p:nvSpPr>
            <p:cNvPr id="4775" name=""/>
            <p:cNvSpPr/>
            <p:nvPr/>
          </p:nvSpPr>
          <p:spPr>
            <a:xfrm>
              <a:off x="8002080" y="105084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6" name=""/>
            <p:cNvGrpSpPr/>
            <p:nvPr/>
          </p:nvGrpSpPr>
          <p:grpSpPr>
            <a:xfrm>
              <a:off x="7827840" y="1295280"/>
              <a:ext cx="1087560" cy="1259640"/>
              <a:chOff x="7827840" y="1295280"/>
              <a:chExt cx="1087560" cy="1259640"/>
            </a:xfrm>
          </p:grpSpPr>
          <p:sp>
            <p:nvSpPr>
              <p:cNvPr id="4777" name=""/>
              <p:cNvSpPr/>
              <p:nvPr/>
            </p:nvSpPr>
            <p:spPr>
              <a:xfrm>
                <a:off x="8153280" y="1295280"/>
                <a:ext cx="762120" cy="12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N] (mg/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V="1">
                <a:off x="7831080" y="1477800"/>
                <a:ext cx="496800" cy="74880"/>
              </a:xfrm>
              <a:custGeom>
                <a:avLst/>
                <a:gdLst/>
                <a:ahLst/>
                <a:rect l="l" t="t" r="r" b="b"/>
                <a:pathLst>
                  <a:path w="253" h="1">
                    <a:moveTo>
                      <a:pt x="0" y="0"/>
                    </a:moveTo>
                    <a:lnTo>
                      <a:pt x="25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829640" y="1725480"/>
                <a:ext cx="498240" cy="74880"/>
              </a:xfrm>
              <a:custGeom>
                <a:avLst/>
                <a:gdLst/>
                <a:ahLst/>
                <a:rect l="l" t="t" r="r" b="b"/>
                <a:pathLst>
                  <a:path w="220" h="1">
                    <a:moveTo>
                      <a:pt x="0" y="0"/>
                    </a:moveTo>
                    <a:lnTo>
                      <a:pt x="220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827840" y="1901880"/>
                <a:ext cx="500040" cy="7452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831080" y="20764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55" h="1">
                    <a:moveTo>
                      <a:pt x="0" y="0"/>
                    </a:moveTo>
                    <a:lnTo>
                      <a:pt x="255" y="0"/>
                    </a:ln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831080" y="2251080"/>
                <a:ext cx="496800" cy="74520"/>
              </a:xfrm>
              <a:custGeom>
                <a:avLst/>
                <a:gdLst/>
                <a:ahLst/>
                <a:rect l="l" t="t" r="r" b="b"/>
                <a:pathLst>
                  <a:path w="292" h="1">
                    <a:moveTo>
                      <a:pt x="0" y="0"/>
                    </a:moveTo>
                    <a:lnTo>
                      <a:pt x="29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829640" y="2425680"/>
                <a:ext cx="498240" cy="74520"/>
              </a:xfrm>
              <a:custGeom>
                <a:avLst/>
                <a:gdLst/>
                <a:ahLst/>
                <a:rect l="l" t="t" r="r" b="b"/>
                <a:pathLst>
                  <a:path w="280" h="1">
                    <a:moveTo>
                      <a:pt x="0" y="0"/>
                    </a:moveTo>
                    <a:lnTo>
                      <a:pt x="280" y="0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4" name=""/>
            <p:cNvSpPr/>
            <p:nvPr/>
          </p:nvSpPr>
          <p:spPr>
            <a:xfrm>
              <a:off x="7696080" y="1033560"/>
              <a:ext cx="1219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5" name=""/>
          <p:cNvSpPr/>
          <p:nvPr/>
        </p:nvSpPr>
        <p:spPr>
          <a:xfrm>
            <a:off x="5625720" y="36702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2145960" y="68580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5457600" y="68580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2171160" y="354348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71720" y="128592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6"/>
                </a:moveTo>
                <a:lnTo>
                  <a:pt x="72" y="30"/>
                </a:lnTo>
                <a:lnTo>
                  <a:pt x="144" y="24"/>
                </a:lnTo>
                <a:lnTo>
                  <a:pt x="216" y="18"/>
                </a:lnTo>
                <a:lnTo>
                  <a:pt x="288" y="18"/>
                </a:lnTo>
                <a:lnTo>
                  <a:pt x="360" y="12"/>
                </a:lnTo>
                <a:lnTo>
                  <a:pt x="432" y="12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71720" y="274320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9330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93308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3308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48440" y="1362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48440" y="275256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30"/>
                </a:lnTo>
                <a:lnTo>
                  <a:pt x="864" y="30"/>
                </a:lnTo>
                <a:lnTo>
                  <a:pt x="936" y="30"/>
                </a:lnTo>
                <a:lnTo>
                  <a:pt x="1008" y="30"/>
                </a:lnTo>
                <a:lnTo>
                  <a:pt x="1080" y="30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364860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9012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90120" y="511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90120" y="4734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90120" y="4362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90120" y="39816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9012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529596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1720" y="384804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6"/>
                </a:moveTo>
                <a:lnTo>
                  <a:pt x="72" y="30"/>
                </a:lnTo>
                <a:lnTo>
                  <a:pt x="144" y="24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6200000">
            <a:off x="3978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38200" y="4362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71600" y="3981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48440" y="39243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48440" y="543888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866960" y="26668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4228920" y="2666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2792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2792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62792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62792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66960" y="14097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4228920" y="140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2792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2792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971720" y="1324080"/>
            <a:ext cx="2171520" cy="114120"/>
          </a:xfrm>
          <a:custGeom>
            <a:avLst/>
            <a:gdLst/>
            <a:ahLst/>
            <a:rect l="l" t="t" r="r" b="b"/>
            <a:pathLst>
              <a:path w="1368" h="72">
                <a:moveTo>
                  <a:pt x="0" y="72"/>
                </a:moveTo>
                <a:lnTo>
                  <a:pt x="72" y="54"/>
                </a:lnTo>
                <a:lnTo>
                  <a:pt x="144" y="42"/>
                </a:lnTo>
                <a:lnTo>
                  <a:pt x="216" y="30"/>
                </a:lnTo>
                <a:lnTo>
                  <a:pt x="288" y="24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71720" y="262908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24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30"/>
                </a:lnTo>
                <a:lnTo>
                  <a:pt x="864" y="30"/>
                </a:lnTo>
                <a:lnTo>
                  <a:pt x="936" y="30"/>
                </a:lnTo>
                <a:lnTo>
                  <a:pt x="1008" y="30"/>
                </a:lnTo>
                <a:lnTo>
                  <a:pt x="1080" y="30"/>
                </a:lnTo>
                <a:lnTo>
                  <a:pt x="1152" y="30"/>
                </a:lnTo>
                <a:lnTo>
                  <a:pt x="1224" y="30"/>
                </a:lnTo>
                <a:lnTo>
                  <a:pt x="1296" y="30"/>
                </a:lnTo>
                <a:lnTo>
                  <a:pt x="1368" y="3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1008000" y="195840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root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143680" y="1085760"/>
            <a:ext cx="2390760" cy="189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38200" y="2905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04640" y="2523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38040" y="17715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143680" y="10857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53444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143680" y="1085400"/>
            <a:ext cx="1440" cy="18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48440" y="1228680"/>
            <a:ext cx="2171520" cy="1419120"/>
          </a:xfrm>
          <a:custGeom>
            <a:avLst/>
            <a:gdLst/>
            <a:ahLst/>
            <a:rect l="l" t="t" r="r" b="b"/>
            <a:pathLst>
              <a:path w="1368" h="894">
                <a:moveTo>
                  <a:pt x="0" y="0"/>
                </a:moveTo>
                <a:lnTo>
                  <a:pt x="72" y="150"/>
                </a:lnTo>
                <a:lnTo>
                  <a:pt x="144" y="270"/>
                </a:lnTo>
                <a:lnTo>
                  <a:pt x="216" y="372"/>
                </a:lnTo>
                <a:lnTo>
                  <a:pt x="288" y="456"/>
                </a:lnTo>
                <a:lnTo>
                  <a:pt x="360" y="528"/>
                </a:lnTo>
                <a:lnTo>
                  <a:pt x="432" y="582"/>
                </a:lnTo>
                <a:lnTo>
                  <a:pt x="504" y="636"/>
                </a:lnTo>
                <a:lnTo>
                  <a:pt x="576" y="678"/>
                </a:lnTo>
                <a:lnTo>
                  <a:pt x="648" y="708"/>
                </a:lnTo>
                <a:lnTo>
                  <a:pt x="720" y="744"/>
                </a:lnTo>
                <a:lnTo>
                  <a:pt x="792" y="768"/>
                </a:lnTo>
                <a:lnTo>
                  <a:pt x="864" y="792"/>
                </a:lnTo>
                <a:lnTo>
                  <a:pt x="936" y="810"/>
                </a:lnTo>
                <a:lnTo>
                  <a:pt x="1008" y="834"/>
                </a:lnTo>
                <a:lnTo>
                  <a:pt x="1080" y="846"/>
                </a:lnTo>
                <a:lnTo>
                  <a:pt x="1152" y="864"/>
                </a:lnTo>
                <a:lnTo>
                  <a:pt x="1224" y="876"/>
                </a:lnTo>
                <a:lnTo>
                  <a:pt x="1296" y="888"/>
                </a:lnTo>
                <a:lnTo>
                  <a:pt x="1368" y="89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248440" y="1952640"/>
            <a:ext cx="2171520" cy="790560"/>
          </a:xfrm>
          <a:custGeom>
            <a:avLst/>
            <a:gdLst/>
            <a:ahLst/>
            <a:rect l="l" t="t" r="r" b="b"/>
            <a:pathLst>
              <a:path w="1368" h="498">
                <a:moveTo>
                  <a:pt x="0" y="0"/>
                </a:moveTo>
                <a:lnTo>
                  <a:pt x="72" y="78"/>
                </a:lnTo>
                <a:lnTo>
                  <a:pt x="144" y="138"/>
                </a:lnTo>
                <a:lnTo>
                  <a:pt x="216" y="192"/>
                </a:lnTo>
                <a:lnTo>
                  <a:pt x="288" y="240"/>
                </a:lnTo>
                <a:lnTo>
                  <a:pt x="360" y="276"/>
                </a:lnTo>
                <a:lnTo>
                  <a:pt x="432" y="312"/>
                </a:lnTo>
                <a:lnTo>
                  <a:pt x="504" y="336"/>
                </a:lnTo>
                <a:lnTo>
                  <a:pt x="576" y="366"/>
                </a:lnTo>
                <a:lnTo>
                  <a:pt x="648" y="384"/>
                </a:lnTo>
                <a:lnTo>
                  <a:pt x="720" y="402"/>
                </a:lnTo>
                <a:lnTo>
                  <a:pt x="792" y="420"/>
                </a:lnTo>
                <a:lnTo>
                  <a:pt x="864" y="432"/>
                </a:lnTo>
                <a:lnTo>
                  <a:pt x="936" y="444"/>
                </a:lnTo>
                <a:lnTo>
                  <a:pt x="1008" y="456"/>
                </a:lnTo>
                <a:lnTo>
                  <a:pt x="1080" y="468"/>
                </a:lnTo>
                <a:lnTo>
                  <a:pt x="1152" y="480"/>
                </a:lnTo>
                <a:lnTo>
                  <a:pt x="1224" y="486"/>
                </a:lnTo>
                <a:lnTo>
                  <a:pt x="1296" y="492"/>
                </a:lnTo>
                <a:lnTo>
                  <a:pt x="1368" y="49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6200000">
            <a:off x="3923280" y="1957320"/>
            <a:ext cx="160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organic matter mass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2316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866960" y="5257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228920" y="5257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23160" y="4867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3160" y="4238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866960" y="40006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228920" y="4000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5296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71720" y="541980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18"/>
                </a:moveTo>
                <a:lnTo>
                  <a:pt x="72" y="12"/>
                </a:lnTo>
                <a:lnTo>
                  <a:pt x="144" y="12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71720" y="390528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6"/>
                </a:moveTo>
                <a:lnTo>
                  <a:pt x="72" y="36"/>
                </a:lnTo>
                <a:lnTo>
                  <a:pt x="144" y="30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rot="16200000">
            <a:off x="467640" y="4555440"/>
            <a:ext cx="182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lant size (g roots + sho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871520" y="549576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71520" y="50198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871520" y="455292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914360" y="4076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91436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248440" y="4105440"/>
            <a:ext cx="2171520" cy="5688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12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12"/>
                </a:lnTo>
                <a:lnTo>
                  <a:pt x="360" y="18"/>
                </a:lnTo>
                <a:lnTo>
                  <a:pt x="432" y="24"/>
                </a:lnTo>
                <a:lnTo>
                  <a:pt x="504" y="24"/>
                </a:lnTo>
                <a:lnTo>
                  <a:pt x="576" y="30"/>
                </a:lnTo>
                <a:lnTo>
                  <a:pt x="648" y="30"/>
                </a:lnTo>
                <a:lnTo>
                  <a:pt x="720" y="36"/>
                </a:lnTo>
                <a:lnTo>
                  <a:pt x="792" y="36"/>
                </a:lnTo>
                <a:lnTo>
                  <a:pt x="864" y="36"/>
                </a:lnTo>
                <a:lnTo>
                  <a:pt x="936" y="36"/>
                </a:lnTo>
                <a:lnTo>
                  <a:pt x="1008" y="36"/>
                </a:lnTo>
                <a:lnTo>
                  <a:pt x="1080" y="36"/>
                </a:lnTo>
                <a:lnTo>
                  <a:pt x="1152" y="36"/>
                </a:lnTo>
                <a:lnTo>
                  <a:pt x="1224" y="36"/>
                </a:lnTo>
                <a:lnTo>
                  <a:pt x="1296" y="36"/>
                </a:lnTo>
                <a:lnTo>
                  <a:pt x="1368" y="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48440" y="5400720"/>
            <a:ext cx="2171520" cy="123840"/>
          </a:xfrm>
          <a:custGeom>
            <a:avLst/>
            <a:gdLst/>
            <a:ahLst/>
            <a:rect l="l" t="t" r="r" b="b"/>
            <a:pathLst>
              <a:path w="1368" h="78">
                <a:moveTo>
                  <a:pt x="0" y="78"/>
                </a:moveTo>
                <a:lnTo>
                  <a:pt x="72" y="42"/>
                </a:lnTo>
                <a:lnTo>
                  <a:pt x="144" y="18"/>
                </a:lnTo>
                <a:lnTo>
                  <a:pt x="216" y="6"/>
                </a:lnTo>
                <a:lnTo>
                  <a:pt x="288" y="6"/>
                </a:lnTo>
                <a:lnTo>
                  <a:pt x="360" y="0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12"/>
                </a:lnTo>
                <a:lnTo>
                  <a:pt x="720" y="18"/>
                </a:lnTo>
                <a:lnTo>
                  <a:pt x="792" y="18"/>
                </a:lnTo>
                <a:lnTo>
                  <a:pt x="864" y="24"/>
                </a:lnTo>
                <a:lnTo>
                  <a:pt x="936" y="24"/>
                </a:lnTo>
                <a:lnTo>
                  <a:pt x="1008" y="30"/>
                </a:lnTo>
                <a:lnTo>
                  <a:pt x="1080" y="30"/>
                </a:lnTo>
                <a:lnTo>
                  <a:pt x="1152" y="36"/>
                </a:lnTo>
                <a:lnTo>
                  <a:pt x="1224" y="36"/>
                </a:lnTo>
                <a:lnTo>
                  <a:pt x="1296" y="36"/>
                </a:lnTo>
                <a:lnTo>
                  <a:pt x="1368" y="4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rot="16200000">
            <a:off x="3711240" y="4514400"/>
            <a:ext cx="187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in rate of plant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n day 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867280" y="3809880"/>
            <a:ext cx="2133720" cy="1675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variable is used for the stopping criteria when the model is run to steady state (stop when delta-production &lt; 0.1 mg/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.  Here, since we’re running model for fixed amount of time (5 yrs), we can see how close we come to steady state by the time we stop.  Obviously, at [N]=0.35 mg / L, the response model is nowhere near steady state by the 5-yr point - see bottom right panel on Slide 2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71720" y="143820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6"/>
                </a:moveTo>
                <a:lnTo>
                  <a:pt x="72" y="30"/>
                </a:lnTo>
                <a:lnTo>
                  <a:pt x="144" y="24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971720" y="278136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rot="16200000">
            <a:off x="744840" y="1953000"/>
            <a:ext cx="14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3804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83804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83804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248440" y="1380960"/>
            <a:ext cx="2171520" cy="57240"/>
          </a:xfrm>
          <a:custGeom>
            <a:avLst/>
            <a:gdLst/>
            <a:ahLst/>
            <a:rect l="l" t="t" r="r" b="b"/>
            <a:pathLst>
              <a:path w="1368" h="36">
                <a:moveTo>
                  <a:pt x="0" y="36"/>
                </a:moveTo>
                <a:lnTo>
                  <a:pt x="72" y="30"/>
                </a:lnTo>
                <a:lnTo>
                  <a:pt x="144" y="30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248440" y="2905200"/>
            <a:ext cx="2171520" cy="28440"/>
          </a:xfrm>
          <a:custGeom>
            <a:avLst/>
            <a:gdLst/>
            <a:ahLst/>
            <a:rect l="l" t="t" r="r" b="b"/>
            <a:pathLst>
              <a:path w="1368" h="18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16200000">
            <a:off x="3565080" y="1952280"/>
            <a:ext cx="23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root death (i.e., OM production)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526400" y="5495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526400" y="5019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456200" y="45529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456200" y="4076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456200" y="361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971720" y="5448240"/>
            <a:ext cx="2171520" cy="66600"/>
          </a:xfrm>
          <a:custGeom>
            <a:avLst/>
            <a:gdLst/>
            <a:ahLst/>
            <a:rect l="l" t="t" r="r" b="b"/>
            <a:pathLst>
              <a:path w="1368" h="42">
                <a:moveTo>
                  <a:pt x="0" y="42"/>
                </a:moveTo>
                <a:lnTo>
                  <a:pt x="72" y="36"/>
                </a:lnTo>
                <a:lnTo>
                  <a:pt x="144" y="30"/>
                </a:lnTo>
                <a:lnTo>
                  <a:pt x="216" y="24"/>
                </a:lnTo>
                <a:lnTo>
                  <a:pt x="288" y="18"/>
                </a:lnTo>
                <a:lnTo>
                  <a:pt x="360" y="18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971720" y="3772080"/>
            <a:ext cx="2171520" cy="75960"/>
          </a:xfrm>
          <a:custGeom>
            <a:avLst/>
            <a:gdLst/>
            <a:ahLst/>
            <a:rect l="l" t="t" r="r" b="b"/>
            <a:pathLst>
              <a:path w="1368" h="48">
                <a:moveTo>
                  <a:pt x="0" y="48"/>
                </a:moveTo>
                <a:lnTo>
                  <a:pt x="72" y="42"/>
                </a:lnTo>
                <a:lnTo>
                  <a:pt x="144" y="36"/>
                </a:lnTo>
                <a:lnTo>
                  <a:pt x="216" y="30"/>
                </a:lnTo>
                <a:lnTo>
                  <a:pt x="288" y="24"/>
                </a:lnTo>
                <a:lnTo>
                  <a:pt x="360" y="18"/>
                </a:lnTo>
                <a:lnTo>
                  <a:pt x="432" y="18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rot="16200000">
            <a:off x="536400" y="454608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plant produc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904640" y="5114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838040" y="4734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838040" y="4362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838040" y="3981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248440" y="3800520"/>
            <a:ext cx="2171520" cy="1466640"/>
          </a:xfrm>
          <a:custGeom>
            <a:avLst/>
            <a:gdLst/>
            <a:ahLst/>
            <a:rect l="l" t="t" r="r" b="b"/>
            <a:pathLst>
              <a:path w="1368" h="924">
                <a:moveTo>
                  <a:pt x="0" y="924"/>
                </a:moveTo>
                <a:lnTo>
                  <a:pt x="72" y="768"/>
                </a:lnTo>
                <a:lnTo>
                  <a:pt x="144" y="642"/>
                </a:lnTo>
                <a:lnTo>
                  <a:pt x="216" y="540"/>
                </a:lnTo>
                <a:lnTo>
                  <a:pt x="288" y="456"/>
                </a:lnTo>
                <a:lnTo>
                  <a:pt x="360" y="384"/>
                </a:lnTo>
                <a:lnTo>
                  <a:pt x="432" y="324"/>
                </a:lnTo>
                <a:lnTo>
                  <a:pt x="504" y="270"/>
                </a:lnTo>
                <a:lnTo>
                  <a:pt x="576" y="228"/>
                </a:lnTo>
                <a:lnTo>
                  <a:pt x="648" y="192"/>
                </a:lnTo>
                <a:lnTo>
                  <a:pt x="720" y="162"/>
                </a:lnTo>
                <a:lnTo>
                  <a:pt x="792" y="132"/>
                </a:lnTo>
                <a:lnTo>
                  <a:pt x="864" y="108"/>
                </a:lnTo>
                <a:lnTo>
                  <a:pt x="936" y="90"/>
                </a:lnTo>
                <a:lnTo>
                  <a:pt x="1008" y="72"/>
                </a:lnTo>
                <a:lnTo>
                  <a:pt x="1080" y="54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48440" y="4638600"/>
            <a:ext cx="2171520" cy="781200"/>
          </a:xfrm>
          <a:custGeom>
            <a:avLst/>
            <a:gdLst/>
            <a:ahLst/>
            <a:rect l="l" t="t" r="r" b="b"/>
            <a:pathLst>
              <a:path w="1368" h="492">
                <a:moveTo>
                  <a:pt x="0" y="492"/>
                </a:moveTo>
                <a:lnTo>
                  <a:pt x="72" y="414"/>
                </a:lnTo>
                <a:lnTo>
                  <a:pt x="144" y="354"/>
                </a:lnTo>
                <a:lnTo>
                  <a:pt x="216" y="300"/>
                </a:lnTo>
                <a:lnTo>
                  <a:pt x="288" y="258"/>
                </a:lnTo>
                <a:lnTo>
                  <a:pt x="360" y="216"/>
                </a:lnTo>
                <a:lnTo>
                  <a:pt x="432" y="186"/>
                </a:lnTo>
                <a:lnTo>
                  <a:pt x="504" y="156"/>
                </a:lnTo>
                <a:lnTo>
                  <a:pt x="576" y="132"/>
                </a:lnTo>
                <a:lnTo>
                  <a:pt x="648" y="114"/>
                </a:lnTo>
                <a:lnTo>
                  <a:pt x="720" y="96"/>
                </a:lnTo>
                <a:lnTo>
                  <a:pt x="792" y="78"/>
                </a:lnTo>
                <a:lnTo>
                  <a:pt x="864" y="66"/>
                </a:lnTo>
                <a:lnTo>
                  <a:pt x="936" y="54"/>
                </a:lnTo>
                <a:lnTo>
                  <a:pt x="1008" y="42"/>
                </a:lnTo>
                <a:lnTo>
                  <a:pt x="1080" y="30"/>
                </a:lnTo>
                <a:lnTo>
                  <a:pt x="1152" y="24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16200000">
            <a:off x="3961440" y="4548960"/>
            <a:ext cx="152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OM decomposed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634040" y="243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3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52316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523160" y="2428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523160" y="1962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523160" y="14860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52316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97172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971720" y="1438200"/>
            <a:ext cx="2171520" cy="162000"/>
          </a:xfrm>
          <a:custGeom>
            <a:avLst/>
            <a:gdLst/>
            <a:ahLst/>
            <a:rect l="l" t="t" r="r" b="b"/>
            <a:pathLst>
              <a:path w="1368" h="102">
                <a:moveTo>
                  <a:pt x="0" y="102"/>
                </a:moveTo>
                <a:lnTo>
                  <a:pt x="72" y="84"/>
                </a:lnTo>
                <a:lnTo>
                  <a:pt x="144" y="66"/>
                </a:lnTo>
                <a:lnTo>
                  <a:pt x="216" y="54"/>
                </a:lnTo>
                <a:lnTo>
                  <a:pt x="288" y="42"/>
                </a:lnTo>
                <a:lnTo>
                  <a:pt x="360" y="30"/>
                </a:lnTo>
                <a:lnTo>
                  <a:pt x="432" y="24"/>
                </a:lnTo>
                <a:lnTo>
                  <a:pt x="504" y="24"/>
                </a:lnTo>
                <a:lnTo>
                  <a:pt x="576" y="18"/>
                </a:lnTo>
                <a:lnTo>
                  <a:pt x="648" y="12"/>
                </a:lnTo>
                <a:lnTo>
                  <a:pt x="720" y="12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799880" y="2905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799880" y="2276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799880" y="1647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799880" y="101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248440" y="29811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248440" y="137160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24"/>
                </a:lnTo>
                <a:lnTo>
                  <a:pt x="144" y="18"/>
                </a:lnTo>
                <a:lnTo>
                  <a:pt x="216" y="18"/>
                </a:lnTo>
                <a:lnTo>
                  <a:pt x="288" y="18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59012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590120" y="501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59012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590120" y="4076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59012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971720" y="377208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971720" y="5381640"/>
            <a:ext cx="2171520" cy="104760"/>
          </a:xfrm>
          <a:custGeom>
            <a:avLst/>
            <a:gdLst/>
            <a:ahLst/>
            <a:rect l="l" t="t" r="r" b="b"/>
            <a:pathLst>
              <a:path w="1368" h="66">
                <a:moveTo>
                  <a:pt x="0" y="0"/>
                </a:moveTo>
                <a:lnTo>
                  <a:pt x="72" y="12"/>
                </a:lnTo>
                <a:lnTo>
                  <a:pt x="144" y="24"/>
                </a:lnTo>
                <a:lnTo>
                  <a:pt x="216" y="30"/>
                </a:lnTo>
                <a:lnTo>
                  <a:pt x="288" y="42"/>
                </a:lnTo>
                <a:lnTo>
                  <a:pt x="360" y="42"/>
                </a:lnTo>
                <a:lnTo>
                  <a:pt x="432" y="48"/>
                </a:lnTo>
                <a:lnTo>
                  <a:pt x="504" y="54"/>
                </a:lnTo>
                <a:lnTo>
                  <a:pt x="576" y="54"/>
                </a:lnTo>
                <a:lnTo>
                  <a:pt x="648" y="60"/>
                </a:lnTo>
                <a:lnTo>
                  <a:pt x="720" y="60"/>
                </a:lnTo>
                <a:lnTo>
                  <a:pt x="792" y="60"/>
                </a:lnTo>
                <a:lnTo>
                  <a:pt x="864" y="66"/>
                </a:lnTo>
                <a:lnTo>
                  <a:pt x="936" y="66"/>
                </a:lnTo>
                <a:lnTo>
                  <a:pt x="1008" y="66"/>
                </a:lnTo>
                <a:lnTo>
                  <a:pt x="1080" y="66"/>
                </a:lnTo>
                <a:lnTo>
                  <a:pt x="1152" y="66"/>
                </a:lnTo>
                <a:lnTo>
                  <a:pt x="1224" y="66"/>
                </a:lnTo>
                <a:lnTo>
                  <a:pt x="1296" y="66"/>
                </a:lnTo>
                <a:lnTo>
                  <a:pt x="1368" y="6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83804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838040" y="4552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83804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248440" y="4629240"/>
            <a:ext cx="2171520" cy="144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16200000">
            <a:off x="3912120" y="4559400"/>
            <a:ext cx="141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steady state rea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16200000">
            <a:off x="3685680" y="1863360"/>
            <a:ext cx="174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w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rot="16200000">
            <a:off x="475560" y="1859760"/>
            <a:ext cx="174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al N content of new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ed tissue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rot="16200000">
            <a:off x="470160" y="453096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ew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cated to roots at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971720" y="1495440"/>
            <a:ext cx="2171520" cy="1228680"/>
          </a:xfrm>
          <a:custGeom>
            <a:avLst/>
            <a:gdLst/>
            <a:ahLst/>
            <a:rect l="l" t="t" r="r" b="b"/>
            <a:pathLst>
              <a:path w="1368" h="774">
                <a:moveTo>
                  <a:pt x="0" y="774"/>
                </a:moveTo>
                <a:lnTo>
                  <a:pt x="72" y="648"/>
                </a:lnTo>
                <a:lnTo>
                  <a:pt x="144" y="546"/>
                </a:lnTo>
                <a:lnTo>
                  <a:pt x="216" y="456"/>
                </a:lnTo>
                <a:lnTo>
                  <a:pt x="288" y="384"/>
                </a:lnTo>
                <a:lnTo>
                  <a:pt x="360" y="324"/>
                </a:lnTo>
                <a:lnTo>
                  <a:pt x="432" y="276"/>
                </a:lnTo>
                <a:lnTo>
                  <a:pt x="504" y="234"/>
                </a:lnTo>
                <a:lnTo>
                  <a:pt x="576" y="198"/>
                </a:lnTo>
                <a:lnTo>
                  <a:pt x="648" y="162"/>
                </a:lnTo>
                <a:lnTo>
                  <a:pt x="720" y="138"/>
                </a:lnTo>
                <a:lnTo>
                  <a:pt x="792" y="114"/>
                </a:lnTo>
                <a:lnTo>
                  <a:pt x="864" y="90"/>
                </a:lnTo>
                <a:lnTo>
                  <a:pt x="936" y="72"/>
                </a:lnTo>
                <a:lnTo>
                  <a:pt x="1008" y="60"/>
                </a:lnTo>
                <a:lnTo>
                  <a:pt x="1080" y="42"/>
                </a:lnTo>
                <a:lnTo>
                  <a:pt x="1152" y="30"/>
                </a:lnTo>
                <a:lnTo>
                  <a:pt x="1224" y="18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971720" y="2228760"/>
            <a:ext cx="2171520" cy="619200"/>
          </a:xfrm>
          <a:custGeom>
            <a:avLst/>
            <a:gdLst/>
            <a:ahLst/>
            <a:rect l="l" t="t" r="r" b="b"/>
            <a:pathLst>
              <a:path w="1368" h="390">
                <a:moveTo>
                  <a:pt x="0" y="390"/>
                </a:moveTo>
                <a:lnTo>
                  <a:pt x="72" y="330"/>
                </a:lnTo>
                <a:lnTo>
                  <a:pt x="144" y="276"/>
                </a:lnTo>
                <a:lnTo>
                  <a:pt x="216" y="234"/>
                </a:lnTo>
                <a:lnTo>
                  <a:pt x="288" y="198"/>
                </a:lnTo>
                <a:lnTo>
                  <a:pt x="360" y="168"/>
                </a:lnTo>
                <a:lnTo>
                  <a:pt x="432" y="144"/>
                </a:lnTo>
                <a:lnTo>
                  <a:pt x="504" y="120"/>
                </a:lnTo>
                <a:lnTo>
                  <a:pt x="576" y="102"/>
                </a:lnTo>
                <a:lnTo>
                  <a:pt x="648" y="84"/>
                </a:lnTo>
                <a:lnTo>
                  <a:pt x="720" y="72"/>
                </a:lnTo>
                <a:lnTo>
                  <a:pt x="792" y="60"/>
                </a:lnTo>
                <a:lnTo>
                  <a:pt x="864" y="48"/>
                </a:lnTo>
                <a:lnTo>
                  <a:pt x="936" y="36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6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rot="16200000">
            <a:off x="966600" y="196380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3804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838040" y="2143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838040" y="1390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248440" y="20667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248440" y="206676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rot="16200000">
            <a:off x="3480840" y="1945800"/>
            <a:ext cx="22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hydrologic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184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866960" y="50958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228920" y="5095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69524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866960" y="4629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4228920" y="4629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69524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4152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228920" y="4152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69524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69524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971720" y="4086360"/>
            <a:ext cx="2171520" cy="1238040"/>
          </a:xfrm>
          <a:custGeom>
            <a:avLst/>
            <a:gdLst/>
            <a:ahLst/>
            <a:rect l="l" t="t" r="r" b="b"/>
            <a:pathLst>
              <a:path w="1368" h="780">
                <a:moveTo>
                  <a:pt x="0" y="780"/>
                </a:moveTo>
                <a:lnTo>
                  <a:pt x="72" y="648"/>
                </a:lnTo>
                <a:lnTo>
                  <a:pt x="144" y="546"/>
                </a:lnTo>
                <a:lnTo>
                  <a:pt x="216" y="462"/>
                </a:lnTo>
                <a:lnTo>
                  <a:pt x="288" y="390"/>
                </a:lnTo>
                <a:lnTo>
                  <a:pt x="360" y="330"/>
                </a:lnTo>
                <a:lnTo>
                  <a:pt x="432" y="276"/>
                </a:lnTo>
                <a:lnTo>
                  <a:pt x="504" y="234"/>
                </a:lnTo>
                <a:lnTo>
                  <a:pt x="576" y="198"/>
                </a:lnTo>
                <a:lnTo>
                  <a:pt x="648" y="168"/>
                </a:lnTo>
                <a:lnTo>
                  <a:pt x="720" y="138"/>
                </a:lnTo>
                <a:lnTo>
                  <a:pt x="792" y="114"/>
                </a:lnTo>
                <a:lnTo>
                  <a:pt x="864" y="96"/>
                </a:lnTo>
                <a:lnTo>
                  <a:pt x="936" y="78"/>
                </a:lnTo>
                <a:lnTo>
                  <a:pt x="1008" y="60"/>
                </a:lnTo>
                <a:lnTo>
                  <a:pt x="1080" y="48"/>
                </a:lnTo>
                <a:lnTo>
                  <a:pt x="1152" y="30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971720" y="4819680"/>
            <a:ext cx="2171520" cy="628560"/>
          </a:xfrm>
          <a:custGeom>
            <a:avLst/>
            <a:gdLst/>
            <a:ahLst/>
            <a:rect l="l" t="t" r="r" b="b"/>
            <a:pathLst>
              <a:path w="1368" h="396">
                <a:moveTo>
                  <a:pt x="0" y="396"/>
                </a:moveTo>
                <a:lnTo>
                  <a:pt x="72" y="330"/>
                </a:lnTo>
                <a:lnTo>
                  <a:pt x="144" y="282"/>
                </a:lnTo>
                <a:lnTo>
                  <a:pt x="216" y="240"/>
                </a:lnTo>
                <a:lnTo>
                  <a:pt x="288" y="204"/>
                </a:lnTo>
                <a:lnTo>
                  <a:pt x="360" y="174"/>
                </a:lnTo>
                <a:lnTo>
                  <a:pt x="432" y="144"/>
                </a:lnTo>
                <a:lnTo>
                  <a:pt x="504" y="126"/>
                </a:lnTo>
                <a:lnTo>
                  <a:pt x="576" y="108"/>
                </a:lnTo>
                <a:lnTo>
                  <a:pt x="648" y="90"/>
                </a:lnTo>
                <a:lnTo>
                  <a:pt x="720" y="78"/>
                </a:lnTo>
                <a:lnTo>
                  <a:pt x="792" y="60"/>
                </a:lnTo>
                <a:lnTo>
                  <a:pt x="864" y="54"/>
                </a:lnTo>
                <a:lnTo>
                  <a:pt x="936" y="42"/>
                </a:lnTo>
                <a:lnTo>
                  <a:pt x="1008" y="30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rot="16200000">
            <a:off x="685440" y="4544280"/>
            <a:ext cx="178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input (g)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866480" y="549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866480" y="4552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866480" y="3610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248440" y="3886200"/>
            <a:ext cx="2171520" cy="1400040"/>
          </a:xfrm>
          <a:custGeom>
            <a:avLst/>
            <a:gdLst/>
            <a:ahLst/>
            <a:rect l="l" t="t" r="r" b="b"/>
            <a:pathLst>
              <a:path w="1368" h="882">
                <a:moveTo>
                  <a:pt x="0" y="882"/>
                </a:moveTo>
                <a:lnTo>
                  <a:pt x="72" y="732"/>
                </a:lnTo>
                <a:lnTo>
                  <a:pt x="144" y="618"/>
                </a:lnTo>
                <a:lnTo>
                  <a:pt x="216" y="516"/>
                </a:lnTo>
                <a:lnTo>
                  <a:pt x="288" y="438"/>
                </a:lnTo>
                <a:lnTo>
                  <a:pt x="360" y="366"/>
                </a:lnTo>
                <a:lnTo>
                  <a:pt x="432" y="312"/>
                </a:lnTo>
                <a:lnTo>
                  <a:pt x="504" y="264"/>
                </a:lnTo>
                <a:lnTo>
                  <a:pt x="576" y="222"/>
                </a:lnTo>
                <a:lnTo>
                  <a:pt x="648" y="186"/>
                </a:lnTo>
                <a:lnTo>
                  <a:pt x="720" y="156"/>
                </a:lnTo>
                <a:lnTo>
                  <a:pt x="792" y="132"/>
                </a:lnTo>
                <a:lnTo>
                  <a:pt x="864" y="108"/>
                </a:lnTo>
                <a:lnTo>
                  <a:pt x="936" y="84"/>
                </a:lnTo>
                <a:lnTo>
                  <a:pt x="1008" y="66"/>
                </a:lnTo>
                <a:lnTo>
                  <a:pt x="1080" y="48"/>
                </a:lnTo>
                <a:lnTo>
                  <a:pt x="1152" y="36"/>
                </a:lnTo>
                <a:lnTo>
                  <a:pt x="1224" y="24"/>
                </a:lnTo>
                <a:lnTo>
                  <a:pt x="1296" y="12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248440" y="4714920"/>
            <a:ext cx="2171520" cy="714240"/>
          </a:xfrm>
          <a:custGeom>
            <a:avLst/>
            <a:gdLst/>
            <a:ahLst/>
            <a:rect l="l" t="t" r="r" b="b"/>
            <a:pathLst>
              <a:path w="1368" h="450">
                <a:moveTo>
                  <a:pt x="0" y="450"/>
                </a:moveTo>
                <a:lnTo>
                  <a:pt x="72" y="378"/>
                </a:lnTo>
                <a:lnTo>
                  <a:pt x="144" y="318"/>
                </a:lnTo>
                <a:lnTo>
                  <a:pt x="216" y="270"/>
                </a:lnTo>
                <a:lnTo>
                  <a:pt x="288" y="228"/>
                </a:lnTo>
                <a:lnTo>
                  <a:pt x="360" y="192"/>
                </a:lnTo>
                <a:lnTo>
                  <a:pt x="432" y="162"/>
                </a:lnTo>
                <a:lnTo>
                  <a:pt x="504" y="138"/>
                </a:lnTo>
                <a:lnTo>
                  <a:pt x="576" y="120"/>
                </a:lnTo>
                <a:lnTo>
                  <a:pt x="648" y="102"/>
                </a:lnTo>
                <a:lnTo>
                  <a:pt x="720" y="84"/>
                </a:lnTo>
                <a:lnTo>
                  <a:pt x="792" y="66"/>
                </a:lnTo>
                <a:lnTo>
                  <a:pt x="864" y="54"/>
                </a:lnTo>
                <a:lnTo>
                  <a:pt x="936" y="42"/>
                </a:lnTo>
                <a:lnTo>
                  <a:pt x="1008" y="36"/>
                </a:lnTo>
                <a:lnTo>
                  <a:pt x="1080" y="24"/>
                </a:lnTo>
                <a:lnTo>
                  <a:pt x="1152" y="18"/>
                </a:lnTo>
                <a:lnTo>
                  <a:pt x="1224" y="12"/>
                </a:lnTo>
                <a:lnTo>
                  <a:pt x="1296" y="6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16200000">
            <a:off x="3702960" y="453780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N input from recyc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62792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866960" y="2505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4228920" y="2505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561320" y="2428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866960" y="2038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4228920" y="2038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561320" y="1962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866960" y="1562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228920" y="1562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561320" y="1486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71720" y="142884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971720" y="289548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rot="16200000">
            <a:off x="795240" y="1954080"/>
            <a:ext cx="130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denitrifica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904640" y="2905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143680" y="26668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7505640" y="2666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904640" y="2590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143680" y="23526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7505640" y="2352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904640" y="227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143680" y="203832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7505640" y="2038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904640" y="196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143680" y="17240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7505640" y="1724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904640" y="1647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143680" y="14097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505640" y="140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904640" y="1333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904640" y="101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248440" y="28004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248440" y="110484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rot="16200000">
            <a:off x="4218480" y="195840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uptake of 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561320" y="5495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866960" y="494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4228920" y="4943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561320" y="4867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866960" y="4314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4228920" y="431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561320" y="4238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561320" y="361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71720" y="5372280"/>
            <a:ext cx="2171520" cy="47520"/>
          </a:xfrm>
          <a:custGeom>
            <a:avLst/>
            <a:gdLst/>
            <a:ahLst/>
            <a:rect l="l" t="t" r="r" b="b"/>
            <a:pathLst>
              <a:path w="1368" h="30">
                <a:moveTo>
                  <a:pt x="0" y="30"/>
                </a:moveTo>
                <a:lnTo>
                  <a:pt x="72" y="24"/>
                </a:lnTo>
                <a:lnTo>
                  <a:pt x="144" y="24"/>
                </a:lnTo>
                <a:lnTo>
                  <a:pt x="216" y="18"/>
                </a:lnTo>
                <a:lnTo>
                  <a:pt x="288" y="18"/>
                </a:lnTo>
                <a:lnTo>
                  <a:pt x="360" y="12"/>
                </a:lnTo>
                <a:lnTo>
                  <a:pt x="432" y="12"/>
                </a:lnTo>
                <a:lnTo>
                  <a:pt x="504" y="12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971720" y="379080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24"/>
                </a:moveTo>
                <a:lnTo>
                  <a:pt x="72" y="18"/>
                </a:lnTo>
                <a:lnTo>
                  <a:pt x="144" y="18"/>
                </a:lnTo>
                <a:lnTo>
                  <a:pt x="216" y="12"/>
                </a:lnTo>
                <a:lnTo>
                  <a:pt x="288" y="12"/>
                </a:lnTo>
                <a:lnTo>
                  <a:pt x="360" y="12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923760" y="4555440"/>
            <a:ext cx="10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export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4971600" y="549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143680" y="509580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7505640" y="5095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971600" y="501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143680" y="462924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7505640" y="4629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971600" y="455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143680" y="415296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750564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971600" y="4076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248440" y="3800520"/>
            <a:ext cx="2171520" cy="38160"/>
          </a:xfrm>
          <a:custGeom>
            <a:avLst/>
            <a:gdLst/>
            <a:ahLst/>
            <a:rect l="l" t="t" r="r" b="b"/>
            <a:pathLst>
              <a:path w="1368" h="24">
                <a:moveTo>
                  <a:pt x="0" y="0"/>
                </a:moveTo>
                <a:lnTo>
                  <a:pt x="72" y="6"/>
                </a:lnTo>
                <a:lnTo>
                  <a:pt x="144" y="12"/>
                </a:lnTo>
                <a:lnTo>
                  <a:pt x="216" y="12"/>
                </a:lnTo>
                <a:lnTo>
                  <a:pt x="288" y="18"/>
                </a:lnTo>
                <a:lnTo>
                  <a:pt x="360" y="18"/>
                </a:lnTo>
                <a:lnTo>
                  <a:pt x="432" y="18"/>
                </a:lnTo>
                <a:lnTo>
                  <a:pt x="504" y="18"/>
                </a:lnTo>
                <a:lnTo>
                  <a:pt x="576" y="24"/>
                </a:lnTo>
                <a:lnTo>
                  <a:pt x="648" y="24"/>
                </a:lnTo>
                <a:lnTo>
                  <a:pt x="720" y="24"/>
                </a:lnTo>
                <a:lnTo>
                  <a:pt x="792" y="24"/>
                </a:lnTo>
                <a:lnTo>
                  <a:pt x="864" y="24"/>
                </a:lnTo>
                <a:lnTo>
                  <a:pt x="936" y="24"/>
                </a:lnTo>
                <a:lnTo>
                  <a:pt x="1008" y="24"/>
                </a:lnTo>
                <a:lnTo>
                  <a:pt x="1080" y="24"/>
                </a:lnTo>
                <a:lnTo>
                  <a:pt x="1152" y="24"/>
                </a:lnTo>
                <a:lnTo>
                  <a:pt x="1224" y="24"/>
                </a:lnTo>
                <a:lnTo>
                  <a:pt x="1296" y="24"/>
                </a:lnTo>
                <a:lnTo>
                  <a:pt x="1368" y="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248440" y="55148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0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12"/>
                </a:lnTo>
                <a:lnTo>
                  <a:pt x="504" y="12"/>
                </a:lnTo>
                <a:lnTo>
                  <a:pt x="576" y="12"/>
                </a:lnTo>
                <a:lnTo>
                  <a:pt x="648" y="12"/>
                </a:lnTo>
                <a:lnTo>
                  <a:pt x="720" y="12"/>
                </a:lnTo>
                <a:lnTo>
                  <a:pt x="792" y="12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rot="16200000">
            <a:off x="4113720" y="4547520"/>
            <a:ext cx="148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nt of N input ret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1633680" y="2430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put from model run for 1825 days at [N] = 0.5 mg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86696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186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86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2428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428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3000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000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357192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57192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4143240" y="29523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143240" y="1095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866960" y="29811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4228920" y="29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561320" y="29052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866960" y="23526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4228920" y="23526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561320" y="22766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866960" y="1724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4228920" y="172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561320" y="16477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866960" y="10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4228920" y="109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561320" y="1019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86696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86696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425772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186696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1971720" y="1257480"/>
            <a:ext cx="2171520" cy="1872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12"/>
                </a:moveTo>
                <a:lnTo>
                  <a:pt x="72" y="12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971720" y="287640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857520" y="1959840"/>
            <a:ext cx="118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mul N retention (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143680" y="1095480"/>
            <a:ext cx="2390760" cy="1885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514368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14368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5705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705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276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276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684864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684864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7419960" y="29523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7419960" y="1095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143680" y="29811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7505640" y="2981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4933080" y="29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143680" y="26002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7505640" y="2600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933080" y="2523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143680" y="22194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7505640" y="2219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4933080" y="2143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143680" y="18478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7505640" y="1847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4933080" y="177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143680" y="14670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750564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933080" y="1390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143680" y="109548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7505640" y="1095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933080" y="1019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143680" y="109548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143680" y="298116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753444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5143680" y="1095480"/>
            <a:ext cx="1440" cy="18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248440" y="14479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248440" y="2819520"/>
            <a:ext cx="2171520" cy="936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6"/>
                </a:lnTo>
                <a:lnTo>
                  <a:pt x="936" y="6"/>
                </a:lnTo>
                <a:lnTo>
                  <a:pt x="1008" y="6"/>
                </a:lnTo>
                <a:lnTo>
                  <a:pt x="1080" y="6"/>
                </a:lnTo>
                <a:lnTo>
                  <a:pt x="1152" y="6"/>
                </a:lnTo>
                <a:lnTo>
                  <a:pt x="1224" y="6"/>
                </a:lnTo>
                <a:lnTo>
                  <a:pt x="1296" y="6"/>
                </a:lnTo>
                <a:lnTo>
                  <a:pt x="1368" y="6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rot="16200000">
            <a:off x="3715200" y="1930320"/>
            <a:ext cx="220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denit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86696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86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86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2428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2428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3000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3000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357192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57192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4143240" y="554328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143240" y="36860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866960" y="55720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4228920" y="5572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656720" y="5495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866960" y="5191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4228920" y="519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656720" y="511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866960" y="48099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4228920" y="4809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656720" y="4734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866960" y="4438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422892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656720" y="43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866960" y="405756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4228920" y="4057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656720" y="39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866960" y="36860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4228920" y="3686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656720" y="3610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86696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86696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425772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186696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71720" y="52005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971720" y="3828960"/>
            <a:ext cx="2171520" cy="9720"/>
          </a:xfrm>
          <a:custGeom>
            <a:avLst/>
            <a:gdLst/>
            <a:ahLst/>
            <a:rect l="l" t="t" r="r" b="b"/>
            <a:pathLst>
              <a:path w="1368" h="6">
                <a:moveTo>
                  <a:pt x="0" y="6"/>
                </a:moveTo>
                <a:lnTo>
                  <a:pt x="72" y="6"/>
                </a:lnTo>
                <a:lnTo>
                  <a:pt x="144" y="6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rot="16200000">
            <a:off x="464400" y="4534560"/>
            <a:ext cx="21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rtion of retention via plant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5143680" y="3686040"/>
            <a:ext cx="2390760" cy="1886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514368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514368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5705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5705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6276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276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684864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84864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7419960" y="554328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19960" y="36860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143680" y="557208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7505640" y="5572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038200" y="549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143680" y="51912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H="1">
            <a:off x="7505640" y="5191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038200" y="511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143680" y="48099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flipH="1">
            <a:off x="7505640" y="4809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38200" y="473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143680" y="4438800"/>
            <a:ext cx="1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7505640" y="4438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038200" y="4362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143680" y="405756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7505640" y="4057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038200" y="398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143680" y="3686040"/>
            <a:ext cx="1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7505640" y="3686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971600" y="3610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143680" y="36860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5143680" y="55720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753444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5143680" y="3685680"/>
            <a:ext cx="1440" cy="18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248440" y="3781440"/>
            <a:ext cx="2171520" cy="19080"/>
          </a:xfrm>
          <a:custGeom>
            <a:avLst/>
            <a:gdLst/>
            <a:ahLst/>
            <a:rect l="l" t="t" r="r" b="b"/>
            <a:pathLst>
              <a:path w="1368" h="12">
                <a:moveTo>
                  <a:pt x="0" y="0"/>
                </a:moveTo>
                <a:lnTo>
                  <a:pt x="72" y="6"/>
                </a:lnTo>
                <a:lnTo>
                  <a:pt x="144" y="6"/>
                </a:lnTo>
                <a:lnTo>
                  <a:pt x="216" y="6"/>
                </a:lnTo>
                <a:lnTo>
                  <a:pt x="288" y="6"/>
                </a:lnTo>
                <a:lnTo>
                  <a:pt x="360" y="6"/>
                </a:lnTo>
                <a:lnTo>
                  <a:pt x="432" y="6"/>
                </a:lnTo>
                <a:lnTo>
                  <a:pt x="504" y="6"/>
                </a:lnTo>
                <a:lnTo>
                  <a:pt x="576" y="6"/>
                </a:lnTo>
                <a:lnTo>
                  <a:pt x="648" y="6"/>
                </a:lnTo>
                <a:lnTo>
                  <a:pt x="720" y="6"/>
                </a:lnTo>
                <a:lnTo>
                  <a:pt x="792" y="6"/>
                </a:lnTo>
                <a:lnTo>
                  <a:pt x="864" y="12"/>
                </a:lnTo>
                <a:lnTo>
                  <a:pt x="936" y="12"/>
                </a:lnTo>
                <a:lnTo>
                  <a:pt x="1008" y="12"/>
                </a:lnTo>
                <a:lnTo>
                  <a:pt x="1080" y="12"/>
                </a:lnTo>
                <a:lnTo>
                  <a:pt x="1152" y="12"/>
                </a:lnTo>
                <a:lnTo>
                  <a:pt x="1224" y="12"/>
                </a:lnTo>
                <a:lnTo>
                  <a:pt x="1296" y="12"/>
                </a:lnTo>
                <a:lnTo>
                  <a:pt x="1368" y="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248440" y="5343480"/>
            <a:ext cx="2171520" cy="1800"/>
          </a:xfrm>
          <a:custGeom>
            <a:avLst/>
            <a:gdLst/>
            <a:ahLst/>
            <a:rect l="l" t="t" r="r" b="b"/>
            <a:pathLst>
              <a:path w="1368" h="0">
                <a:moveTo>
                  <a:pt x="0" y="0"/>
                </a:moveTo>
                <a:lnTo>
                  <a:pt x="72" y="0"/>
                </a:lnTo>
                <a:lnTo>
                  <a:pt x="144" y="0"/>
                </a:lnTo>
                <a:lnTo>
                  <a:pt x="216" y="0"/>
                </a:lnTo>
                <a:lnTo>
                  <a:pt x="288" y="0"/>
                </a:lnTo>
                <a:lnTo>
                  <a:pt x="360" y="0"/>
                </a:lnTo>
                <a:lnTo>
                  <a:pt x="432" y="0"/>
                </a:lnTo>
                <a:lnTo>
                  <a:pt x="504" y="0"/>
                </a:lnTo>
                <a:lnTo>
                  <a:pt x="576" y="0"/>
                </a:lnTo>
                <a:lnTo>
                  <a:pt x="648" y="0"/>
                </a:lnTo>
                <a:lnTo>
                  <a:pt x="720" y="0"/>
                </a:lnTo>
                <a:lnTo>
                  <a:pt x="792" y="0"/>
                </a:lnTo>
                <a:lnTo>
                  <a:pt x="864" y="0"/>
                </a:lnTo>
                <a:lnTo>
                  <a:pt x="936" y="0"/>
                </a:lnTo>
                <a:lnTo>
                  <a:pt x="1008" y="0"/>
                </a:lnTo>
                <a:lnTo>
                  <a:pt x="1080" y="0"/>
                </a:lnTo>
                <a:lnTo>
                  <a:pt x="1152" y="0"/>
                </a:lnTo>
                <a:lnTo>
                  <a:pt x="1224" y="0"/>
                </a:lnTo>
                <a:lnTo>
                  <a:pt x="1296" y="0"/>
                </a:lnTo>
                <a:lnTo>
                  <a:pt x="1368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rot="16200000">
            <a:off x="4244040" y="455472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70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270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2842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41388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98556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210960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86084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98564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547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118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669060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7261920" y="3033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386320" y="317196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137200" y="87624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70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270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842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41388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98556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10960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6084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98564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547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118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69060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261920" y="562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386320" y="5762520"/>
            <a:ext cx="175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 decomp rate constant (1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137200" y="346716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6:35:07Z</dcterms:created>
  <dc:creator>dlewis1</dc:creator>
  <dc:description/>
  <dc:language>en-US</dc:language>
  <cp:lastModifiedBy>jwelter</cp:lastModifiedBy>
  <dcterms:modified xsi:type="dcterms:W3CDTF">2004-10-25T23:29:51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05416664</vt:r8>
  </property>
  <property fmtid="{D5CDD505-2E9C-101B-9397-08002B2CF9AE}" pid="3" name="_AuthorEmail">
    <vt:lpwstr>David.Lewis@asu.edu</vt:lpwstr>
  </property>
  <property fmtid="{D5CDD505-2E9C-101B-9397-08002B2CF9AE}" pid="4" name="_AuthorEmailDisplayName">
    <vt:lpwstr>David Lewis</vt:lpwstr>
  </property>
  <property fmtid="{D5CDD505-2E9C-101B-9397-08002B2CF9AE}" pid="5" name="_EmailSubject">
    <vt:lpwstr>Kd sensitivity analyses</vt:lpwstr>
  </property>
</Properties>
</file>