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EC9-B8FD-4031-A125-BDFC4301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C40-C3B3-44BA-A68A-29324064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876-99D7-43EF-9DC2-AD0481D5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361-371E-45B4-AF4C-0264AEA3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E2A-A92D-4009-ADDD-AAEF596A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6ED-1246-41C5-85F7-047D4748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ED1-A177-4AC2-9425-544C13BA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AED-FD7F-46BB-960D-E1B1E8B4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E04-D422-4A37-8F80-AA8DCD6E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BA9-59EF-484C-A1CC-DFF68B1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DAF-A680-4BE5-BB49-6F37581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8BA-4316-4F58-B994-DD0F238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4F21-A669-4D9F-84BB-9FEA472F1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9240" y="4879800"/>
            <a:ext cx="743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9240" y="4056120"/>
            <a:ext cx="743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9240" y="3214800"/>
            <a:ext cx="7432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9240" y="2389320"/>
            <a:ext cx="74325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9240" y="1565280"/>
            <a:ext cx="7432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9240" y="1154160"/>
            <a:ext cx="7432560" cy="4549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9240" y="1154160"/>
            <a:ext cx="1440" cy="4549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58760" y="5703840"/>
            <a:ext cx="604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58760" y="48798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58760" y="405612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58760" y="3214800"/>
            <a:ext cx="60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58760" y="2389320"/>
            <a:ext cx="60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58760" y="1565280"/>
            <a:ext cx="60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9240" y="5703840"/>
            <a:ext cx="74325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19240" y="5703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57240" y="5703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06760" y="5703480"/>
            <a:ext cx="468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344760" y="5703480"/>
            <a:ext cx="50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097160" y="5703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35520" y="5703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573880" y="5703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323040" y="5703480"/>
            <a:ext cx="14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061040" y="5703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812000" y="5703480"/>
            <a:ext cx="324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8551800" y="5703480"/>
            <a:ext cx="180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90520" y="1500120"/>
            <a:ext cx="7361280" cy="2851200"/>
          </a:xfrm>
          <a:custGeom>
            <a:avLst/>
            <a:gdLst/>
            <a:ahLst/>
            <a:rect l="l" t="t" r="r" b="b"/>
            <a:pathLst>
              <a:path w="618" h="173">
                <a:moveTo>
                  <a:pt x="0" y="173"/>
                </a:moveTo>
                <a:lnTo>
                  <a:pt x="19" y="141"/>
                </a:lnTo>
                <a:lnTo>
                  <a:pt x="38" y="123"/>
                </a:lnTo>
                <a:lnTo>
                  <a:pt x="56" y="94"/>
                </a:lnTo>
                <a:lnTo>
                  <a:pt x="75" y="61"/>
                </a:lnTo>
                <a:lnTo>
                  <a:pt x="94" y="29"/>
                </a:lnTo>
                <a:lnTo>
                  <a:pt x="113" y="6"/>
                </a:lnTo>
                <a:lnTo>
                  <a:pt x="131" y="0"/>
                </a:lnTo>
                <a:lnTo>
                  <a:pt x="150" y="14"/>
                </a:lnTo>
                <a:lnTo>
                  <a:pt x="169" y="41"/>
                </a:lnTo>
                <a:lnTo>
                  <a:pt x="187" y="70"/>
                </a:lnTo>
                <a:lnTo>
                  <a:pt x="206" y="94"/>
                </a:lnTo>
                <a:lnTo>
                  <a:pt x="225" y="113"/>
                </a:lnTo>
                <a:lnTo>
                  <a:pt x="244" y="130"/>
                </a:lnTo>
                <a:lnTo>
                  <a:pt x="262" y="91"/>
                </a:lnTo>
                <a:lnTo>
                  <a:pt x="281" y="95"/>
                </a:lnTo>
                <a:lnTo>
                  <a:pt x="300" y="99"/>
                </a:lnTo>
                <a:lnTo>
                  <a:pt x="318" y="102"/>
                </a:lnTo>
                <a:lnTo>
                  <a:pt x="337" y="104"/>
                </a:lnTo>
                <a:lnTo>
                  <a:pt x="356" y="106"/>
                </a:lnTo>
                <a:lnTo>
                  <a:pt x="375" y="108"/>
                </a:lnTo>
                <a:lnTo>
                  <a:pt x="393" y="109"/>
                </a:lnTo>
                <a:lnTo>
                  <a:pt x="412" y="110"/>
                </a:lnTo>
                <a:lnTo>
                  <a:pt x="431" y="110"/>
                </a:lnTo>
                <a:lnTo>
                  <a:pt x="450" y="111"/>
                </a:lnTo>
                <a:lnTo>
                  <a:pt x="468" y="111"/>
                </a:lnTo>
                <a:lnTo>
                  <a:pt x="487" y="111"/>
                </a:lnTo>
                <a:lnTo>
                  <a:pt x="506" y="111"/>
                </a:lnTo>
                <a:lnTo>
                  <a:pt x="524" y="111"/>
                </a:lnTo>
                <a:lnTo>
                  <a:pt x="543" y="111"/>
                </a:lnTo>
                <a:lnTo>
                  <a:pt x="562" y="111"/>
                </a:lnTo>
                <a:lnTo>
                  <a:pt x="581" y="111"/>
                </a:lnTo>
                <a:lnTo>
                  <a:pt x="599" y="111"/>
                </a:lnTo>
                <a:lnTo>
                  <a:pt x="618" y="110"/>
                </a:ln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90520" y="2736720"/>
            <a:ext cx="7361280" cy="2967120"/>
          </a:xfrm>
          <a:custGeom>
            <a:avLst/>
            <a:gdLst/>
            <a:ahLst/>
            <a:rect l="l" t="t" r="r" b="b"/>
            <a:pathLst>
              <a:path w="618" h="180">
                <a:moveTo>
                  <a:pt x="0" y="180"/>
                </a:moveTo>
                <a:lnTo>
                  <a:pt x="19" y="175"/>
                </a:lnTo>
                <a:lnTo>
                  <a:pt x="38" y="160"/>
                </a:lnTo>
                <a:lnTo>
                  <a:pt x="56" y="137"/>
                </a:lnTo>
                <a:lnTo>
                  <a:pt x="75" y="105"/>
                </a:lnTo>
                <a:lnTo>
                  <a:pt x="94" y="65"/>
                </a:lnTo>
                <a:lnTo>
                  <a:pt x="113" y="23"/>
                </a:lnTo>
                <a:lnTo>
                  <a:pt x="131" y="0"/>
                </a:lnTo>
                <a:lnTo>
                  <a:pt x="150" y="21"/>
                </a:lnTo>
                <a:lnTo>
                  <a:pt x="169" y="77"/>
                </a:lnTo>
                <a:lnTo>
                  <a:pt x="187" y="129"/>
                </a:lnTo>
                <a:lnTo>
                  <a:pt x="206" y="161"/>
                </a:lnTo>
                <a:lnTo>
                  <a:pt x="225" y="176"/>
                </a:lnTo>
                <a:lnTo>
                  <a:pt x="244" y="180"/>
                </a:lnTo>
                <a:lnTo>
                  <a:pt x="262" y="180"/>
                </a:lnTo>
                <a:lnTo>
                  <a:pt x="281" y="180"/>
                </a:lnTo>
                <a:lnTo>
                  <a:pt x="300" y="180"/>
                </a:lnTo>
                <a:lnTo>
                  <a:pt x="318" y="180"/>
                </a:lnTo>
                <a:lnTo>
                  <a:pt x="337" y="180"/>
                </a:lnTo>
                <a:lnTo>
                  <a:pt x="356" y="180"/>
                </a:lnTo>
                <a:lnTo>
                  <a:pt x="375" y="180"/>
                </a:lnTo>
                <a:lnTo>
                  <a:pt x="393" y="180"/>
                </a:lnTo>
                <a:lnTo>
                  <a:pt x="412" y="180"/>
                </a:lnTo>
                <a:lnTo>
                  <a:pt x="431" y="180"/>
                </a:lnTo>
                <a:lnTo>
                  <a:pt x="450" y="180"/>
                </a:lnTo>
                <a:lnTo>
                  <a:pt x="468" y="180"/>
                </a:lnTo>
                <a:lnTo>
                  <a:pt x="487" y="180"/>
                </a:lnTo>
                <a:lnTo>
                  <a:pt x="506" y="180"/>
                </a:lnTo>
                <a:lnTo>
                  <a:pt x="524" y="180"/>
                </a:lnTo>
                <a:lnTo>
                  <a:pt x="543" y="180"/>
                </a:lnTo>
                <a:lnTo>
                  <a:pt x="562" y="180"/>
                </a:lnTo>
                <a:lnTo>
                  <a:pt x="581" y="180"/>
                </a:lnTo>
                <a:lnTo>
                  <a:pt x="599" y="180"/>
                </a:lnTo>
                <a:lnTo>
                  <a:pt x="618" y="180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55600" y="4797360"/>
            <a:ext cx="698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80960" y="38257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8120" y="3594240"/>
            <a:ext cx="7128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2320" y="334656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49480" y="3114720"/>
            <a:ext cx="69840" cy="1000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74840" y="2900520"/>
            <a:ext cx="71640" cy="1015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0200" y="277020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16200" y="2786040"/>
            <a:ext cx="7128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40120" y="2951280"/>
            <a:ext cx="73080" cy="997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66920" y="323208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82920" y="347832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08280" y="369252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33640" y="3840120"/>
            <a:ext cx="71640" cy="1000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0800" y="3940200"/>
            <a:ext cx="71640" cy="1000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75000" y="3940200"/>
            <a:ext cx="71640" cy="1000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2160" y="3989520"/>
            <a:ext cx="71280" cy="997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9320" y="4040280"/>
            <a:ext cx="698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41720" y="407196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68880" y="4089240"/>
            <a:ext cx="712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4240" y="4105440"/>
            <a:ext cx="7308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19600" y="4121280"/>
            <a:ext cx="71640" cy="997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35600" y="413856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60960" y="415440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88120" y="4154400"/>
            <a:ext cx="698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3480" y="415440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27680" y="415440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54840" y="4154400"/>
            <a:ext cx="712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82000" y="4170240"/>
            <a:ext cx="71280" cy="1000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4400" y="415440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560" y="415440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4154400"/>
            <a:ext cx="712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74080" y="4154400"/>
            <a:ext cx="698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8280" y="415440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13640" y="4154400"/>
            <a:ext cx="730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55600" y="4302000"/>
            <a:ext cx="58680" cy="82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80960" y="3776760"/>
            <a:ext cx="604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8120" y="3478320"/>
            <a:ext cx="586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2320" y="3002040"/>
            <a:ext cx="60480" cy="792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9480" y="2457360"/>
            <a:ext cx="58680" cy="81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74840" y="1928880"/>
            <a:ext cx="586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0200" y="1549440"/>
            <a:ext cx="60480" cy="81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16200" y="1449360"/>
            <a:ext cx="5724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40120" y="1682640"/>
            <a:ext cx="60120" cy="795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66920" y="2125800"/>
            <a:ext cx="604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82920" y="2604960"/>
            <a:ext cx="58680" cy="82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08280" y="3002040"/>
            <a:ext cx="58680" cy="792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33640" y="3314880"/>
            <a:ext cx="60480" cy="806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0800" y="3594240"/>
            <a:ext cx="60480" cy="83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75000" y="2951280"/>
            <a:ext cx="60480" cy="81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2160" y="3016080"/>
            <a:ext cx="58680" cy="84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9320" y="3081240"/>
            <a:ext cx="56880" cy="82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41720" y="3133800"/>
            <a:ext cx="60480" cy="81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8880" y="3164040"/>
            <a:ext cx="60480" cy="83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4240" y="3198960"/>
            <a:ext cx="586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19600" y="3232080"/>
            <a:ext cx="60480" cy="82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35600" y="3247920"/>
            <a:ext cx="58680" cy="82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0960" y="3263760"/>
            <a:ext cx="60480" cy="82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88120" y="3263760"/>
            <a:ext cx="58680" cy="82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3480" y="3281400"/>
            <a:ext cx="604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27680" y="3281400"/>
            <a:ext cx="604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54840" y="3281400"/>
            <a:ext cx="604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82000" y="3281400"/>
            <a:ext cx="568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4400" y="3281400"/>
            <a:ext cx="604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560" y="3281400"/>
            <a:ext cx="604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3281400"/>
            <a:ext cx="586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4080" y="3281400"/>
            <a:ext cx="586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8280" y="3281400"/>
            <a:ext cx="58680" cy="82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13640" y="3263760"/>
            <a:ext cx="60480" cy="82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5600" y="5654520"/>
            <a:ext cx="698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80960" y="5572080"/>
            <a:ext cx="71640" cy="1000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8120" y="5326200"/>
            <a:ext cx="7128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2320" y="494676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49480" y="4417920"/>
            <a:ext cx="698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4840" y="3757680"/>
            <a:ext cx="71640" cy="1015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0200" y="306540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6200" y="2687760"/>
            <a:ext cx="7128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40120" y="3032280"/>
            <a:ext cx="73080" cy="1015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66920" y="395748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82920" y="481500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08280" y="534204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33640" y="5589720"/>
            <a:ext cx="71640" cy="982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080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7500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2160" y="5654520"/>
            <a:ext cx="712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9320" y="5654520"/>
            <a:ext cx="698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4172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68880" y="5654520"/>
            <a:ext cx="712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4240" y="5654520"/>
            <a:ext cx="730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960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3560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6096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88120" y="5654520"/>
            <a:ext cx="698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348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2768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54840" y="5654520"/>
            <a:ext cx="712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82000" y="5654520"/>
            <a:ext cx="712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9440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56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654520"/>
            <a:ext cx="712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74080" y="5654520"/>
            <a:ext cx="698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88280" y="5654520"/>
            <a:ext cx="7164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513640" y="5654520"/>
            <a:ext cx="73080" cy="986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28600"/>
            <a:ext cx="51055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run at 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.004 (baseline 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enitrification requires root mass &gt; 2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0560" y="5572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0120" y="47480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0120" y="39243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0120" y="3081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0120" y="2257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0120" y="14335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5256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3988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904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2740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7656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492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5292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0568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4368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9320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1880" y="5934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6560" y="6364440"/>
            <a:ext cx="221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concentration (mg/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897120" y="3346560"/>
            <a:ext cx="280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s (g) at end of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183360" y="1371600"/>
            <a:ext cx="1969920" cy="988920"/>
            <a:chOff x="6183360" y="1371600"/>
            <a:chExt cx="1969920" cy="988920"/>
          </a:xfrm>
        </p:grpSpPr>
        <p:sp>
          <p:nvSpPr>
            <p:cNvPr id="191" name=""/>
            <p:cNvSpPr/>
            <p:nvPr/>
          </p:nvSpPr>
          <p:spPr>
            <a:xfrm>
              <a:off x="6183360" y="1371600"/>
              <a:ext cx="1969920" cy="98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43480" y="1552320"/>
              <a:ext cx="320760" cy="1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60840" y="1503360"/>
              <a:ext cx="71640" cy="982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99880" y="142056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ot m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3480" y="1881000"/>
              <a:ext cx="320760" cy="4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60840" y="1831680"/>
              <a:ext cx="60480" cy="82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00240" y="1750680"/>
              <a:ext cx="129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c ma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43480" y="2212920"/>
              <a:ext cx="32076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60840" y="2163600"/>
              <a:ext cx="71640" cy="982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97720" y="2081160"/>
              <a:ext cx="1198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nitr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77920" y="2806560"/>
            <a:ext cx="7375680" cy="2033640"/>
          </a:xfrm>
          <a:custGeom>
            <a:avLst/>
            <a:gdLst/>
            <a:ahLst/>
            <a:rect l="l" t="t" r="r" b="b"/>
            <a:pathLst>
              <a:path w="3936" h="908">
                <a:moveTo>
                  <a:pt x="0" y="908"/>
                </a:moveTo>
                <a:cubicBezTo>
                  <a:pt x="21" y="837"/>
                  <a:pt x="87" y="569"/>
                  <a:pt x="128" y="480"/>
                </a:cubicBezTo>
                <a:cubicBezTo>
                  <a:pt x="169" y="391"/>
                  <a:pt x="209" y="408"/>
                  <a:pt x="248" y="372"/>
                </a:cubicBezTo>
                <a:cubicBezTo>
                  <a:pt x="287" y="336"/>
                  <a:pt x="324" y="300"/>
                  <a:pt x="364" y="264"/>
                </a:cubicBezTo>
                <a:cubicBezTo>
                  <a:pt x="404" y="228"/>
                  <a:pt x="448" y="189"/>
                  <a:pt x="488" y="156"/>
                </a:cubicBezTo>
                <a:cubicBezTo>
                  <a:pt x="528" y="123"/>
                  <a:pt x="564" y="89"/>
                  <a:pt x="604" y="64"/>
                </a:cubicBezTo>
                <a:cubicBezTo>
                  <a:pt x="644" y="39"/>
                  <a:pt x="688" y="16"/>
                  <a:pt x="728" y="8"/>
                </a:cubicBezTo>
                <a:cubicBezTo>
                  <a:pt x="768" y="0"/>
                  <a:pt x="806" y="4"/>
                  <a:pt x="844" y="16"/>
                </a:cubicBezTo>
                <a:cubicBezTo>
                  <a:pt x="882" y="28"/>
                  <a:pt x="920" y="47"/>
                  <a:pt x="960" y="80"/>
                </a:cubicBezTo>
                <a:cubicBezTo>
                  <a:pt x="1000" y="113"/>
                  <a:pt x="1045" y="176"/>
                  <a:pt x="1084" y="216"/>
                </a:cubicBezTo>
                <a:cubicBezTo>
                  <a:pt x="1123" y="256"/>
                  <a:pt x="1158" y="287"/>
                  <a:pt x="1196" y="320"/>
                </a:cubicBezTo>
                <a:cubicBezTo>
                  <a:pt x="1234" y="353"/>
                  <a:pt x="1272" y="389"/>
                  <a:pt x="1312" y="416"/>
                </a:cubicBezTo>
                <a:cubicBezTo>
                  <a:pt x="1352" y="443"/>
                  <a:pt x="1395" y="461"/>
                  <a:pt x="1436" y="480"/>
                </a:cubicBezTo>
                <a:cubicBezTo>
                  <a:pt x="1477" y="499"/>
                  <a:pt x="1521" y="521"/>
                  <a:pt x="1560" y="528"/>
                </a:cubicBezTo>
                <a:cubicBezTo>
                  <a:pt x="1599" y="535"/>
                  <a:pt x="1629" y="521"/>
                  <a:pt x="1668" y="524"/>
                </a:cubicBezTo>
                <a:cubicBezTo>
                  <a:pt x="1707" y="527"/>
                  <a:pt x="1755" y="540"/>
                  <a:pt x="1796" y="548"/>
                </a:cubicBezTo>
                <a:cubicBezTo>
                  <a:pt x="1837" y="556"/>
                  <a:pt x="1877" y="566"/>
                  <a:pt x="1916" y="572"/>
                </a:cubicBezTo>
                <a:cubicBezTo>
                  <a:pt x="1955" y="578"/>
                  <a:pt x="1993" y="580"/>
                  <a:pt x="2032" y="584"/>
                </a:cubicBezTo>
                <a:cubicBezTo>
                  <a:pt x="2071" y="588"/>
                  <a:pt x="2113" y="593"/>
                  <a:pt x="2152" y="596"/>
                </a:cubicBezTo>
                <a:cubicBezTo>
                  <a:pt x="2191" y="599"/>
                  <a:pt x="2223" y="603"/>
                  <a:pt x="2264" y="604"/>
                </a:cubicBezTo>
                <a:cubicBezTo>
                  <a:pt x="2305" y="605"/>
                  <a:pt x="2355" y="602"/>
                  <a:pt x="2396" y="604"/>
                </a:cubicBezTo>
                <a:cubicBezTo>
                  <a:pt x="2437" y="606"/>
                  <a:pt x="2473" y="614"/>
                  <a:pt x="2512" y="616"/>
                </a:cubicBezTo>
                <a:cubicBezTo>
                  <a:pt x="2551" y="618"/>
                  <a:pt x="2588" y="615"/>
                  <a:pt x="2628" y="616"/>
                </a:cubicBezTo>
                <a:cubicBezTo>
                  <a:pt x="2668" y="617"/>
                  <a:pt x="2711" y="619"/>
                  <a:pt x="2752" y="620"/>
                </a:cubicBezTo>
                <a:cubicBezTo>
                  <a:pt x="2793" y="621"/>
                  <a:pt x="2836" y="623"/>
                  <a:pt x="2876" y="624"/>
                </a:cubicBezTo>
                <a:cubicBezTo>
                  <a:pt x="2916" y="625"/>
                  <a:pt x="2954" y="623"/>
                  <a:pt x="2992" y="624"/>
                </a:cubicBezTo>
                <a:cubicBezTo>
                  <a:pt x="3030" y="625"/>
                  <a:pt x="2947" y="628"/>
                  <a:pt x="3104" y="628"/>
                </a:cubicBezTo>
                <a:cubicBezTo>
                  <a:pt x="3261" y="628"/>
                  <a:pt x="3763" y="625"/>
                  <a:pt x="3936" y="6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21:00:02Z</dcterms:created>
  <dc:creator>dlewis1</dc:creator>
  <dc:description/>
  <dc:language>en-US</dc:language>
  <cp:lastModifiedBy>John Schade</cp:lastModifiedBy>
  <dcterms:modified xsi:type="dcterms:W3CDTF">2004-01-26T18:21:47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8444876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Odd things about our model</vt:lpwstr>
  </property>
</Properties>
</file>