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4111560" y="4253040"/>
            <a:ext cx="1828800" cy="1247760"/>
          </a:xfrm>
          <a:prstGeom prst="roundRect">
            <a:avLst>
              <a:gd name="adj" fmla="val 1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2390760" y="4927680"/>
            <a:ext cx="1724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954760" y="4927680"/>
            <a:ext cx="1724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 flipV="1">
            <a:off x="4619520" y="2876400"/>
            <a:ext cx="1800" cy="13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375160" y="2878200"/>
            <a:ext cx="1800" cy="13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731320" y="4687920"/>
            <a:ext cx="108612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uvial Input (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53840" y="4687920"/>
            <a:ext cx="123228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uvial Output (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79720" y="3429000"/>
            <a:ext cx="68796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take (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02520" y="3429000"/>
            <a:ext cx="105228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generation (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1560" y="1589040"/>
            <a:ext cx="1828800" cy="1247760"/>
          </a:xfrm>
          <a:prstGeom prst="roundRect">
            <a:avLst>
              <a:gd name="adj" fmla="val 1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99320" y="1981080"/>
            <a:ext cx="18644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) Food cha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) Interaction str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Life history traits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) Stoichiometric im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15760" y="4832280"/>
            <a:ext cx="119700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vailable Nutr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82000" y="1665360"/>
            <a:ext cx="117576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od web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79520" y="5948280"/>
            <a:ext cx="561528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od web structure will potentially have a large effect when U: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or R: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s relatively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724800" y="4916520"/>
            <a:ext cx="1239840" cy="98280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59480" y="5446800"/>
            <a:ext cx="1168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74000" y="5446800"/>
            <a:ext cx="116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848640" y="4319640"/>
            <a:ext cx="468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77240" y="4311720"/>
            <a:ext cx="144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72480" y="5186520"/>
            <a:ext cx="1548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26160" y="5186520"/>
            <a:ext cx="19872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39160" y="4549680"/>
            <a:ext cx="19152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21520" y="3692520"/>
            <a:ext cx="1239840" cy="590400"/>
          </a:xfrm>
          <a:prstGeom prst="roundRect">
            <a:avLst>
              <a:gd name="adj" fmla="val 2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34880" y="5335560"/>
            <a:ext cx="119700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vailable Nutr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88120" y="3898800"/>
            <a:ext cx="107820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mary Produ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068960" y="3094200"/>
            <a:ext cx="180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540560" y="3087720"/>
            <a:ext cx="6480" cy="17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55160" y="3289320"/>
            <a:ext cx="19152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37160" y="2468520"/>
            <a:ext cx="1239840" cy="590760"/>
          </a:xfrm>
          <a:prstGeom prst="roundRect">
            <a:avLst>
              <a:gd name="adj" fmla="val 2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50000" y="2674800"/>
            <a:ext cx="61632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iv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429680" y="1835280"/>
            <a:ext cx="14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904160" y="1828800"/>
            <a:ext cx="1440" cy="30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76360" y="2030400"/>
            <a:ext cx="14256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97520" y="1208160"/>
            <a:ext cx="1239840" cy="590400"/>
          </a:xfrm>
          <a:prstGeom prst="roundRect">
            <a:avLst>
              <a:gd name="adj" fmla="val 2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06480" y="1414440"/>
            <a:ext cx="51588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916520"/>
            <a:ext cx="1239840" cy="98280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47840" y="5446800"/>
            <a:ext cx="1168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62360" y="5446800"/>
            <a:ext cx="116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637000" y="4319640"/>
            <a:ext cx="468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63800" y="4311720"/>
            <a:ext cx="180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60840" y="5186520"/>
            <a:ext cx="1548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14520" y="5186520"/>
            <a:ext cx="19872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27520" y="4549680"/>
            <a:ext cx="19152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09880" y="3692520"/>
            <a:ext cx="1239840" cy="590400"/>
          </a:xfrm>
          <a:prstGeom prst="roundRect">
            <a:avLst>
              <a:gd name="adj" fmla="val 2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23240" y="5335560"/>
            <a:ext cx="119700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vailable Nutr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76480" y="3898800"/>
            <a:ext cx="107820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mary Produ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857680" y="3094200"/>
            <a:ext cx="14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327120" y="3087720"/>
            <a:ext cx="6120" cy="17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43520" y="3289320"/>
            <a:ext cx="19152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25520" y="2468520"/>
            <a:ext cx="1239840" cy="590760"/>
          </a:xfrm>
          <a:prstGeom prst="roundRect">
            <a:avLst>
              <a:gd name="adj" fmla="val 2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36920" y="2674800"/>
            <a:ext cx="61632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iv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72960" y="6307200"/>
            <a:ext cx="452052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modynamic constraints suggest that (R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h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)/U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 (R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+R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)/U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72840" y="4560840"/>
            <a:ext cx="1548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84480" y="4560840"/>
            <a:ext cx="1548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