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136-F181-46A2-B587-32E0AFCA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C578-C228-4AE4-AEC7-05CA430B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3A9-292F-4767-B6B7-C38E1AB2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CAB-845F-431E-9F6C-7E2F287C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6B8-48B9-47AD-BB22-04FF8175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A2F-6D0B-4EB8-A9EF-42431019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E0D-B847-4E01-A78A-C8D2A50A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134-B787-470A-8F44-C67B38A7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B33B-7C30-4634-9807-0EE78B5F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F94-A8A4-4AEF-B7F5-A20B6243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60A-6261-4D59-9FA1-43136C26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2B7-34B6-41D4-B2C3-664C70C7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74BC-1AD4-409B-8E71-54E3060A6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9000" y="41760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ant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8640" y="462924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spons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1295280"/>
            <a:ext cx="803520" cy="40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4479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3960" y="1355760"/>
            <a:ext cx="169920" cy="183960"/>
          </a:xfrm>
          <a:prstGeom prst="flowChartCollat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16480" y="1355760"/>
            <a:ext cx="169920" cy="183960"/>
          </a:xfrm>
          <a:prstGeom prst="flowChartCollat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944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50120" y="914400"/>
            <a:ext cx="1092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Mort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2971800"/>
            <a:ext cx="1039680" cy="403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1813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22480" y="3094200"/>
            <a:ext cx="168120" cy="183960"/>
          </a:xfrm>
          <a:prstGeom prst="flowChartCollat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3181320"/>
            <a:ext cx="1379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35560" y="3094200"/>
            <a:ext cx="168120" cy="183960"/>
          </a:xfrm>
          <a:prstGeom prst="flowChartCollat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4800" y="3035160"/>
            <a:ext cx="1154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input (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Q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21680" y="3916440"/>
            <a:ext cx="104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export (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3683160"/>
            <a:ext cx="358560" cy="31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16320" y="338616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3279600" y="3519360"/>
            <a:ext cx="88920" cy="212400"/>
          </a:xfrm>
          <a:prstGeom prst="flowChartCollat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07040" y="3044880"/>
            <a:ext cx="1060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Uptake (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518000" y="3277800"/>
            <a:ext cx="0" cy="40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120" y="1295280"/>
            <a:ext cx="955800" cy="40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Detri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74880" y="14670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59080" y="1384200"/>
            <a:ext cx="169920" cy="184320"/>
          </a:xfrm>
          <a:prstGeom prst="flowChartCollat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14479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15336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93960" y="15397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83960" y="914400"/>
            <a:ext cx="1447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De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86520" y="1905120"/>
            <a:ext cx="598320" cy="533160"/>
            <a:chOff x="686520" y="1905120"/>
            <a:chExt cx="598320" cy="533160"/>
          </a:xfrm>
        </p:grpSpPr>
        <p:sp>
          <p:nvSpPr>
            <p:cNvPr id="69" name=""/>
            <p:cNvSpPr/>
            <p:nvPr/>
          </p:nvSpPr>
          <p:spPr>
            <a:xfrm>
              <a:off x="686520" y="2033280"/>
              <a:ext cx="5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/R+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7760" y="190512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343400" y="2362320"/>
            <a:ext cx="338040" cy="295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492200" y="1600200"/>
            <a:ext cx="281952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11520" y="268272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143000" y="159984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 rot="16200000">
            <a:off x="3265200" y="2618640"/>
            <a:ext cx="88920" cy="212760"/>
          </a:xfrm>
          <a:prstGeom prst="flowChartCollat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306600" y="242244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5240" y="216216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trif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5562720"/>
            <a:ext cx="803520" cy="40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57150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53960" y="5622840"/>
            <a:ext cx="169920" cy="184320"/>
          </a:xfrm>
          <a:prstGeom prst="flowChartCollat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16480" y="5622840"/>
            <a:ext cx="169920" cy="184320"/>
          </a:xfrm>
          <a:prstGeom prst="flowChartCollat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52117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50120" y="5181480"/>
            <a:ext cx="1092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Mort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7238880"/>
            <a:ext cx="1039680" cy="403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74484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22480" y="7361280"/>
            <a:ext cx="168120" cy="183960"/>
          </a:xfrm>
          <a:prstGeom prst="flowChartCollat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7448400"/>
            <a:ext cx="1379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35560" y="7361280"/>
            <a:ext cx="168120" cy="183960"/>
          </a:xfrm>
          <a:prstGeom prst="flowChartCollat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4800" y="7302600"/>
            <a:ext cx="1154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input (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Q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21680" y="8183520"/>
            <a:ext cx="104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export (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1960" y="7950240"/>
            <a:ext cx="358560" cy="31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6320" y="765324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279600" y="7786800"/>
            <a:ext cx="88920" cy="212400"/>
          </a:xfrm>
          <a:prstGeom prst="flowChartCollat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07040" y="7311960"/>
            <a:ext cx="1060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Uptake (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518000" y="7544880"/>
            <a:ext cx="0" cy="40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21120" y="5562720"/>
            <a:ext cx="955800" cy="40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Detri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74880" y="57340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59080" y="5651640"/>
            <a:ext cx="169920" cy="183960"/>
          </a:xfrm>
          <a:prstGeom prst="flowChartCollat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57150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8006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93960" y="58071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83960" y="5181480"/>
            <a:ext cx="1447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De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86520" y="6172200"/>
            <a:ext cx="598320" cy="533520"/>
            <a:chOff x="686520" y="6172200"/>
            <a:chExt cx="598320" cy="533520"/>
          </a:xfrm>
        </p:grpSpPr>
        <p:sp>
          <p:nvSpPr>
            <p:cNvPr id="104" name=""/>
            <p:cNvSpPr/>
            <p:nvPr/>
          </p:nvSpPr>
          <p:spPr>
            <a:xfrm>
              <a:off x="686520" y="6300720"/>
              <a:ext cx="5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/R+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7760" y="617220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343400" y="6629400"/>
            <a:ext cx="338040" cy="295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492200" y="5866920"/>
            <a:ext cx="281952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11520" y="695016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04920" y="6886080"/>
            <a:ext cx="489600" cy="31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143000" y="586692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 rot="16200000">
            <a:off x="3265200" y="6885720"/>
            <a:ext cx="88920" cy="212760"/>
          </a:xfrm>
          <a:prstGeom prst="flowChartCollat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306600" y="66895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5240" y="642924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trif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1234800" y="660060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7696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892320" y="2625120"/>
            <a:ext cx="489600" cy="31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09680" y="1193040"/>
            <a:ext cx="1828080" cy="1521360"/>
            <a:chOff x="2209680" y="1193040"/>
            <a:chExt cx="1828080" cy="1521360"/>
          </a:xfrm>
        </p:grpSpPr>
        <p:sp>
          <p:nvSpPr>
            <p:cNvPr id="118" name=""/>
            <p:cNvSpPr/>
            <p:nvPr/>
          </p:nvSpPr>
          <p:spPr>
            <a:xfrm flipH="1" flipV="1">
              <a:off x="2209680" y="1193040"/>
              <a:ext cx="1828080" cy="152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1060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10609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489120" y="1768320"/>
              <a:ext cx="5331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25520" y="5440680"/>
            <a:ext cx="1828080" cy="1521000"/>
            <a:chOff x="2225520" y="5440680"/>
            <a:chExt cx="1828080" cy="1521000"/>
          </a:xfrm>
        </p:grpSpPr>
        <p:sp>
          <p:nvSpPr>
            <p:cNvPr id="121" name=""/>
            <p:cNvSpPr/>
            <p:nvPr/>
          </p:nvSpPr>
          <p:spPr>
            <a:xfrm flipH="1" flipV="1">
              <a:off x="2225520" y="5440320"/>
              <a:ext cx="1828080" cy="15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1060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10609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504960" y="6016680"/>
              <a:ext cx="53316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7042200">
            <a:off x="4024440" y="1991160"/>
            <a:ext cx="204840" cy="183960"/>
          </a:xfrm>
          <a:prstGeom prst="flowChartCollat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663000" y="1724400"/>
            <a:ext cx="630720" cy="1218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7042200">
            <a:off x="3996360" y="6258240"/>
            <a:ext cx="204840" cy="184320"/>
          </a:xfrm>
          <a:prstGeom prst="flowChartCollat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647160" y="6020280"/>
            <a:ext cx="630720" cy="1218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4720" y="1981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840" y="624852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21:53:16Z</dcterms:created>
  <dc:creator>John Schade</dc:creator>
  <dc:description/>
  <dc:language>en-US</dc:language>
  <cp:lastModifiedBy>jwelter</cp:lastModifiedBy>
  <dcterms:modified xsi:type="dcterms:W3CDTF">2004-03-05T04:09:42Z</dcterms:modified>
  <cp:revision>22</cp:revision>
  <dc:subject/>
  <dc:title>PowerPoint Presentation</dc:title>
</cp:coreProperties>
</file>