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83D-8B68-4253-91BE-FCDD3D4A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43B-8D03-42EF-A507-0230BA7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BDA-62DC-4B57-B105-54ACA32F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A49-5444-4FD6-9E14-06ADE74A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8B5-8054-4F01-9419-CC76553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ADC-4C0C-473A-8355-878444E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991-15AE-4860-ABBB-00D9A588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DB6-D357-4D5E-A03F-67583E9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B18-CBAF-4062-A18B-36A9F05E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77D-C44C-41C3-A0C2-DCC4583E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A2E-1B51-44E3-9FA3-0697D2C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37F-7F66-4629-AA12-24CC0EE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D32-2666-436A-B74E-4174E8DB9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0"/>
          <a:ext cx="4074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4074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6576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N max = .06, k = 0.25; these are based on this relationship; I would use max of 0.04 for %N, that would be more reas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31240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 max = 10, k = 0.42; these are based on this relationship and are probably 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181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 = a*exp(-b*x); a = 0.69, b = 2.74 from the grap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8:29:00Z</dcterms:created>
  <dc:creator>John Schade</dc:creator>
  <dc:description/>
  <dc:language>en-US</dc:language>
  <cp:lastModifiedBy>John Schade</cp:lastModifiedBy>
  <dcterms:modified xsi:type="dcterms:W3CDTF">2003-02-03T18:39:02Z</dcterms:modified>
  <cp:revision>3</cp:revision>
  <dc:subject/>
  <dc:title>PowerPoint Presentation</dc:title>
</cp:coreProperties>
</file>